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73152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95AD33E-56DD-40B5-AC02-B4A55CF1B317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AAD613B-1616-41B1-94B9-5DF1700B4830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D2ACD3B-87E2-465A-9FB7-F3294BDCCEFF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2168D6E-4EA7-4688-A108-0FDEB8EA8C03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C43AEF3-8874-43B4-9124-B84DBB70EA27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EC34B26-370D-459E-85CC-178DAD8705C2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CC20ED9-40CA-4464-955C-5647865B2C53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B6F-08DC-4CF8-8320-D3A1A397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658-3C3C-4B76-AAB5-EFFE8F0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D2C-7324-40DA-B5B7-FA6C818B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CD4-8C61-4061-A0D9-38846660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092-4ACC-425C-A501-BD56B8D3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C23-7DAD-4F28-BF95-E4E9546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C88-996F-4357-921E-3CA4659F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B4F7-9D89-4931-A4BF-9858305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867E-448C-40EB-AA16-E520C6DD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00C1-22E4-422B-BC1D-2B7D7DD6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D54-A852-4F20-838B-B54B513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A41-E3EC-4428-8F83-C25A9D0F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86F-3FA4-43D9-81E8-6D49005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2A2-51C7-42B5-95C2-4F6E9AF4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76BB-6F42-4396-BA13-CEA3E81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DF9-FE38-4BC9-A667-03176F3F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9D69-BFAF-499D-97D7-51D03A63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FDB4-FEEE-4A96-9C8C-EBD44D48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D0A4-7983-4AA9-AFDD-1C73D47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060E-6237-4307-A9AD-4A5B3AE4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25CA-5DF6-4625-A190-62EB4AE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4C6D-3386-475A-848A-2220499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E90-5B60-47AF-8D69-C50A088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C277-0988-4923-811F-28005CB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BDC9-9223-43D6-9D8E-E6AC94C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899D-0D96-45AB-8E52-FBBABA0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F15B-8727-48A5-8B8F-01CB58D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2693-F04D-4941-ADF7-7BF350AE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0A78-9F26-4D60-B114-B8FCE81B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6059-6C72-4E89-9441-85E3B903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8EC-441C-4319-BA89-5450CED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068-247C-4A8B-AD00-60115053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969-BF45-425A-A060-4139F3D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009-4575-4D0A-A580-C1461C0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512-B1E2-4003-9AF7-210E002F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80A-65C1-4C54-9110-077652F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080"/>
              <a:ext cx="1295280" cy="6729840"/>
              <a:chOff x="7848720" y="1080"/>
              <a:chExt cx="1295280" cy="672984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080"/>
                <a:ext cx="762120" cy="2421360"/>
                <a:chOff x="8381880" y="1080"/>
                <a:chExt cx="762120" cy="24213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080"/>
                  <a:ext cx="279360" cy="294840"/>
                  <a:chOff x="8704440" y="1080"/>
                  <a:chExt cx="279360" cy="29484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080"/>
                    <a:ext cx="279360" cy="294840"/>
                    <a:chOff x="8704440" y="1080"/>
                    <a:chExt cx="279360" cy="29484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36840" y="-31320"/>
                      <a:ext cx="214200" cy="27936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48000" y="108000"/>
                      <a:ext cx="150480" cy="225360"/>
                    </a:xfrm>
                    <a:custGeom>
                      <a:avLst/>
                      <a:gdLst>
                        <a:gd name="textAreaLeft" fmla="*/ 0 w 150480"/>
                        <a:gd name="textAreaRight" fmla="*/ 150840 w 150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386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280" y="71640"/>
                    <a:ext cx="45720" cy="572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6840" y="55800"/>
                    <a:ext cx="68400" cy="37800"/>
                  </a:xfrm>
                  <a:custGeom>
                    <a:avLst/>
                    <a:gdLst>
                      <a:gd name="textAreaLeft" fmla="*/ 0 w 68400"/>
                      <a:gd name="textAreaRight" fmla="*/ 68760 w 684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6320" y="110520"/>
                    <a:ext cx="27000" cy="619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0720" y="205560"/>
                    <a:ext cx="69840" cy="2664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1040" y="179280"/>
                    <a:ext cx="41040" cy="410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5236200"/>
              <a:ext cx="1190520" cy="20696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69640"/>
                <a:gd name="textAreaBottom" fmla="*/ 2070000 h 20696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5182200"/>
              <a:ext cx="1219320" cy="2133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3005640"/>
              <a:ext cx="1231920" cy="4298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298040"/>
                <a:gd name="textAreaBottom" fmla="*/ 4298400 h 4298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774600"/>
              <a:ext cx="979560" cy="23302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330280"/>
                <a:gd name="textAreaBottom" fmla="*/ 2330280 h 23302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55400"/>
              <a:ext cx="914400" cy="5385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385240"/>
                <a:gd name="textAreaBottom" fmla="*/ 5385600 h 53852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79360"/>
              <a:ext cx="909720" cy="3276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276360"/>
                <a:gd name="textAreaBottom" fmla="*/ 3276720 h 3276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5766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576600"/>
                <a:gd name="textAreaBottom" fmla="*/ 3576960 h 35766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5769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576960"/>
                <a:gd name="textAreaBottom" fmla="*/ 3577320 h 3576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645240"/>
              <a:ext cx="1165320" cy="6602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095000" y="3545280"/>
              <a:ext cx="7315920" cy="225360"/>
            </a:xfrm>
            <a:custGeom>
              <a:avLst/>
              <a:gdLst>
                <a:gd name="textAreaLeft" fmla="*/ 712800 w 7315920"/>
                <a:gd name="textAreaRight" fmla="*/ 6603120 w 73159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33CE-2F4B-4FAF-B23A-CF0DC4CBEA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6625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7696-C2C9-415B-ACF8-18EFC204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38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2880"/>
              <a:ext cx="1295280" cy="6728040"/>
              <a:chOff x="7848720" y="2880"/>
              <a:chExt cx="1295280" cy="672804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2880"/>
                <a:ext cx="762120" cy="2419560"/>
                <a:chOff x="8381880" y="2880"/>
                <a:chExt cx="762120" cy="24195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18480" y="2880"/>
                  <a:ext cx="279360" cy="296280"/>
                  <a:chOff x="8718480" y="2880"/>
                  <a:chExt cx="279360" cy="2962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18480" y="2880"/>
                    <a:ext cx="279360" cy="296280"/>
                    <a:chOff x="8718480" y="2880"/>
                    <a:chExt cx="279360" cy="2962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50160" y="-28800"/>
                      <a:ext cx="215640" cy="279360"/>
                    </a:xfrm>
                    <a:custGeom>
                      <a:avLst/>
                      <a:gdLst>
                        <a:gd name="textAreaLeft" fmla="*/ 0 w 215640"/>
                        <a:gd name="textAreaRight" fmla="*/ 216000 w 2156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61320" y="110520"/>
                      <a:ext cx="151920" cy="225360"/>
                    </a:xfrm>
                    <a:custGeom>
                      <a:avLst/>
                      <a:gdLst>
                        <a:gd name="textAreaLeft" fmla="*/ 0 w 151920"/>
                        <a:gd name="textAreaRight" fmla="*/ 152280 w 1519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37280" y="137520"/>
                    <a:ext cx="2988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9960" y="76320"/>
                    <a:ext cx="45720" cy="5688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41600" y="60840"/>
                    <a:ext cx="68040" cy="37800"/>
                  </a:xfrm>
                  <a:custGeom>
                    <a:avLst/>
                    <a:gdLst>
                      <a:gd name="textAreaLeft" fmla="*/ 0 w 68040"/>
                      <a:gd name="textAreaRight" fmla="*/ 68400 w 680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10360" y="116640"/>
                    <a:ext cx="27000" cy="619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35120" y="211320"/>
                    <a:ext cx="69840" cy="2664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85080" y="185400"/>
                    <a:ext cx="41040" cy="410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3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3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5236200"/>
              <a:ext cx="1190520" cy="20696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69640"/>
                <a:gd name="textAreaBottom" fmla="*/ 2070000 h 20696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5182200"/>
              <a:ext cx="1219320" cy="2133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3005640"/>
              <a:ext cx="1231920" cy="4298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298040"/>
                <a:gd name="textAreaBottom" fmla="*/ 4298400 h 4298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774600"/>
              <a:ext cx="979560" cy="23302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330280"/>
                <a:gd name="textAreaBottom" fmla="*/ 2330280 h 23302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55400"/>
              <a:ext cx="914400" cy="5385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385240"/>
                <a:gd name="textAreaBottom" fmla="*/ 5385600 h 53852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79360"/>
              <a:ext cx="909720" cy="3276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276360"/>
                <a:gd name="textAreaBottom" fmla="*/ 3276720 h 3276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5766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576600"/>
                <a:gd name="textAreaBottom" fmla="*/ 3576960 h 35766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5769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576960"/>
                <a:gd name="textAreaBottom" fmla="*/ 3577320 h 3576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645240"/>
              <a:ext cx="1165320" cy="6602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095000" y="3545280"/>
              <a:ext cx="7315920" cy="225360"/>
            </a:xfrm>
            <a:custGeom>
              <a:avLst/>
              <a:gdLst>
                <a:gd name="textAreaLeft" fmla="*/ 712800 w 7315920"/>
                <a:gd name="textAreaRight" fmla="*/ 6603120 w 73159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D30-574D-4BA1-B369-2798E9EFB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61600"/>
            <a:ext cx="696600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Enacted Budge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37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5-16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In Summary – FY 2010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63520" y="17046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bud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24M /~9.5% over FY 2009 en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8.7M increase over FY 09 – 13%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o all our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1981080" y="2371680"/>
            <a:ext cx="472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0605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0605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520" y="1371600"/>
            <a:ext cx="7386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d Appropriation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aw 111-88,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l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which “$25,000,000 shall be for public safety and justice programs as authorized by the Emergency Fund for Indian Safety and Health established by section 601 of Public Law 110-293 (25 U.S.C. 443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cross the Board Redu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Earmarks in Sen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TC/NTC – Not recognized in database now; i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UT resource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yenne River Sioux – prairie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09480" y="228600"/>
            <a:ext cx="8077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Y 2010 Congressional Action</a:t>
            </a:r>
            <a:endParaRPr b="0" lang="en-US" sz="4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038480" y="990720"/>
            <a:ext cx="485640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from President’s Budget: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bal Government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13.2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ural Resources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14.9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ublic Safety &amp; Justice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25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onomic Development:    +$16.4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munity &amp; Econ Dev:    +$  1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du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  3.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&amp;J Construc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25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TAL:       +82.2M</a:t>
            </a:r>
            <a:endParaRPr b="0" lang="en-US" sz="24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 change to Human Resources, Real Estate, Executive Direction/Admin, Education Construction, Resource Management Construction, Other Program Construction, Settlements and Loans.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graphicFrame>
        <p:nvGraphicFramePr>
          <p:cNvPr id="252" name="Object 8"/>
          <p:cNvGraphicFramePr/>
          <p:nvPr/>
        </p:nvGraphicFramePr>
        <p:xfrm>
          <a:off x="0" y="2057400"/>
          <a:ext cx="3886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3886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04920" y="228600"/>
            <a:ext cx="779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457200" y="1371600"/>
            <a:ext cx="723888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6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Law Enforcement: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Operation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20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Tribal Court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  5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Detention Center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20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Employee Housing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  5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Educ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Student Transportation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2.0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Haskell &amp; SIPI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0.5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UTTC/NTC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0.6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228600"/>
            <a:ext cx="779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80880" y="1295280"/>
            <a:ext cx="72392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 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Natural Resources: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Rights Protection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12.0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Fish Hatchery Op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 2.0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TMDP Earmark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 0.8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Economic Development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Training Opportunitie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1.5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(&amp; Apprentice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 Overarch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Contract Support: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+$13.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Reflects approx. 84% of total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(using current calcul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3:42:40Z</dcterms:created>
  <dc:creator>MMiller</dc:creator>
  <dc:description/>
  <dc:language>en-US</dc:language>
  <cp:lastModifiedBy>maryjane.miller</cp:lastModifiedBy>
  <dcterms:modified xsi:type="dcterms:W3CDTF">2009-12-14T16:05:45Z</dcterms:modified>
  <cp:revision>189</cp:revision>
  <dc:subject/>
  <dc:title>Slide 1</dc:title>
</cp:coreProperties>
</file>