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73152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2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8EF0D6D-13FF-43BD-8DEF-64C084F82208}" type="slidenum"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95F4C3E-BD66-4E98-A92F-C41FFF25B36D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BC01432-EEBE-4C86-B5F2-613B1A528497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1DDD3D6-F940-48F3-9703-9C07C466F9AA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7DAF362-8F2F-400D-9930-B73C351A690B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A50BED0-CA02-4174-A47C-565008AAE21A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12920" y="692280"/>
            <a:ext cx="4322880" cy="3457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8AC766D-E360-4364-A7EF-34DB22639B0F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3A8-10BE-4EC2-9740-4FD57DCE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C32-0942-41E2-9B07-11C4447B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313-E704-46D7-8D5C-A02919B1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DF4-B2C1-4807-9D1C-B2185ED2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4220-2032-4BDE-A6E3-44BF72ED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A28E-B0EE-4237-88DB-DC17577E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023C-DBB0-4D49-9894-5B9FBAAB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F8DC-D469-4198-8FE9-7B75A353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0BD8-BABE-4810-A705-C6A6FDD0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C5C2-33FC-4187-B60A-0A15B2FE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17EC-99D0-442E-BF71-E331E880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296-252E-4F22-827E-891ADF57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0F36-C335-44A8-8771-5A2E4432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257C-4BBB-402E-BC71-E75920C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A713-71BC-4D85-A01D-2A964938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E946-8AA0-4822-9E2C-CE366535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B87A-A38E-4C44-B4E2-6D554C0E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93F7-8718-4C97-9E16-72DB7C1E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1C09-4C0C-4895-920B-8F7BD32C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2488-FFFB-449D-B4CF-A28C1716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282FD-14D7-4503-B4E1-7180E97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ED90-1995-40F2-B77E-ADF73349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267-6210-454E-8286-809B5225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D05CF-EB34-4F0B-8CAD-C2ED6D9D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5671-8FE5-4BF5-97AB-A6722BA1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6BD8-2F9E-4ADC-A353-7755696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89C3-9C80-4C5A-899D-5823CC7F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874E-3DA5-42CD-9D93-AB271586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C5F5-5E79-423F-B8FC-3FD07C9F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79C9-BE50-4437-98FF-419419B1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3F1-0C90-43BD-B69D-ECF1AF07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408-599B-4A92-A4EC-C56D7DE1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903-D740-4687-9A89-7BE3C35E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9D1-4D63-4BD2-8962-74D1345A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D44-4C4F-4E2D-9E92-C4943350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159-70A9-4CDB-B0F5-0FEAF528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7329240"/>
            <a:chOff x="0" y="0"/>
            <a:chExt cx="9159840" cy="7329240"/>
          </a:xfrm>
        </p:grpSpPr>
        <p:sp>
          <p:nvSpPr>
            <p:cNvPr id="1" name="Rectangle 3"/>
            <p:cNvSpPr/>
            <p:nvPr/>
          </p:nvSpPr>
          <p:spPr>
            <a:xfrm>
              <a:off x="0" y="7089120"/>
              <a:ext cx="8078760" cy="2401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1348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731592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080"/>
              <a:ext cx="1295280" cy="6729840"/>
              <a:chOff x="7848720" y="1080"/>
              <a:chExt cx="1295280" cy="672984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080"/>
                <a:ext cx="762120" cy="2421360"/>
                <a:chOff x="8381880" y="1080"/>
                <a:chExt cx="762120" cy="24213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080"/>
                  <a:ext cx="279360" cy="294840"/>
                  <a:chOff x="8704440" y="1080"/>
                  <a:chExt cx="279360" cy="29484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080"/>
                    <a:ext cx="279360" cy="294840"/>
                    <a:chOff x="8704440" y="1080"/>
                    <a:chExt cx="279360" cy="29484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36840" y="-31320"/>
                      <a:ext cx="214200" cy="279360"/>
                    </a:xfrm>
                    <a:custGeom>
                      <a:avLst/>
                      <a:gdLst>
                        <a:gd name="textAreaLeft" fmla="*/ 0 w 214200"/>
                        <a:gd name="textAreaRight" fmla="*/ 214560 w 2142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48000" y="108000"/>
                      <a:ext cx="150480" cy="225360"/>
                    </a:xfrm>
                    <a:custGeom>
                      <a:avLst/>
                      <a:gdLst>
                        <a:gd name="textAreaLeft" fmla="*/ 0 w 150480"/>
                        <a:gd name="textAreaRight" fmla="*/ 150840 w 150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3860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280" y="71640"/>
                    <a:ext cx="45720" cy="572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6840" y="55800"/>
                    <a:ext cx="68400" cy="37800"/>
                  </a:xfrm>
                  <a:custGeom>
                    <a:avLst/>
                    <a:gdLst>
                      <a:gd name="textAreaLeft" fmla="*/ 0 w 68400"/>
                      <a:gd name="textAreaRight" fmla="*/ 68760 w 684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6320" y="110520"/>
                    <a:ext cx="27000" cy="619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0720" y="205560"/>
                    <a:ext cx="69840" cy="2664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1040" y="179280"/>
                    <a:ext cx="41040" cy="410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37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37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68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748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9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3003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70640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11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706760"/>
                <a:ext cx="828720" cy="5024160"/>
                <a:chOff x="7848720" y="1706760"/>
                <a:chExt cx="828720" cy="502416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7067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2031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68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9257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30884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41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49488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9826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7389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41450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3891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3565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63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520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6080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770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6014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4213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62582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5236200"/>
              <a:ext cx="1190520" cy="20696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069640"/>
                <a:gd name="textAreaBottom" fmla="*/ 2070000 h 20696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5182200"/>
              <a:ext cx="1219320" cy="21337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3005640"/>
              <a:ext cx="1231920" cy="4298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298040"/>
                <a:gd name="textAreaBottom" fmla="*/ 4298400 h 4298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774600"/>
              <a:ext cx="979560" cy="23302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330280"/>
                <a:gd name="textAreaBottom" fmla="*/ 2330280 h 23302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55400"/>
              <a:ext cx="914400" cy="5385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385240"/>
                <a:gd name="textAreaBottom" fmla="*/ 5385600 h 53852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79360"/>
              <a:ext cx="909720" cy="32763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276360"/>
                <a:gd name="textAreaBottom" fmla="*/ 3276720 h 327636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5766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576600"/>
                <a:gd name="textAreaBottom" fmla="*/ 3576960 h 35766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5769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576960"/>
                <a:gd name="textAreaBottom" fmla="*/ 3577320 h 3576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73177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645240"/>
              <a:ext cx="1165320" cy="6602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095000" y="3545280"/>
              <a:ext cx="7315920" cy="225360"/>
            </a:xfrm>
            <a:custGeom>
              <a:avLst/>
              <a:gdLst>
                <a:gd name="textAreaLeft" fmla="*/ 712800 w 7315920"/>
                <a:gd name="textAreaRight" fmla="*/ 6603120 w 73159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657480"/>
            <a:ext cx="1782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663960"/>
            <a:ext cx="34560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663960"/>
            <a:ext cx="1755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147F-EB98-41F8-8DED-7CC499BBC0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6625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6625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6625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52B4-6B92-400B-A467-C33A2E2B5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7329240"/>
            <a:chOff x="0" y="0"/>
            <a:chExt cx="9159840" cy="7329240"/>
          </a:xfrm>
        </p:grpSpPr>
        <p:sp>
          <p:nvSpPr>
            <p:cNvPr id="138" name="Rectangle 3"/>
            <p:cNvSpPr/>
            <p:nvPr/>
          </p:nvSpPr>
          <p:spPr>
            <a:xfrm>
              <a:off x="0" y="7089120"/>
              <a:ext cx="8078760" cy="2401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1348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731592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2880"/>
              <a:ext cx="1295280" cy="6728040"/>
              <a:chOff x="7848720" y="2880"/>
              <a:chExt cx="1295280" cy="672804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2880"/>
                <a:ext cx="762120" cy="2419560"/>
                <a:chOff x="8381880" y="2880"/>
                <a:chExt cx="762120" cy="24195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18480" y="2880"/>
                  <a:ext cx="279360" cy="296280"/>
                  <a:chOff x="8718480" y="2880"/>
                  <a:chExt cx="279360" cy="2962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18480" y="2880"/>
                    <a:ext cx="279360" cy="296280"/>
                    <a:chOff x="8718480" y="2880"/>
                    <a:chExt cx="279360" cy="2962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50160" y="-28800"/>
                      <a:ext cx="215640" cy="279360"/>
                    </a:xfrm>
                    <a:custGeom>
                      <a:avLst/>
                      <a:gdLst>
                        <a:gd name="textAreaLeft" fmla="*/ 0 w 215640"/>
                        <a:gd name="textAreaRight" fmla="*/ 216000 w 2156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61320" y="110520"/>
                      <a:ext cx="151920" cy="225360"/>
                    </a:xfrm>
                    <a:custGeom>
                      <a:avLst/>
                      <a:gdLst>
                        <a:gd name="textAreaLeft" fmla="*/ 0 w 151920"/>
                        <a:gd name="textAreaRight" fmla="*/ 152280 w 1519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37280" y="137520"/>
                    <a:ext cx="2988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69960" y="76320"/>
                    <a:ext cx="45720" cy="5688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41600" y="60840"/>
                    <a:ext cx="68040" cy="37800"/>
                  </a:xfrm>
                  <a:custGeom>
                    <a:avLst/>
                    <a:gdLst>
                      <a:gd name="textAreaLeft" fmla="*/ 0 w 68040"/>
                      <a:gd name="textAreaRight" fmla="*/ 68400 w 680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910360" y="116640"/>
                    <a:ext cx="27000" cy="6192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35120" y="211320"/>
                    <a:ext cx="69840" cy="2664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85080" y="185400"/>
                    <a:ext cx="41040" cy="410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33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33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68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748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9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3003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70640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11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706760"/>
                <a:ext cx="828720" cy="5024160"/>
                <a:chOff x="7848720" y="1706760"/>
                <a:chExt cx="828720" cy="502416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7067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2031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68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9257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30884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41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49488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9826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7389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41450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3891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3565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63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520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6080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770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6014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4213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62582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5236200"/>
              <a:ext cx="1190520" cy="20696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069640"/>
                <a:gd name="textAreaBottom" fmla="*/ 2070000 h 20696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5182200"/>
              <a:ext cx="1219320" cy="21337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3005640"/>
              <a:ext cx="1231920" cy="4298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298040"/>
                <a:gd name="textAreaBottom" fmla="*/ 4298400 h 4298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774600"/>
              <a:ext cx="979560" cy="23302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330280"/>
                <a:gd name="textAreaBottom" fmla="*/ 2330280 h 23302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55400"/>
              <a:ext cx="914400" cy="53852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385240"/>
                <a:gd name="textAreaBottom" fmla="*/ 5385600 h 53852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79360"/>
              <a:ext cx="909720" cy="32763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276360"/>
                <a:gd name="textAreaBottom" fmla="*/ 3276720 h 327636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5766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576600"/>
                <a:gd name="textAreaBottom" fmla="*/ 3576960 h 35766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5769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576960"/>
                <a:gd name="textAreaBottom" fmla="*/ 3577320 h 3576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73177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645240"/>
              <a:ext cx="1165320" cy="6602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095000" y="3545280"/>
              <a:ext cx="7315920" cy="225360"/>
            </a:xfrm>
            <a:custGeom>
              <a:avLst/>
              <a:gdLst>
                <a:gd name="textAreaLeft" fmla="*/ 712800 w 7315920"/>
                <a:gd name="textAreaRight" fmla="*/ 6603120 w 73159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657480"/>
            <a:ext cx="1782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663960"/>
            <a:ext cx="34560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663960"/>
            <a:ext cx="1755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30B5-D5ED-40B9-8F59-0B1A4A8FAD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61600"/>
            <a:ext cx="6966000" cy="21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10 Enacted Budge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3962520"/>
            <a:ext cx="637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y Jane Mi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Office of Budge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lington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15-16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In Summary – FY 2010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63520" y="1704600"/>
            <a:ext cx="73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goo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bud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24M /~9.5% over FY 2009 ena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8.7M increase over FY 09 – 13%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o all our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4"/>
          <p:cNvSpPr txBox="1"/>
          <p:nvPr/>
        </p:nvSpPr>
        <p:spPr>
          <a:xfrm>
            <a:off x="1981080" y="2371680"/>
            <a:ext cx="4724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0605a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0605a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10 Congressional Action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0520" y="1371600"/>
            <a:ext cx="7386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ed Appropriations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Law 111-88, 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l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which “$25,000,000 shall be for public safety and justice programs as authorized by the Emergency Fund for Indian Safety and Health established by section 601 of Public Law 110-293 (25 U.S.C. 443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10 Congressional Action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cross the Board Redu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Earmarks in Sen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TC/NTC – Not recognized in database now; i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UT resource manage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yenne River Sioux – prairie manage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279440" y="475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209680" y="463248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286000" y="463248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286000" y="4632480"/>
            <a:ext cx="85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609480" y="228600"/>
            <a:ext cx="8077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Y 2010 Congressional Action</a:t>
            </a:r>
            <a:endParaRPr b="0" lang="en-US" sz="4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038480" y="990720"/>
            <a:ext cx="485640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from President’s Budget: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ibal Government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+$13.2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ural Resources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+$14.9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ublic Safety &amp; Justice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+$25.0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conomic Development:    +$16.4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munity &amp; Econ Dev:    +$  1.0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ducation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+$  3.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S&amp;J Construction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+$25.0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OTAL:       +82.2M</a:t>
            </a:r>
            <a:endParaRPr b="0" lang="en-US" sz="24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 change to Human Resources, Real Estate, Executive Direction/Admin, Education Construction, Resource Management Construction, Other Program Construction, Settlements and Loans.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graphicFrame>
        <p:nvGraphicFramePr>
          <p:cNvPr id="252" name="Object 8"/>
          <p:cNvGraphicFramePr/>
          <p:nvPr/>
        </p:nvGraphicFramePr>
        <p:xfrm>
          <a:off x="0" y="2057400"/>
          <a:ext cx="3886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3886200" cy="487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279440" y="475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209680" y="463248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286000" y="463248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286000" y="4632480"/>
            <a:ext cx="85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304920" y="228600"/>
            <a:ext cx="779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from FY10 Request</a:t>
            </a:r>
            <a:endParaRPr b="0" lang="en-US" sz="4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457200" y="1371600"/>
            <a:ext cx="723888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to Priorities:</a:t>
            </a:r>
            <a:endParaRPr b="0" lang="en-US" sz="36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Law Enforcement:</a:t>
            </a:r>
            <a:endParaRPr b="0" lang="en-US" sz="2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3060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Operations: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+$20.0M</a:t>
            </a:r>
            <a:endParaRPr b="0" lang="en-US" sz="2800" spc="-1" strike="noStrike">
              <a:solidFill>
                <a:srgbClr val="c1c177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3060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Tribal Courts: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+$  5.0M</a:t>
            </a:r>
            <a:endParaRPr b="0" lang="en-US" sz="2800" spc="-1" strike="noStrike">
              <a:solidFill>
                <a:srgbClr val="c1c177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3060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Detention Centers: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+$20.0M</a:t>
            </a:r>
            <a:endParaRPr b="0" lang="en-US" sz="2800" spc="-1" strike="noStrike">
              <a:solidFill>
                <a:srgbClr val="c1c177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3060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Employee Housing: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+$  5.0M</a:t>
            </a:r>
            <a:endParaRPr b="0" lang="en-US" sz="28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hanges from FY10 Reques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to Priorit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Educ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Student Transportation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2.0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Haskell &amp; SIPI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 0.5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UTTC/NTC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0.6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279440" y="475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209680" y="463248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2286000" y="463248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286000" y="4632480"/>
            <a:ext cx="85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228600"/>
            <a:ext cx="779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from FY10 Request</a:t>
            </a:r>
            <a:endParaRPr b="0" lang="en-US" sz="4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80880" y="1295280"/>
            <a:ext cx="723924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to Priorities: </a:t>
            </a: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Natural Resources:</a:t>
            </a: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0605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Rights Protection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12.0M</a:t>
            </a: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0605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Fish Hatchery Ops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  2.0M</a:t>
            </a: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0605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0605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TMDP Earmarks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  0.8M</a:t>
            </a: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3060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hanges from FY10 Reques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to Priorit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Economic Development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Training Opportunities: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+$ 1.5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0605a"/>
                </a:solidFill>
                <a:latin typeface="Arial"/>
              </a:rPr>
              <a:t>(&amp; Apprenticesh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hanges from FY10 Reques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to Priorities: Overarch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Contract Support: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+$13.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Reflects approx. 84% of total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(using current calcul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23:42:40Z</dcterms:created>
  <dc:creator>MMiller</dc:creator>
  <dc:description/>
  <dc:language>en-US</dc:language>
  <cp:lastModifiedBy>maryjane.miller</cp:lastModifiedBy>
  <dcterms:modified xsi:type="dcterms:W3CDTF">2009-12-14T16:05:45Z</dcterms:modified>
  <cp:revision>189</cp:revision>
  <dc:subject/>
  <dc:title>Slide 1</dc:title>
</cp:coreProperties>
</file>