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806224-D351-4E83-A123-124EA3951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15" name=""/>
          <p:cNvGraphicFramePr/>
          <p:nvPr/>
        </p:nvGraphicFramePr>
        <p:xfrm>
          <a:off x="228600" y="5264280"/>
          <a:ext cx="6553080" cy="3663720"/>
        </p:xfrm>
        <a:graphic>
          <a:graphicData uri="http://schemas.openxmlformats.org/drawingml/2006/table">
            <a:tbl>
              <a:tblPr/>
              <a:tblGrid>
                <a:gridCol w="2986200"/>
                <a:gridCol w="671400"/>
                <a:gridCol w="762120"/>
                <a:gridCol w="761760"/>
                <a:gridCol w="685800"/>
                <a:gridCol w="685800"/>
              </a:tblGrid>
              <a:tr h="63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 Enac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 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Trai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Indian Programs Training Ce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gulations, Policies, and Proced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Program Management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k Manag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engineer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te Clean 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evelopment Initi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Quality and Integ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PMC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UST ACCOUNTABILITY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gradFill rotWithShape="0">
                      <a:gsLst>
                        <a:gs pos="0">
                          <a:srgbClr val="004700"/>
                        </a:gs>
                        <a:gs pos="50000">
                          <a:srgbClr val="009900"/>
                        </a:gs>
                        <a:gs pos="100000">
                          <a:srgbClr val="0047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6" name="Text Box 107"/>
          <p:cNvSpPr/>
          <p:nvPr/>
        </p:nvSpPr>
        <p:spPr>
          <a:xfrm>
            <a:off x="114480" y="4214880"/>
            <a:ext cx="678168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ecutive Direction (ED) has an internal transfer of $182k and +1 FTE from Trust Accountability and an internal transfer of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-$128k and -1 FTE from ED to  Information Technology, leaving ED with a net of $54K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ormation Technology Services (ITS) also includes an internal transfer of $2.2 million from Trust Records for the Labat indexing contrac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to ITS  for TF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ust Accountability also includes an internal transfers of  $266k from Trust Training to NIPTC and a transfer of $350k to Budget, Financ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&amp;  Administration for the Intertribal Monitoring Associ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B11-5298-47F0-9718-2491C8EA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3CB-2488-41A9-9603-D6B4AD56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0A4-6FD3-46DC-A21F-344FBA07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0E5-02DE-4645-9D65-27331301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EE18-FA4B-4D72-9779-57F4BFA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030-6B5C-4D5A-9F4E-172DF93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7A9-0B61-4427-B2C7-AD661BD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84A8-FBA3-474E-81C1-7AAB502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B3BE-DBDA-456A-99A9-7E66E0D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58AC-33C3-4F78-AA1E-B98A3F56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0720-3FE6-4495-B0A5-3EE05E9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4E5-C53D-4B48-A8ED-58F8723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E562-AC6C-4307-A3C9-8E86DDF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111F-F7AB-4CBD-B1EA-70B21ED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040A-EEC8-43DD-B531-E01AB6BE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2F0-6DCE-47F3-BDF8-F42B03A5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1B0A-BCC9-4F7C-B6DF-78D2D56E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AD4-943D-4B30-96C9-C028F11C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E91-B13B-433F-96F5-0D495AB0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1BF-6F2F-4218-8E9C-710A9ED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D47-6049-425C-865E-46AE03F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4F0-61B3-433F-B059-BF80CB1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858-ED11-4EBE-ADDD-C3DCDC06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C4E-B40B-41F6-8A07-E23E2C0B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5F73-EE77-4577-966A-9EDC0B289B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616-3CD4-48D9-9072-EB91500B54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181160"/>
            <a:ext cx="77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Office of the Special Trustee for American Indians</a:t>
            </a:r>
            <a:br>
              <a:rPr sz="4000"/>
            </a:b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 FY 2010 – Budget Briefing </a:t>
            </a:r>
            <a:br>
              <a:rPr sz="4000"/>
            </a:b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Tribal Budget Advisory Council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666880" y="5181480"/>
            <a:ext cx="6400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December 15, 2009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Steve McEntegart,</a:t>
            </a:r>
            <a:br>
              <a:rPr sz="2300"/>
            </a:br>
            <a:r>
              <a:rPr b="1" lang="en-US" sz="2000" spc="-1" strike="noStrike">
                <a:solidFill>
                  <a:srgbClr val="006600"/>
                </a:solidFill>
                <a:latin typeface="Garamond"/>
              </a:rPr>
              <a:t>Director</a:t>
            </a:r>
            <a:br>
              <a:rPr sz="2000"/>
            </a:br>
            <a:r>
              <a:rPr b="1" lang="en-US" sz="1800" spc="-1" strike="noStrike">
                <a:solidFill>
                  <a:srgbClr val="006600"/>
                </a:solidFill>
                <a:latin typeface="Garamond"/>
              </a:rPr>
              <a:t>Budget, Finance &amp; Administration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Garamond"/>
              </a:rPr>
              <a:t>202-208-3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5742a"/>
                </a:solidFill>
                <a:latin typeface="Garamond"/>
              </a:rPr>
              <a:t>Office of the Special Trustee for American Indian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33520" y="1447920"/>
            <a:ext cx="784836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 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 2009 OST had approximately $864 million in receipts from leases, u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permits, land sales and income from financial assets, including $298 mill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for 384,000 individual accounts and $566 million for 2,700 tribal account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FY 2009 approximately $756 million was disbursed to Indian beneficiari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which includes $342 million to individual account holders and $414 million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tribal government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1996 OST has receipted over $10.4 billion from individual and tribal leas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use permits, land sales and financial assets including $3.7 billion for individu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accounts and $6.7 billion for tribal accounts .  OST has also disbursed over $9.5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illion to individual account holders and tribal government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76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7"/>
          <p:cNvSpPr/>
          <p:nvPr/>
        </p:nvSpPr>
        <p:spPr>
          <a:xfrm>
            <a:off x="838080" y="1066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Garamond"/>
              </a:rPr>
              <a:t>FY 2009 Enacted vs FY 2010 En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9"/>
          <p:cNvSpPr/>
          <p:nvPr/>
        </p:nvSpPr>
        <p:spPr>
          <a:xfrm>
            <a:off x="1219320" y="21276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742a"/>
                </a:solidFill>
                <a:latin typeface="Garamond"/>
              </a:rPr>
              <a:t>OST - FY 2010 En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693800"/>
          <a:ext cx="6172200" cy="2255760"/>
        </p:xfrm>
        <a:graphic>
          <a:graphicData uri="http://schemas.openxmlformats.org/drawingml/2006/table">
            <a:tbl>
              <a:tblPr/>
              <a:tblGrid>
                <a:gridCol w="3086280"/>
                <a:gridCol w="1104840"/>
                <a:gridCol w="1003320"/>
                <a:gridCol w="97776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$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09 En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10 En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c (+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(-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om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the Special Trus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,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,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Historical Trust Accou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4,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609480" y="1163520"/>
            <a:ext cx="807732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gram Incre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OST’s FY 2010 enacted budget of $ 185,984,000 includes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$2 million program increase from the FY 2009 enacted budget for the Offic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Appraisal Servic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xed Cos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e FY 2010 budget also contains full funding of $2,336,000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fixed cost changes which cover pay increases, health benefit costs, working capit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fund, worker’s compensation, unemployment compensation and r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 Trust Accoun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e Office of Historical Trust Accounting wil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hift some of its funding from IIM to Tribal for lawsuits work.   IIM will be fund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at $31.536 million and $25 million for Tribal laws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9"/>
          <p:cNvSpPr/>
          <p:nvPr/>
        </p:nvSpPr>
        <p:spPr>
          <a:xfrm>
            <a:off x="1219320" y="21276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742a"/>
                </a:solidFill>
                <a:latin typeface="Garamond"/>
              </a:rPr>
              <a:t>OST - FY 2010 En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742a"/>
                </a:solidFill>
                <a:latin typeface="Garamond"/>
              </a:rPr>
              <a:t>OST – FY 2010 Enacte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49360" y="880920"/>
          <a:ext cx="7985160" cy="4480200"/>
        </p:xfrm>
        <a:graphic>
          <a:graphicData uri="http://schemas.openxmlformats.org/drawingml/2006/table">
            <a:tbl>
              <a:tblPr/>
              <a:tblGrid>
                <a:gridCol w="2971800"/>
                <a:gridCol w="1020600"/>
                <a:gridCol w="884160"/>
                <a:gridCol w="1067040"/>
                <a:gridCol w="914400"/>
                <a:gridCol w="11271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 En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DERAL TRUST PROGR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ecutive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,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5" name="Text Box 110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44280" y="797040"/>
            <a:ext cx="9026640" cy="5070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742a"/>
                </a:solidFill>
                <a:latin typeface="Garamond"/>
              </a:rPr>
              <a:t>OST - FY 2009 / FY 2010 Comparis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5715000"/>
            <a:ext cx="99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905120" y="591192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3.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24080" y="591192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0.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343400" y="5911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791320" y="591192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20:32Z</dcterms:created>
  <dc:creator> </dc:creator>
  <dc:description/>
  <dc:language>en-US</dc:language>
  <cp:lastModifiedBy>smcentegart</cp:lastModifiedBy>
  <dcterms:modified xsi:type="dcterms:W3CDTF">2009-12-15T12:29:11Z</dcterms:modified>
  <cp:revision>254</cp:revision>
  <dc:subject/>
  <dc:title>Office of the Special Trustee for American Indians</dc:title>
</cp:coreProperties>
</file>