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9A0E5A-8041-43CE-A668-31E1869B6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15" name=""/>
          <p:cNvGraphicFramePr/>
          <p:nvPr/>
        </p:nvGraphicFramePr>
        <p:xfrm>
          <a:off x="228600" y="5264280"/>
          <a:ext cx="6553080" cy="3663720"/>
        </p:xfrm>
        <a:graphic>
          <a:graphicData uri="http://schemas.openxmlformats.org/drawingml/2006/table">
            <a:tbl>
              <a:tblPr/>
              <a:tblGrid>
                <a:gridCol w="2986200"/>
                <a:gridCol w="671400"/>
                <a:gridCol w="762120"/>
                <a:gridCol w="761760"/>
                <a:gridCol w="685800"/>
                <a:gridCol w="685800"/>
              </a:tblGrid>
              <a:tr h="63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0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 Enac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12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 ACCOUN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Trai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Indian Programs Training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gulations, Policies, and Proced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Program Management C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k Manag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engineer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te Clean 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Development Initi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Quality and Integr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PMC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UST ACCOUNTABILITY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6" name="Text Box 107"/>
          <p:cNvSpPr/>
          <p:nvPr/>
        </p:nvSpPr>
        <p:spPr>
          <a:xfrm>
            <a:off x="114480" y="4214880"/>
            <a:ext cx="678168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ecutive Direction (ED) has an internal transfer of $182k and +1 FTE from Trust Accountability and an internal transfer of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-$128k and -1 FTE from ED to  Information Technology, leaving ED with a net of $54K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ormation Technology Services (ITS) also includes an internal transfer of $2.2 million from Trust Records for the Labat indexing contract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to ITS  for TF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ust Accountability also includes an internal transfers of  $266k from Trust Training to NIPTC and a transfer of $350k to Budget, Financ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&amp;  Administration for the Intertribal Monitoring Associ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206-8B59-4C09-BAB1-6586A75D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AC3-E543-4125-9994-BCC8340F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1C2-134B-4252-8E58-5E39F6C9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9AE-2309-4848-B1A0-BCF47EDD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9256-619D-4FE8-B3C0-CA0C9035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5A16-0DFD-4683-8837-6444F01F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4ECD-3DD1-4A02-86DE-DEE78CE9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3C2B-BD41-43AD-A9BF-AE7E910C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0A3F-F189-4DCB-8116-ABC6FF95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53A2-865A-4B01-8D4B-B38EC7A5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587-274A-4815-97BC-9F1ADA5C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905-69B2-42D2-B9AB-8CB449E5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610C-DD30-4907-A11A-2D2079CA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FC0F-E2CB-4538-8596-ED08175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76D0-4BB9-4BD6-AFEF-6C0A3B26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AE1B-720E-4A54-B13A-66E3CDD7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5A26-08E6-4F41-BA5F-CAC4D7F4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28F-558F-478A-9C1C-6BC9B01C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24A-25EB-482E-A5AF-FE7B327B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E10-01FD-4DE2-9315-249FC7F5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443-C52D-4BF9-AB07-181C1ED6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974-45D0-4599-8911-7C06111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780-E8FA-4AD0-BB7A-65DE9ADD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430-0540-462E-9E8E-1794AF85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5D60-52F0-45B0-98ED-7DC77D4066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3E34-49E1-4728-9F8E-3FC6F9ECCA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181160"/>
            <a:ext cx="77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742a"/>
                </a:solidFill>
                <a:latin typeface="Garamond"/>
              </a:rPr>
              <a:t>Office of the Special Trustee for American Indians</a:t>
            </a:r>
            <a:br>
              <a:rPr sz="4000"/>
            </a:br>
            <a:r>
              <a:rPr b="1" lang="en-US" sz="4000" spc="-1" strike="noStrike">
                <a:solidFill>
                  <a:srgbClr val="35742a"/>
                </a:solidFill>
                <a:latin typeface="Garamond"/>
              </a:rPr>
              <a:t> FY 2010 – Budget Briefing </a:t>
            </a:r>
            <a:br>
              <a:rPr sz="4000"/>
            </a:br>
            <a:r>
              <a:rPr b="1" lang="en-US" sz="4000" spc="-1" strike="noStrike">
                <a:solidFill>
                  <a:srgbClr val="35742a"/>
                </a:solidFill>
                <a:latin typeface="Garamond"/>
              </a:rPr>
              <a:t>Tribal Budget Advisory Council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666880" y="5181480"/>
            <a:ext cx="6400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December 15, 2009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Steve McEntegart,</a:t>
            </a:r>
            <a:br>
              <a:rPr sz="2300"/>
            </a:br>
            <a:r>
              <a:rPr b="1" lang="en-US" sz="2000" spc="-1" strike="noStrike">
                <a:solidFill>
                  <a:srgbClr val="006600"/>
                </a:solidFill>
                <a:latin typeface="Garamond"/>
              </a:rPr>
              <a:t>Director</a:t>
            </a:r>
            <a:br>
              <a:rPr sz="2000"/>
            </a:br>
            <a:r>
              <a:rPr b="1" lang="en-US" sz="1800" spc="-1" strike="noStrike">
                <a:solidFill>
                  <a:srgbClr val="006600"/>
                </a:solidFill>
                <a:latin typeface="Garamond"/>
              </a:rPr>
              <a:t>Budget, Finance &amp; Administration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Garamond"/>
              </a:rPr>
              <a:t>202-208-3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5742a"/>
                </a:solidFill>
                <a:latin typeface="Garamond"/>
              </a:rPr>
              <a:t>Office of the Special Trustee for American Indian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33520" y="1447920"/>
            <a:ext cx="784836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 Accomp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 2009 OST had approximately $864 million in receipts from leases, u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permits, land sales and income from financial assets, including $298 mill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for 384,000 individual accounts and $566 million for 2,700 tribal account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FY 2009 approximately $756 million was disbursed to Indian beneficiari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which includes $342 million to individual account holders and $414 million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tribal government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1996 OST has receipted over $10.4 billion from individual and tribal leas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use permits, land sales and financial assets including $3.7 billion for individu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accounts and $6.7 billion for tribal accounts .  OST has also disbursed over $9.5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illion to individual account holders and tribal government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76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7"/>
          <p:cNvSpPr/>
          <p:nvPr/>
        </p:nvSpPr>
        <p:spPr>
          <a:xfrm>
            <a:off x="838080" y="10666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Garamond"/>
              </a:rPr>
              <a:t>FY 2009 Enacted vs FY 2010 Ena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9"/>
          <p:cNvSpPr/>
          <p:nvPr/>
        </p:nvSpPr>
        <p:spPr>
          <a:xfrm>
            <a:off x="1219320" y="21276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742a"/>
                </a:solidFill>
                <a:latin typeface="Garamond"/>
              </a:rPr>
              <a:t>OST - FY 2010 Ena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693800"/>
          <a:ext cx="6172200" cy="2255760"/>
        </p:xfrm>
        <a:graphic>
          <a:graphicData uri="http://schemas.openxmlformats.org/drawingml/2006/table">
            <a:tbl>
              <a:tblPr/>
              <a:tblGrid>
                <a:gridCol w="3086280"/>
                <a:gridCol w="1104840"/>
                <a:gridCol w="1003320"/>
                <a:gridCol w="97776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$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Y 2009 Ena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Y 2010 Ena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c (+)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c (-)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om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 of the Special Trus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,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,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 of Historical Trust Accou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,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,9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4,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609480" y="1163520"/>
            <a:ext cx="807732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gram Incre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OST’s FY 2010 enacted budget of $ 185,984,000 includes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$2 million program increase from the FY 2009 enacted budget for the Offic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Appraisal Servic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xed Cos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he FY 2010 budget also contains full funding of $2,336,000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fixed cost changes which cover pay increases, health benefit costs, working capit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fund, worker’s compensation, unemployment compensation and r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storical Trust Accoun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he Office of Historical Trust Accounting wil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shift some of its funding from IIM to Tribal for lawsuits work.   IIM will be fund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at $31.536 million and $25 million for Tribal laws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9"/>
          <p:cNvSpPr/>
          <p:nvPr/>
        </p:nvSpPr>
        <p:spPr>
          <a:xfrm>
            <a:off x="1219320" y="21276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742a"/>
                </a:solidFill>
                <a:latin typeface="Garamond"/>
              </a:rPr>
              <a:t>OST - FY 2010 Ena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742a"/>
                </a:solidFill>
                <a:latin typeface="Garamond"/>
              </a:rPr>
              <a:t>OST – FY 2010 Enacte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49360" y="880920"/>
          <a:ext cx="7985160" cy="4480200"/>
        </p:xfrm>
        <a:graphic>
          <a:graphicData uri="http://schemas.openxmlformats.org/drawingml/2006/table">
            <a:tbl>
              <a:tblPr/>
              <a:tblGrid>
                <a:gridCol w="2971800"/>
                <a:gridCol w="1020600"/>
                <a:gridCol w="884160"/>
                <a:gridCol w="1067040"/>
                <a:gridCol w="914400"/>
                <a:gridCol w="11271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 Ena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DERAL TRUST PROGR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ecutive Di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Technolog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co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,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, Finance &amp; Adminis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Affai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view &amp; 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Accoun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aisal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ical Trust Acco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,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,9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5" name="Text Box 110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44280" y="797040"/>
            <a:ext cx="9026640" cy="5070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742a"/>
                </a:solidFill>
                <a:latin typeface="Garamond"/>
              </a:rPr>
              <a:t>OST - FY 2009 / FY 2010 Comparis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5715000"/>
            <a:ext cx="99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centage of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905120" y="591192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+3.7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124080" y="591192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+0.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343400" y="5911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791320" y="5911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+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20:32Z</dcterms:created>
  <dc:creator> </dc:creator>
  <dc:description/>
  <dc:language>en-US</dc:language>
  <cp:lastModifiedBy>smcentegart</cp:lastModifiedBy>
  <dcterms:modified xsi:type="dcterms:W3CDTF">2009-12-15T12:29:11Z</dcterms:modified>
  <cp:revision>254</cp:revision>
  <dc:subject/>
  <dc:title>Office of the Special Trustee for American Indians</dc:title>
</cp:coreProperties>
</file>