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Support Costs Under the Indian Sell-Determination Act</a:t>
            </a:r>
            <a:endParaRPr b="0" lang="en-US" sz="1200" spc="-1" strike="noStrike">
              <a:solidFill>
                <a:srgbClr val="000000"/>
              </a:solidFill>
              <a:latin typeface="Times New Roman"/>
            </a:endParaRPr>
          </a:p>
        </p:txBody>
      </p:sp>
      <p:sp>
        <p:nvSpPr>
          <p:cNvPr id="352" name="PlaceHolder 2"/>
          <p:cNvSpPr>
            <a:spLocks noGrp="1"/>
          </p:cNvSpPr>
          <p:nvPr>
            <p:ph type="dt" idx="25"/>
          </p:nvPr>
        </p:nvSpPr>
        <p:spPr>
          <a:xfrm>
            <a:off x="3955680" y="0"/>
            <a:ext cx="302724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71440" y="694800"/>
            <a:ext cx="4641840" cy="348156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move the slide</a:t>
            </a:r>
            <a:endParaRPr b="0" lang="en-US" sz="4400" spc="-1" strike="noStrike">
              <a:solidFill>
                <a:srgbClr val="775f55"/>
              </a:solidFill>
              <a:latin typeface="Georgia"/>
            </a:endParaRPr>
          </a:p>
        </p:txBody>
      </p:sp>
      <p:sp>
        <p:nvSpPr>
          <p:cNvPr id="354"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817120"/>
            <a:ext cx="30272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55680" y="8817120"/>
            <a:ext cx="30272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2942-E684-4669-BB52-9CAF2C5791A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71440" y="695160"/>
            <a:ext cx="4641840" cy="3481560"/>
          </a:xfrm>
          <a:prstGeom prst="rect">
            <a:avLst/>
          </a:prstGeom>
          <a:ln w="0">
            <a:noFill/>
          </a:ln>
        </p:spPr>
      </p:sp>
      <p:sp>
        <p:nvSpPr>
          <p:cNvPr id="441" name="PlaceHolder 2"/>
          <p:cNvSpPr>
            <a:spLocks noGrp="1"/>
          </p:cNvSpPr>
          <p:nvPr>
            <p:ph type="body"/>
          </p:nvPr>
        </p:nvSpPr>
        <p:spPr>
          <a:xfrm>
            <a:off x="698040" y="4409640"/>
            <a:ext cx="5588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179C-9EBD-4BC4-BB6C-B0B0B88B5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Header Placeholder 4"/>
          <p:cNvSpPr/>
          <p:nvPr/>
        </p:nvSpPr>
        <p:spPr>
          <a:xfrm>
            <a:off x="0" y="0"/>
            <a:ext cx="302724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Support Costs Under the Indian Self-Determination 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B503F-ECB3-43D4-9D71-60480CF4A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4C69A-64BD-44AE-80DC-186FD7BF0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C3ED1-5E55-46AF-8D40-B236BF905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D412F-C7CA-4A03-BFFD-6747FA13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EB7FD-785F-479B-BF2B-BAB9182BD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EE330-807A-44F4-84F7-5EB3F1499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45638-0A33-4BB7-A412-7BBE7A297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5BA09-4431-4C3E-ACE4-D32F459C8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667CE-53C3-4158-98F0-FBAF28330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571C7-8BFE-4C81-83C0-CEF88C9A9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EBAE5-4841-417A-BCDF-AC4116F6F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9CDCE-976B-491F-ADDB-50324B9A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77FCB-62F8-44E4-A9F1-59D34DB4E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CBC8C-807B-4D13-A979-B3CE4393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F86BF-E300-4857-A940-9B9F94013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AE652-E615-4EC3-B7D3-037499574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68C24-247E-4222-B0AB-2657A96BE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6AA7E0-1503-4F2D-BD06-8427207FCF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47AB49-E9AA-4CE3-BE7A-560CF6AED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F4DA1A-96FD-46AE-8166-7DD539BF0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AEF605-EE47-4D87-8829-335CCAB80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5F6E4D-E0AA-4933-B137-3C72E2E3B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8782-2C88-40F5-94C6-9A8171515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0855AC-4D74-4974-B27C-68BEC98D7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C50FF1-8DDD-4931-A940-5AC793FF1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453BAD-A0A8-43E0-BFFD-DFBF9C172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BAD2CE-26EA-4422-8973-4324FBBD1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E5E60C-EEAA-4E4C-9F51-C48D83038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BBDDE5C-6E75-4603-8C38-9397034F7C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DB500D0-588D-4EFC-80B2-1A2488D6B0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BB7721-65A1-4D5F-9066-35D944EEC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8A6AC9-0CFF-4853-B26E-029BAE6A0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9D9480-1CB0-44AB-99B7-939E1A448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21A22-3DC2-4A0A-8C86-ED8EE5DA0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D3CB5B-B603-4C44-8259-8257837B6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060229-3B28-4C7C-B61E-55994BAC7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8A5B9A-0147-4537-95EE-1A0FCB486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83ACD2-D816-4D19-A4CC-AFEABC27C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A9CDD3-EC48-4F55-ADD0-445612817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A6E998-EE7D-459B-B3D6-7390C824F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380A2F-E823-4C08-BBFD-A69E0F871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AA24AF-87D3-4C55-8B13-93FE9467EF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A34FD74-B285-4F8E-BF18-05D95B5CA3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2F70337-D27F-47CD-95BB-BB309761A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69CF-A991-4434-AA42-7E5B945D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95AFFC-BC55-4534-AA5F-9F7717F20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5C8163-EFC0-4099-8C17-DA45FB4FA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82845C-88D9-4A74-8CBD-3771F7CA5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45A5B5-F7AA-4EB0-926B-DFCA23A3D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07374E-51F6-460F-A6C2-2BA6594B4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17256E-71BD-47A1-BDD3-40B817938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4D7549-FAE3-457A-9879-D1EF3912E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BFA3F4-801F-4C60-BE89-CFF7503B8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6E43A0-D6BE-4D4F-891C-D8FFC7D901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1A0F50-0C3D-4A18-ACFE-3381335C23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3170-0C18-4205-9CB5-7F41A029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082E3C-B625-4DA7-B032-78D4E30119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66A5D6-E19F-43F0-981B-560C2D3BDC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F65FC-CFB7-4D17-8710-7F120AD5F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D59AF-10C1-4097-8ACA-D4CCA94FC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88FF42-551E-4CEF-BB7C-322D42F623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D9497-5224-4213-8E3E-EB7D233FF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80716-02F2-42F1-925E-CEC7995694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A21DA-4886-4CCD-8D08-D25F23D91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DF86B-FCD8-42CD-9D88-89C4F4553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F3C30-8CB9-4CBC-81EE-2FDF6A206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5734-82D8-4DF6-994D-E4A118B4B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66651-D7A2-4438-BF6C-83F6AEBDF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5A70B8-41AB-4EA7-9932-B3B1FA2AE7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778410-9817-4A0F-808A-53F36C8EE7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10B376B-73F4-4275-A596-2D2883FCEE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4D526E-AA62-4ED0-A294-5937B4B56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B4DAD6-1BA3-4538-98F8-44C634E36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7B793F7-968F-416A-BAE2-004FB536D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E780B29-7B5E-4113-91C0-7B84E82C0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EA7791-70FE-48E3-8E7D-748D54BAF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4E71A3-5692-4A5A-BD7E-FBAFB0EEB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EF5B-D74D-4B77-AC50-DDEFB0C5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30DC89-AA93-417F-B7A5-87B496EDD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9F83F3-FBF1-427F-A54B-BC0030793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DD9606-8808-4BDB-A218-1EAFFE287E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2CB4E17-A4EA-4DB7-9F28-9391796045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04A2A6-A3EC-46DA-A738-5987A841C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EA48FE-0E99-4CAA-90E4-D59552BF1A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FB828C-3BA9-44D5-8F00-CFFCC88421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E66FF6-8860-4A47-8F23-E9AAD1FC24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B5CE16-5FF6-4404-A29E-DE62FC724E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D9198-65F8-4427-BBEC-37767148D2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81AC-1D0B-47AB-BDB4-3CB28B757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F60280-8D95-411F-8CE1-F33341EB4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2060E-144A-4E2B-BC9C-7335DE389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5AD43-758F-4F46-B7A5-EF0D6C922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2414B-928B-45A5-90F1-5E1491105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37C8C-BD8F-4C14-8BC1-79729A723D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169825-3E71-4BEF-B308-4FA133B58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50910F-EF24-4AF6-AFD0-57605AC5736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E16C-024A-4445-869C-8BC8E3548D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Georgia"/>
              </a:rPr>
              <a:t>Click to edit the title text format</a:t>
            </a:r>
            <a:endParaRPr b="0" lang="en-US" sz="4400" spc="-1" strike="noStrike">
              <a:solidFill>
                <a:srgbClr val="ebddc3"/>
              </a:solidFill>
              <a:latin typeface="Georgi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4418-0B6B-4501-B4F4-D9B45AC9141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3"/>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3F05-0A32-4C9F-971A-8F185AFC676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E4C0-D9DE-462E-8A49-504D156385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F1C9-482D-43EE-A8D6-DC22092629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DF5C-5200-419E-8B1B-D45174C5AA2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4"/>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6"/>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7"/>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3B35-1D29-4573-B1F9-E4A85106921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3"/>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5A67-A4DB-49FE-B531-6B587CC7CD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lloyd@sonosky.net" TargetMode="External"/><Relationship Id="rId3" Type="http://schemas.openxmlformats.org/officeDocument/2006/relationships/hyperlink" Target="mailto:lloyd@sonosky.net" TargetMode="External"/><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65C2-540A-4A65-90CF-3038B1CF79FE}"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58" name=""/>
          <p:cNvGraphicFramePr/>
          <p:nvPr/>
        </p:nvGraphicFramePr>
        <p:xfrm>
          <a:off x="304920" y="304920"/>
          <a:ext cx="8534160" cy="6418080"/>
        </p:xfrm>
        <a:graphic>
          <a:graphicData uri="http://schemas.openxmlformats.org/drawingml/2006/table">
            <a:tbl>
              <a:tblPr/>
              <a:tblGrid>
                <a:gridCol w="8534160"/>
              </a:tblGrid>
              <a:tr h="17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ea typeface="Arial"/>
                        </a:rPr>
                        <a:t>NATIONAL TRIBAL CONTRAC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ea typeface="Arial"/>
                        </a:rPr>
                        <a:t>SUPPORT COST COALI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66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59"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360" name=""/>
          <p:cNvGraphicFramePr/>
          <p:nvPr/>
        </p:nvGraphicFramePr>
        <p:xfrm>
          <a:off x="304920" y="1371600"/>
          <a:ext cx="8534160" cy="4876920"/>
        </p:xfrm>
        <a:graphic>
          <a:graphicData uri="http://schemas.openxmlformats.org/drawingml/2006/table">
            <a:tbl>
              <a:tblPr/>
              <a:tblGrid>
                <a:gridCol w="1738080"/>
                <a:gridCol w="6796080"/>
              </a:tblGrid>
              <a:tr h="487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ureau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dian Affai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ibal Budg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vis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mmittee Mee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rch 8, 20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shington, D.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ONTRACT SUPPORT COSTS UNDER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DIAN SELF-DETERMINATION 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SENTED 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LLOYD B. MILLER, LEGAL COUNS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425 K STREET NW, SUITE 6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ASHINGTON, D.C.  20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HONE: (202) 682-024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ACSIMILE: (202) 682-02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D595-CD33-437F-9A69-661176AA221B}"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6"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Unfairnes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Due to CSC shortfalls, tribally administered BIA and IHS facilities end up with </a:t>
                      </a:r>
                      <a:r>
                        <a:rPr b="0" lang="en-US" sz="3200" spc="-1" strike="noStrike" u="sng">
                          <a:solidFill>
                            <a:srgbClr val="000000"/>
                          </a:solidFill>
                          <a:uFillTx/>
                          <a:latin typeface="Times New Roman"/>
                          <a:ea typeface="Arial"/>
                        </a:rPr>
                        <a:t>less</a:t>
                      </a:r>
                      <a:r>
                        <a:rPr b="0" lang="en-US" sz="3200" spc="-1" strike="noStrike">
                          <a:solidFill>
                            <a:srgbClr val="000000"/>
                          </a:solidFill>
                          <a:latin typeface="Times New Roman"/>
                          <a:ea typeface="Arial"/>
                        </a:rPr>
                        <a:t> funding and fewer personnel than non-contracted BIA and IHS facilities providing the same serv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87"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E173-88CB-4D3F-8FA3-EE922840E8D0}"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9"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herok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Leavit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In </a:t>
                      </a:r>
                      <a:r>
                        <a:rPr b="0" i="1" lang="en-US" sz="3200" spc="-1" strike="noStrike">
                          <a:solidFill>
                            <a:srgbClr val="000000"/>
                          </a:solidFill>
                          <a:latin typeface="Times New Roman"/>
                          <a:ea typeface="Arial"/>
                        </a:rPr>
                        <a:t>Cherokee Nation v. Leavitt </a:t>
                      </a:r>
                      <a:r>
                        <a:rPr b="0" lang="en-US" sz="3200" spc="-1" strike="noStrike">
                          <a:solidFill>
                            <a:srgbClr val="000000"/>
                          </a:solidFill>
                          <a:latin typeface="Times New Roman"/>
                          <a:ea typeface="Arial"/>
                        </a:rPr>
                        <a:t>the Supreme Court held the United States liable for IHS’s failure to pay full CSCs in fiscal years 1994-1997. The Court reasoned that ISDA contractors have no fewer rights to be paid than do other government contracto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0"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9737-03C8-4854-BEF0-97943A9E0BD2}"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92"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mmediat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bligatio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ppropriations for CSCs can be obligated to Tribes under existing contracts, within 10 days of apportionment to the BIA and IHS.  CSCs directly fund jobs, and those jobs directly enhance services for health care, education, law enforcement and other essential governmental services across Indian count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3"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DAB0-591C-4EC8-9F6E-CE611F914761}"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95"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64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hortfall</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BIA projected shortfall for FY 2011 is $64 million (excluding the President’s proposed incre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bsent any increases, IHS projects an FY 2011 shortfall of $150 mill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6"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5063-CE50-4468-8A69-FD89C29F31E7}"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98"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agnitu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f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hortfall</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FY 2011 unpaid CSCs represen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only 1.9% of the total BIA appropriation for Operation of Indian Programs.  </a:t>
                      </a: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9"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7995-C12D-41E6-8482-65233DC5AD1B}"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01"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acing</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 plan should be developed to close the CSC funding gap within 2 years for the BIA and within 3 years got IHS. </a:t>
                      </a:r>
                      <a:r>
                        <a:rPr b="0" lang="en-US" sz="3200" spc="-1" strike="noStrike">
                          <a:solidFill>
                            <a:srgbClr val="000000"/>
                          </a:solidFill>
                          <a:latin typeface="Times New Roman"/>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02"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38A9-1D7B-4521-A930-352E28D903BA}"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04"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SC Impa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ate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Future </a:t>
                      </a:r>
                      <a:r>
                        <a:rPr b="0" lang="en-US" sz="3200" spc="-1" strike="noStrike">
                          <a:solidFill>
                            <a:srgbClr val="000000"/>
                          </a:solidFill>
                          <a:latin typeface="Times New Roman"/>
                          <a:ea typeface="Arial"/>
                        </a:rPr>
                        <a:t>program</a:t>
                      </a:r>
                      <a:r>
                        <a:rPr b="0" lang="en-US" sz="3600" spc="-1" strike="noStrike">
                          <a:solidFill>
                            <a:srgbClr val="000000"/>
                          </a:solidFill>
                          <a:latin typeface="Times New Roman"/>
                          <a:ea typeface="Arial"/>
                        </a:rPr>
                        <a:t> increases should include CSC impact statements (currently estimated at 10.6 cents for each dollar added to Operation of Indian Program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05"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DBAE-10FE-40F3-B17F-C680653F6B23}"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07" name=""/>
          <p:cNvGraphicFramePr/>
          <p:nvPr/>
        </p:nvGraphicFramePr>
        <p:xfrm>
          <a:off x="304920" y="304920"/>
          <a:ext cx="8534160" cy="5943600"/>
        </p:xfrm>
        <a:graphic>
          <a:graphicData uri="http://schemas.openxmlformats.org/drawingml/2006/table">
            <a:tbl>
              <a:tblPr/>
              <a:tblGrid>
                <a:gridCol w="1752480"/>
                <a:gridCol w="67816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iscrimination Against Indian Contractor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President and Congress should not permit Indian contracts to remain the only government contracts that go unpaid.  Deliberately underpaying government contracts with Tribes raises grave constitutional issues.</a:t>
                      </a: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08"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A3DF-DC15-4C1F-9B3C-FC167609D83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10" name=""/>
          <p:cNvGraphicFramePr/>
          <p:nvPr/>
        </p:nvGraphicFramePr>
        <p:xfrm>
          <a:off x="304920" y="304920"/>
          <a:ext cx="8534160" cy="5832360"/>
        </p:xfrm>
        <a:graphic>
          <a:graphicData uri="http://schemas.openxmlformats.org/drawingml/2006/table">
            <a:tbl>
              <a:tblPr/>
              <a:tblGrid>
                <a:gridCol w="6705360"/>
                <a:gridCol w="1828800"/>
              </a:tblGrid>
              <a:tr h="10580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 Shortfall in 2008</a:t>
                      </a:r>
                      <a:endParaRPr b="0" lang="en-US" sz="2800" spc="-1" strike="noStrike">
                        <a:solidFill>
                          <a:srgbClr val="000000"/>
                        </a:solidFill>
                        <a:latin typeface="Arial"/>
                      </a:endParaRPr>
                    </a:p>
                  </a:txBody>
                  <a:tcPr anchor="t" marL="90000" marR="90000">
                    <a:lnL>
                      <a:noFill/>
                    </a:lnL>
                    <a:lnR>
                      <a:noFill/>
                    </a:lnR>
                    <a:lnT>
                      <a:noFill/>
                    </a:lnT>
                    <a:lnB>
                      <a:no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1.  2008 OIP appropriation</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080,26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2.  less 2008 CSC appropriation</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49,628,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3.  net 2008 OIP appropriation [excluding CSC dollars] (1-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0,633,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4.  total 2008 OIP under contract (per BIA 08 SF repor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19,476,5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5.  % OIP under contract to total OIP (4÷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6.  total 2008 CSC requirement (per BIA 08 SF repor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04,075,6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7.  relation of CSC to OIP under contract (6÷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Arial"/>
                        </a:rPr>
                        <a:t>8.  relation of total CSC requirement to total OIP apportion [excluding CSC dollars] (6÷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15840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tells us that in FY 2008, an amount equal to 32% of the total OIP $$$ [excluding CSC dollars] was contracted to Tribes, and of that sum, an additional 33% as needed to pay full CS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at means 33% of 32% of total OIP dollars [excluding CSC dollars] is the annual CSC requirement.  That’s 10.6% of total OIP dollars [excluding CSC dolla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1"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902A-7165-4237-8CC4-FC82C261409C}"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13"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in 200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14"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15" name=""/>
          <p:cNvGraphicFramePr/>
          <p:nvPr/>
        </p:nvGraphicFramePr>
        <p:xfrm>
          <a:off x="457200" y="1569960"/>
          <a:ext cx="8229600" cy="4129200"/>
        </p:xfrm>
        <a:graphic>
          <a:graphicData uri="http://schemas.openxmlformats.org/drawingml/2006/table">
            <a:tbl>
              <a:tblPr/>
              <a:tblGrid>
                <a:gridCol w="6248520"/>
                <a:gridCol w="1981080"/>
              </a:tblGrid>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9.  2009 OIP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28,63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7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0.  less 2009 CSC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47,29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457200" indent="-457200">
                        <a:lnSpc>
                          <a:spcPct val="100000"/>
                        </a:lnSpc>
                        <a:buClr>
                          <a:srgbClr val="000000"/>
                        </a:buClr>
                        <a:buSzPct val="60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net OIP appropriation [excluding CSC dollars] </a:t>
                      </a:r>
                      <a:endParaRPr b="0" lang="en-US" sz="2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9-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981,33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7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2.  projected 2009 CSC requirement (10.6% x 1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0,021,6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3.  less 2009 CSC appropriation (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47,29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7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14.  2009 projected shortfall (12-1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62,727,6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4E96-9F02-4D73-9E20-228CD925AEA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62" name=""/>
          <p:cNvGraphicFramePr/>
          <p:nvPr/>
        </p:nvGraphicFramePr>
        <p:xfrm>
          <a:off x="304920" y="304920"/>
          <a:ext cx="8534160" cy="5943600"/>
        </p:xfrm>
        <a:graphic>
          <a:graphicData uri="http://schemas.openxmlformats.org/drawingml/2006/table">
            <a:tbl>
              <a:tblPr/>
              <a:tblGrid>
                <a:gridCol w="1676160"/>
                <a:gridCol w="685800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Essenti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overnment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ervice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Under the Indian Self-Determination Act, Indian Tribes carry out essential governmental services such as health care, law enforcement, housing education, and other programs that the BIA and IHS would otherwise carry out in Indian country.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63"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AAE5-B94C-4130-B248-431A0AFDBDDA}"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17"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in 20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18"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19" name=""/>
          <p:cNvGraphicFramePr/>
          <p:nvPr/>
        </p:nvGraphicFramePr>
        <p:xfrm>
          <a:off x="533520" y="1600200"/>
          <a:ext cx="8076960" cy="3873600"/>
        </p:xfrm>
        <a:graphic>
          <a:graphicData uri="http://schemas.openxmlformats.org/drawingml/2006/table">
            <a:tbl>
              <a:tblPr/>
              <a:tblGrid>
                <a:gridCol w="5943600"/>
                <a:gridCol w="2133360"/>
              </a:tblGrid>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5.  2010 OIP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35,965,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6.  less 2101 CSC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66,00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343080" indent="-343080">
                        <a:lnSpc>
                          <a:spcPct val="100000"/>
                        </a:lnSpc>
                        <a:buClr>
                          <a:srgbClr val="000000"/>
                        </a:buClr>
                        <a:buSzPct val="60000"/>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net 2010 OIP appropriation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excluding CSC dollars] (15-1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69,965,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  projected CWC requirement (10.6% x 1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0,016,29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9.  less CSC appropriation  in 2010 (1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66,00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20.  2010 projected shortfall (18-1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64,016,29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01DB-2E25-4E6C-9810-AF58650F20A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21"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in 201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22"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23" name=""/>
          <p:cNvGraphicFramePr/>
          <p:nvPr/>
        </p:nvGraphicFramePr>
        <p:xfrm>
          <a:off x="457200" y="1600200"/>
          <a:ext cx="8229600" cy="3870360"/>
        </p:xfrm>
        <a:graphic>
          <a:graphicData uri="http://schemas.openxmlformats.org/drawingml/2006/table">
            <a:tbl>
              <a:tblPr/>
              <a:tblGrid>
                <a:gridCol w="6172200"/>
                <a:gridCol w="2057400"/>
              </a:tblGrid>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  proposed 2011 OIP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94,64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2.  less proposed 2011 CSC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457200" indent="-457200">
                        <a:lnSpc>
                          <a:spcPct val="100000"/>
                        </a:lnSpc>
                        <a:buClr>
                          <a:srgbClr val="000000"/>
                        </a:buClr>
                        <a:buSzPct val="60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011 OIP appropriation [excluding CSC dollars) (22-2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207,11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4.  projected CSC requirement (10.6% x 2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3,95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5.  less proposed CSC appropriation (2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1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26.  2011 projected shortfall (24-2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46,428,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43B-999D-4F17-8DBE-D8D4DD196B0A}"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25"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for 20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26"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27" name=""/>
          <p:cNvGraphicFramePr/>
          <p:nvPr/>
        </p:nvGraphicFramePr>
        <p:xfrm>
          <a:off x="533520" y="1676520"/>
          <a:ext cx="8076960" cy="3684600"/>
        </p:xfrm>
        <a:graphic>
          <a:graphicData uri="http://schemas.openxmlformats.org/drawingml/2006/table">
            <a:tbl>
              <a:tblPr/>
              <a:tblGrid>
                <a:gridCol w="6019560"/>
                <a:gridCol w="2057400"/>
              </a:tblGrid>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7.  Projected 2012 OIP appropriation (2.52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455,152,55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8.  less proposed 2011 CSC appropriation (2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9.  2012 OIP appropriation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excluding CSC dollars) (28-2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267,626,55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0.  projected CSC requirement (10.6% x 2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40,368,41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1.  less proposed CSC appropriation (2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56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32.  2012 projected shortfall (30-3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52,842,41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707A-33A9-4D4A-A786-034D74EC7886}"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29"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Contract Support Cost </a:t>
                      </a:r>
                      <a:br>
                        <a:rPr sz="2800"/>
                      </a:br>
                      <a:r>
                        <a:rPr b="0" lang="en-US" sz="2800" spc="-1" strike="noStrike">
                          <a:solidFill>
                            <a:srgbClr val="000000"/>
                          </a:solidFill>
                          <a:latin typeface="Times New Roman"/>
                          <a:ea typeface="Arial"/>
                        </a:rPr>
                        <a:t>Shortfalls in 2008, 2009, 2010, 2011 &amp; 20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30"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31" name=""/>
          <p:cNvGraphicFramePr/>
          <p:nvPr/>
        </p:nvGraphicFramePr>
        <p:xfrm>
          <a:off x="457200" y="1676520"/>
          <a:ext cx="8229600" cy="3108240"/>
        </p:xfrm>
        <a:graphic>
          <a:graphicData uri="http://schemas.openxmlformats.org/drawingml/2006/table">
            <a:tbl>
              <a:tblPr/>
              <a:tblGrid>
                <a:gridCol w="6172200"/>
                <a:gridCol w="2057400"/>
              </a:tblGrid>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3.  2008 CSC shortfall (reported by BI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57,730,22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4.  2009 CSC shortfall (projected) (1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62,727,6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5.  2010 CSC shortfall (projected (2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64,016,29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6.  2011 CSC shortfall (projected) (2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46,428,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37.  2012 projected shortfall (30-3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52,842,41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8EF8-C224-4456-9821-0ACA8EE8958B}"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33"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FY 2011 Shortfall Percentag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u="sng">
                          <a:solidFill>
                            <a:srgbClr val="000000"/>
                          </a:solidFill>
                          <a:uFillTx/>
                          <a:latin typeface="Times New Roman"/>
                          <a:ea typeface="Arial"/>
                        </a:rPr>
                        <a:t>FY 2011 appropriations</a:t>
                      </a:r>
                      <a:r>
                        <a:rPr b="0" lang="en-US" sz="2800" spc="-1" strike="noStrike">
                          <a:solidFill>
                            <a:srgbClr val="000000"/>
                          </a:solidFill>
                          <a:latin typeface="Times New Roman"/>
                          <a:ea typeface="Arial"/>
                        </a:rPr>
                        <a:t>      ÷    </a:t>
                      </a:r>
                      <a:r>
                        <a:rPr b="0" lang="en-US" sz="2800" spc="-1" strike="noStrike" u="sng">
                          <a:solidFill>
                            <a:srgbClr val="000000"/>
                          </a:solidFill>
                          <a:uFillTx/>
                          <a:latin typeface="Times New Roman"/>
                          <a:ea typeface="Arial"/>
                        </a:rPr>
                        <a:t>$187,526,000</a:t>
                      </a:r>
                      <a:r>
                        <a:rPr b="0" lang="en-US" sz="2800" spc="-1" strike="noStrike">
                          <a:solidFill>
                            <a:srgbClr val="000000"/>
                          </a:solidFill>
                          <a:latin typeface="Times New Roman"/>
                          <a:ea typeface="Arial"/>
                        </a:rPr>
                        <a:t>   =  92%</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FY 2008 requirement</a:t>
                      </a: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     ÷    $204,075,690</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u="sng">
                          <a:solidFill>
                            <a:srgbClr val="000000"/>
                          </a:solidFill>
                          <a:uFillTx/>
                          <a:latin typeface="Times New Roman"/>
                          <a:ea typeface="Arial"/>
                        </a:rPr>
                        <a:t>FY 2011 appropriations</a:t>
                      </a:r>
                      <a:r>
                        <a:rPr b="0" lang="en-US" sz="2800" spc="-1" strike="noStrike">
                          <a:solidFill>
                            <a:srgbClr val="000000"/>
                          </a:solidFill>
                          <a:latin typeface="Times New Roman"/>
                          <a:ea typeface="Arial"/>
                        </a:rPr>
                        <a:t>      ÷    </a:t>
                      </a:r>
                      <a:r>
                        <a:rPr b="0" lang="en-US" sz="2800" spc="-1" strike="noStrike" u="sng">
                          <a:solidFill>
                            <a:srgbClr val="000000"/>
                          </a:solidFill>
                          <a:uFillTx/>
                          <a:latin typeface="Times New Roman"/>
                          <a:ea typeface="Arial"/>
                        </a:rPr>
                        <a:t>$187,536,000</a:t>
                      </a:r>
                      <a:r>
                        <a:rPr b="0" lang="en-US" sz="2800" spc="-1" strike="noStrike">
                          <a:solidFill>
                            <a:srgbClr val="000000"/>
                          </a:solidFill>
                          <a:latin typeface="Times New Roman"/>
                          <a:ea typeface="Arial"/>
                        </a:rPr>
                        <a:t>   =  80%</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FY 2011 requirement</a:t>
                      </a: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     ÷    $233,954,000</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34"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4B79-7062-4A1A-A235-759A4B64DB66}"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36"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ONTRACT SUPPORT COSTS UN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INDIAN SELF-DETERMINATION AC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9d94"/>
                    </a:solidFill>
                  </a:tcPr>
                </a:tc>
              </a:tr>
              <a:tr h="4864320">
                <a:tc>
                  <a:txBody>
                    <a:bodyPr lIns="90000" rIns="90000" tIns="46800" bIns="46800" anchor="t">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f you have any questions or comments, please contact:</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2ed"/>
                    </a:solidFill>
                  </a:tcPr>
                </a:tc>
              </a:tr>
            </a:tbl>
          </a:graphicData>
        </a:graphic>
      </p:graphicFrame>
      <p:sp>
        <p:nvSpPr>
          <p:cNvPr id="437"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38" name=""/>
          <p:cNvGraphicFramePr/>
          <p:nvPr/>
        </p:nvGraphicFramePr>
        <p:xfrm>
          <a:off x="914400" y="4191120"/>
          <a:ext cx="7467480" cy="1904760"/>
        </p:xfrm>
        <a:graphic>
          <a:graphicData uri="http://schemas.openxmlformats.org/drawingml/2006/table">
            <a:tbl>
              <a:tblPr/>
              <a:tblGrid>
                <a:gridCol w="3809880"/>
                <a:gridCol w="3657600"/>
              </a:tblGrid>
              <a:tr h="36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National Tribal Contract Support Cost Coali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3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laska Native Tribal Health Consortium</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rctic Slope Native Association, Lt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herokee N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hippewa Cree Tribe of the Rocky Boy’s Reserv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hoctaw N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onfederated Salish and Kootenai Trib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opper River Native Associ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Forest County Potawatomi Communit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Kodiak Area Native Associ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Little River Band of Ottawa India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Pueblo of Zun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Riverside – San Bernardino County Indian Health</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Shoshone Bannock Trib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Shoshone-Paiute Trib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Spirit Lake Trib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Yukon-Kuskokwim Health Corpora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439" name=""/>
          <p:cNvGraphicFramePr/>
          <p:nvPr/>
        </p:nvGraphicFramePr>
        <p:xfrm>
          <a:off x="1523880" y="2057400"/>
          <a:ext cx="6096240" cy="1630440"/>
        </p:xfrm>
        <a:graphic>
          <a:graphicData uri="http://schemas.openxmlformats.org/drawingml/2006/table">
            <a:tbl>
              <a:tblPr/>
              <a:tblGrid>
                <a:gridCol w="3048120"/>
                <a:gridCol w="3048120"/>
              </a:tblGrid>
              <a:tr h="365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Lloyd B. Mil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65400">
                <a:tc>
                  <a:txBody>
                    <a:bodyPr lIns="90000" rIns="90000" tIns="46800" bIns="46800" anchor="t">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425 K Street, NW, Suite 600</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Washington, D.C.  20005</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hone: (202) 682-0240</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acsimile: (202) 682-0249</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hlinkClick r:id="rId2"/>
                        </a:rPr>
                        <a:t>lloyd@sonosky.net</a:t>
                      </a:r>
                      <a:endParaRPr b="0" lang="en-US" sz="12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900 West Fifth Avenue, Suite 7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nchorage, AK 995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hone: (907) 258-637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acsimile: (907) 272-83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hlinkClick r:id="rId3"/>
                        </a:rPr>
                        <a:t>lloyd@sonosky.ne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E9B5-3E4C-4C96-BA0C-2A35290ABDA0}"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65"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ll Tribes in 35 State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Every Tribe in 35 States operates one or more self-determination contracts, from substance abuse programs to entire hospitals and police forc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66"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C003-0B99-431A-ABF4-3EE01F9E212E}"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68" name=""/>
          <p:cNvGraphicFramePr/>
          <p:nvPr/>
        </p:nvGraphicFramePr>
        <p:xfrm>
          <a:off x="304920" y="304920"/>
          <a:ext cx="8534160" cy="5943600"/>
        </p:xfrm>
        <a:graphic>
          <a:graphicData uri="http://schemas.openxmlformats.org/drawingml/2006/table">
            <a:tbl>
              <a:tblPr/>
              <a:tblGrid>
                <a:gridCol w="1600200"/>
                <a:gridCol w="693396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mpac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ransparenc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Self-determination contracting has strengthened tribal institutions, increased local employment, and reduced the federal bureaucrac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It is also fully transparent through independent annual aud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69"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6E61-B93D-4053-AA78-C510E0B8A121}"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71"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s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t>
                      </a:r>
                      <a:r>
                        <a:rPr b="0" lang="en-US" sz="3200" spc="-1" strike="noStrike">
                          <a:solidFill>
                            <a:srgbClr val="000000"/>
                          </a:solidFill>
                          <a:latin typeface="Times New Roman"/>
                          <a:ea typeface="Arial"/>
                        </a:rPr>
                        <a:t>Contract support costs” (CSCs) for ISDA contractors cover the independently-audited fixed overhead costs that an ISDA contractor </a:t>
                      </a:r>
                      <a:r>
                        <a:rPr b="0" lang="en-US" sz="3200" spc="-1" strike="noStrike" u="sng">
                          <a:solidFill>
                            <a:srgbClr val="000000"/>
                          </a:solidFill>
                          <a:uFillTx/>
                          <a:latin typeface="Times New Roman"/>
                          <a:ea typeface="Arial"/>
                        </a:rPr>
                        <a:t>must incur to operate an IHS or BIA facility or program </a:t>
                      </a:r>
                      <a:r>
                        <a:rPr b="0" i="1" lang="en-US" sz="3200" spc="-1" strike="noStrike" u="sng">
                          <a:solidFill>
                            <a:srgbClr val="000000"/>
                          </a:solidFill>
                          <a:uFillTx/>
                          <a:latin typeface="Times New Roman"/>
                          <a:ea typeface="Arial"/>
                        </a:rPr>
                        <a:t>(i.e., insurance; annual audits; payroll administration, et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72"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8492-5531-41B3-82D5-C518FC029B85}"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74"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D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ate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SC’s are equivalent to “general and administrative costs” (G&amp;A) required by government procurement contractors.  Both costs are generally set by indirect cost rates that are issued by the federal governm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75"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0909-01A9-4566-ADEE-97C135484C77}"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77"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o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Job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SC shortfalls cost jobs.  Since contract support costs are fixed, tribal contractors must cover shortfalls in CSC payments by reducing funding intended for services through personnel redu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78"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99E7-0BCA-4F13-A8E0-1C5D7637E33E}"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0"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Dolla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F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Dolla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Reductions</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very dollar in CSC shortfalls leads to reduced services and positions, and (for IHS contracts) also reduced collections from Medicare, Medicaid and private insurance (all of which fund additional services and posi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ll told, </a:t>
                      </a:r>
                      <a:r>
                        <a:rPr b="0" lang="en-US" sz="2400" spc="-1" strike="noStrike" u="sng">
                          <a:solidFill>
                            <a:srgbClr val="000000"/>
                          </a:solidFill>
                          <a:uFillTx/>
                          <a:latin typeface="Times New Roman"/>
                          <a:ea typeface="Arial"/>
                        </a:rPr>
                        <a:t>every $10 million</a:t>
                      </a:r>
                      <a:r>
                        <a:rPr b="0" lang="en-US" sz="2400" spc="-1" strike="noStrike">
                          <a:solidFill>
                            <a:srgbClr val="000000"/>
                          </a:solidFill>
                          <a:latin typeface="Times New Roman"/>
                          <a:ea typeface="Arial"/>
                        </a:rPr>
                        <a:t> in lost CSC payments means </a:t>
                      </a:r>
                      <a:r>
                        <a:rPr b="0" lang="en-US" sz="2400" spc="-1" strike="noStrike" u="sng">
                          <a:solidFill>
                            <a:srgbClr val="000000"/>
                          </a:solidFill>
                          <a:uFillTx/>
                          <a:latin typeface="Times New Roman"/>
                          <a:ea typeface="Arial"/>
                        </a:rPr>
                        <a:t>243 fewer health care jobs</a:t>
                      </a:r>
                      <a:r>
                        <a:rPr b="0" lang="en-US" sz="2400" spc="-1" strike="noStrike">
                          <a:solidFill>
                            <a:srgbClr val="000000"/>
                          </a:solidFill>
                          <a:latin typeface="Times New Roman"/>
                          <a:ea typeface="Arial"/>
                        </a:rPr>
                        <a:t> (including jobs that would be paid with third party collections), and </a:t>
                      </a:r>
                      <a:r>
                        <a:rPr b="0" lang="en-US" sz="2400" spc="-1" strike="noStrike" u="sng">
                          <a:solidFill>
                            <a:srgbClr val="000000"/>
                          </a:solidFill>
                          <a:uFillTx/>
                          <a:latin typeface="Times New Roman"/>
                          <a:ea typeface="Arial"/>
                        </a:rPr>
                        <a:t>at least 100 fewer jobs in BIA-funded government programs</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81"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F173-D850-405D-B174-4653E20214B5}"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3"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IS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enalty</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SC payment shortfalls penalize Tribes and their members for carrying out the Nation’s most successful initiative to strengthen Indian communities, by forcing program and personnel reducti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84"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20:42:48Z</dcterms:created>
  <dc:creator>Paula A Zawodny</dc:creator>
  <dc:description/>
  <dc:language>en-US</dc:language>
  <cp:lastModifiedBy>amber_ebarb</cp:lastModifiedBy>
  <dcterms:modified xsi:type="dcterms:W3CDTF">2010-02-26T20:28:08Z</dcterms:modified>
  <cp:revision>92</cp:revision>
  <dc:subject/>
  <dc:title>“Contract Support Costs” Under the Indian Self-Determination Act</dc:title>
</cp:coreProperties>
</file>