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dt" idx="16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ftr" idx="17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 type="sldNum" idx="18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D1AFA62-F2D0-4F0D-B9FC-53872FFBEC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4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FB839A7-310E-438F-83AA-BEBC0CA310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6A64C50-2397-4A40-8672-3D7D8518A1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AE79AEB-3625-4378-A8AC-52114188F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1B00CDAD-507E-4A58-B731-DE61CFE97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196920" y="4377960"/>
            <a:ext cx="6369120" cy="45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8A53D83A-B8EF-45ED-AF71-1BC94473B5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229680" y="4377960"/>
            <a:ext cx="6410520" cy="45356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85C5282-7D56-4B19-97E4-6DD0214B4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7814C183-A4A9-4446-9BC6-48C6ADC88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A1C3E5-1C85-4500-A1A7-1B27A2F265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93360" y="4377960"/>
            <a:ext cx="555948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9BC884-99DB-475B-BEBE-8F8EBD9FAE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7000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35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530D0A99-5E7E-458F-877F-45CD2B7437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B721-4788-4165-B67D-78D2309BF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F1E-CF24-4B34-80B9-00E9C8814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8B1F-23EB-434F-96CE-9B6225897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16D5-C17E-407A-B7F5-578EDF0E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5B6FE-3470-48AC-9840-298B51F1C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FD2B-696A-4854-BDA0-8E4CC79CD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BCF4-2FF7-4328-B51F-8C3E64BD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1C6C0-B137-4F8F-B2B4-1E397175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6C547-D23F-48B8-B518-CCBA9C0F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25C0-3209-4892-BAB3-0AF6F2BC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86869-45A0-4D31-B4D6-7661E6344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420F-CA82-44DA-ABF2-5A04404A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3A599-5E79-4AD9-8401-11D28AE43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DA0C6-1484-43DC-A638-EC7D0DFA6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31919-05FE-420D-A11F-D1CE1A7F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5D8D1-1F7D-465A-A22A-5070D0AD8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355A-72FA-46E9-BCAC-64A6E0D5E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C730-6A17-43F8-B29B-373BF9E0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5A245-A2F2-43D4-AB59-8E23BEA3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B393D-1354-4C4A-B201-6DBFF5F5F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E777CF-DC4B-489E-8943-3E7001B6C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3572E-6B76-406C-BC4C-0C494D26F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309-DF20-4DC1-9FF1-87271508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2D0A4-E62F-494B-AA35-D58A469A5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788DF-D4B3-4F4D-B5F5-BA04D8C12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D44F50-1679-4B95-B348-3EEF0E35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49A27-202E-4F83-B0E7-35ECFE82A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E91BB3-9AEE-4057-8B50-288BB3F5E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14A8BE-40DA-4254-B647-A03777AD4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509D1-6D5B-45A7-86DB-330BBE557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EA2BC2-927A-47EC-B0DB-8BAAD328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2B19BD-A81F-4926-AB4A-522884684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2583D-72C6-40F1-A002-D076B053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875F-795A-4617-8B49-35FEFF7CE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8EA657-A6FE-407A-960E-16D99D77B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9531AB-289B-4D78-9315-B4787DD7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FAD103-9C13-47B7-B9BD-A81B61B3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D45E1-ED4D-4B54-8468-ADD34664D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D9E55-CBC0-4D2D-816B-03A5F515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E857C-0E8F-493A-9BF1-629ED923D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3B9CE-86A1-4DA2-AAA4-B28D742F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B5933-50B1-4EAD-AD3D-D91125765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EEE67-FF67-4EFC-9487-9C8CFE45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686DE0-E4BE-4B6D-92C7-70F346939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8CEE-7A72-4192-85C2-A496720AE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C447B-CBED-4270-9937-4302F6AF7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82A06-79DE-46EF-BD27-6E39554A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1ACC-62B2-4F8D-A850-C16B75256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06D4C8-C19B-42A5-A8B1-6D7F5BB81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CC7E70-1A7C-445A-8D7B-14B17E40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3B049-7386-4121-AD4F-C8BF6CB0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A1712-1A9B-4CA4-B90A-8D364D032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39531F-2CA8-4330-8CF9-954B1DC36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FDACE2-7E2B-466B-86F3-2A98C0E03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B5C75-72A7-43FD-8199-04A0F62B8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4963-D04B-4480-BEFF-53D2F0D5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49743-AA12-42D5-A64B-37CDBF06F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82107-7A4E-4081-AAEE-0B409962D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F600-331D-4D56-A99E-382CC1476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1B05-9004-4F1E-9CD8-E13A17432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EA8FD-7258-469E-A085-AD246CA04E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42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4C591-A936-4BDF-8431-436A450ED9E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36CC7-CE90-4314-B7A9-9A8CBFF1FBE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9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161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A4BDB-814E-4C3C-94EF-A2112CDDF69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208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399F-E6F3-455C-B260-8B0CE88CAE5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FY 2011 Indian Affairs’ President’s Budge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1676160" y="3962160"/>
            <a:ext cx="601956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ry Jane Mill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or, Office of Budget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ad Maintenance: $26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Community &amp; Econom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   Tribal 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eral &amp; Mining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18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Trust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&amp; Economic Develop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Maintenance: $50.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Education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      Education (Elem/Secondar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Maintenance: $6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PS&amp;J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afety &amp;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alignments of Program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04560" y="1828800"/>
            <a:ext cx="8458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Operations &amp; Maintenance: $6.3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:  Executive Direction &amp; Adm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Safety &amp;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Y 2011 Indian Affairs Budget Requ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76320" y="61722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ogram Changes: OIP: +6M; Construction: -$51.6M; Settlements: -1M; ILCA: -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time funding:  $50M; Efficiencies: $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432080" y="25509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6" name="Object 9"/>
          <p:cNvGraphicFramePr/>
          <p:nvPr/>
        </p:nvGraphicFramePr>
        <p:xfrm>
          <a:off x="536400" y="4265640"/>
          <a:ext cx="8050320" cy="180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4265640"/>
                    <a:ext cx="805032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18" name="Chart 7" descr=""/>
          <p:cNvPicPr/>
          <p:nvPr/>
        </p:nvPicPr>
        <p:blipFill>
          <a:blip r:embed="rId3"/>
          <a:stretch/>
        </p:blipFill>
        <p:spPr>
          <a:xfrm>
            <a:off x="225360" y="225360"/>
            <a:ext cx="6407280" cy="42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9" name="Object 27"/>
          <p:cNvGraphicFramePr/>
          <p:nvPr/>
        </p:nvGraphicFramePr>
        <p:xfrm>
          <a:off x="1066680" y="3809880"/>
          <a:ext cx="7248600" cy="2409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0" name="Object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809880"/>
                    <a:ext cx="724860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724280" y="228240"/>
            <a:ext cx="426744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peration of Indian Programs – By Activit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2212560" y="3276720"/>
            <a:ext cx="508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S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18"/>
          <p:cNvSpPr/>
          <p:nvPr/>
        </p:nvSpPr>
        <p:spPr>
          <a:xfrm>
            <a:off x="4038480" y="23860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31"/>
          <p:cNvSpPr/>
          <p:nvPr/>
        </p:nvSpPr>
        <p:spPr>
          <a:xfrm>
            <a:off x="629280" y="6284880"/>
            <a:ext cx="84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gm Changes:  TG: +26M; HS: +2M; TNR: +1.9M; PS&amp;J: +$20M; EDUC: +$6.9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Chart 13" descr=""/>
          <p:cNvPicPr/>
          <p:nvPr/>
        </p:nvPicPr>
        <p:blipFill>
          <a:blip r:embed="rId3"/>
          <a:stretch/>
        </p:blipFill>
        <p:spPr>
          <a:xfrm>
            <a:off x="146160" y="225360"/>
            <a:ext cx="5572080" cy="39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876560" y="990360"/>
            <a:ext cx="3429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Constru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y Activit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6"/>
          <p:cNvSpPr/>
          <p:nvPr/>
        </p:nvSpPr>
        <p:spPr>
          <a:xfrm>
            <a:off x="457200" y="586728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School:  Dennehotso Phase II, Chinle, AZ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placement Facility: Riverside Indian School Phase I, Riverside,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ductions: ~$55M;  Realignments: ~$48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8" name="Object 10"/>
          <p:cNvGraphicFramePr/>
          <p:nvPr/>
        </p:nvGraphicFramePr>
        <p:xfrm>
          <a:off x="914400" y="3809880"/>
          <a:ext cx="7615080" cy="198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9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809880"/>
                    <a:ext cx="761508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0" name="Chart 7" descr=""/>
          <p:cNvPicPr/>
          <p:nvPr/>
        </p:nvPicPr>
        <p:blipFill>
          <a:blip r:embed="rId3"/>
          <a:stretch/>
        </p:blipFill>
        <p:spPr>
          <a:xfrm>
            <a:off x="-6480" y="-6480"/>
            <a:ext cx="5803920" cy="3975120"/>
          </a:xfrm>
          <a:prstGeom prst="rect">
            <a:avLst/>
          </a:prstGeom>
          <a:ln w="0">
            <a:noFill/>
          </a:ln>
        </p:spPr>
      </p:pic>
      <p:sp>
        <p:nvSpPr>
          <p:cNvPr id="331" name="TextBox 8"/>
          <p:cNvSpPr/>
          <p:nvPr/>
        </p:nvSpPr>
        <p:spPr>
          <a:xfrm>
            <a:off x="3057480" y="1371600"/>
            <a:ext cx="146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3735"/>
                </a:solidFill>
                <a:latin typeface="Calibri"/>
              </a:rPr>
              <a:t>Land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amp;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Wat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ttlements/Miscellaneous Pay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3" name="Object 5"/>
          <p:cNvGraphicFramePr/>
          <p:nvPr/>
        </p:nvGraphicFramePr>
        <p:xfrm>
          <a:off x="228600" y="1676520"/>
          <a:ext cx="8558280" cy="404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58280" cy="404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5" name="Object 16"/>
          <p:cNvGraphicFramePr/>
          <p:nvPr/>
        </p:nvGraphicFramePr>
        <p:xfrm>
          <a:off x="12600" y="762120"/>
          <a:ext cx="7288200" cy="4078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6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0" y="762120"/>
                    <a:ext cx="7288200" cy="40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dian Guaranteed Loa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Text Box 5"/>
          <p:cNvSpPr/>
          <p:nvPr/>
        </p:nvSpPr>
        <p:spPr>
          <a:xfrm>
            <a:off x="1981080" y="62485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ogram Chan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9"/>
          <p:cNvSpPr/>
          <p:nvPr/>
        </p:nvSpPr>
        <p:spPr>
          <a:xfrm>
            <a:off x="2136960" y="297180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id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0" name="Object 18"/>
          <p:cNvGraphicFramePr/>
          <p:nvPr/>
        </p:nvGraphicFramePr>
        <p:xfrm>
          <a:off x="838080" y="4495680"/>
          <a:ext cx="7616880" cy="15638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1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495680"/>
                    <a:ext cx="7616880" cy="15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952880" y="0"/>
            <a:ext cx="3733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udget Distrib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43" name="Object 11"/>
          <p:cNvGraphicFramePr/>
          <p:nvPr/>
        </p:nvGraphicFramePr>
        <p:xfrm>
          <a:off x="914400" y="4038480"/>
          <a:ext cx="7164360" cy="254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4038480"/>
                    <a:ext cx="716436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" name="Text Box 12"/>
          <p:cNvSpPr/>
          <p:nvPr/>
        </p:nvSpPr>
        <p:spPr>
          <a:xfrm>
            <a:off x="5867280" y="1219320"/>
            <a:ext cx="2971800" cy="2288520"/>
          </a:xfrm>
          <a:prstGeom prst="rect">
            <a:avLst/>
          </a:prstGeom>
          <a:noFill/>
          <a:ln w="158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00"/>
                </a:solidFill>
                <a:latin typeface="Arial"/>
              </a:rPr>
              <a:t>TPA chang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Spt:        +$19.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DF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+$  2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 &amp; Needy:     +$  3.0M     Social Workers:     +$ 2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nnett Freeze”:  +$ 1.2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ergy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$ 1.0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Chart 7" descr=""/>
          <p:cNvPicPr/>
          <p:nvPr/>
        </p:nvPicPr>
        <p:blipFill>
          <a:blip r:embed="rId3"/>
          <a:stretch/>
        </p:blipFill>
        <p:spPr>
          <a:xfrm>
            <a:off x="378000" y="298440"/>
            <a:ext cx="5479920" cy="37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WordArt 4"/>
          <p:cNvSpPr txBox="1"/>
          <p:nvPr/>
        </p:nvSpPr>
        <p:spPr>
          <a:xfrm>
            <a:off x="1905120" y="2133720"/>
            <a:ext cx="4576680" cy="24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cc00"/>
                  </a:solidFill>
                  <a:miter/>
                </a:ln>
                <a:solidFill>
                  <a:srgbClr val="008000">
                    <a:alpha val="99000"/>
                  </a:srgbClr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Questions?</a:t>
            </a:r>
            <a:endParaRPr b="0" lang="en-US" sz="1800" spc="1" strike="noStrike">
              <a:ln w="9360">
                <a:solidFill>
                  <a:srgbClr val="ffcc00"/>
                </a:solidFill>
                <a:miter/>
              </a:ln>
              <a:solidFill>
                <a:srgbClr val="008000">
                  <a:alpha val="99000"/>
                </a:srgbClr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FY 2011 President’s Budge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$2,566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-2% below FY 10 enacted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hange after one-time fund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gressional enacted level maintain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b050"/>
                </a:solidFill>
                <a:latin typeface="Arial"/>
              </a:rPr>
              <a:t>Empowering Tribal Na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ing Nation-to-Nation Relationships:  $29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ing Indian Countr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$20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ancing Indian Educa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8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ing Trust &amp; Land Manag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$11.8M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ergy Frontier  $2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Adaptation $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29760" indent="-2804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Advancing Nation-to-Nation Relationships:  $29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act Support &amp; ISDF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1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all &amp; Needy Trib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9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Worker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2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termination Specialist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ellfish Settlement final adjust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Management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sition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0.45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584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3060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127160" indent="-2570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692280" indent="-347760">
              <a:spcBef>
                <a:spcPts val="249"/>
              </a:spcBef>
              <a:buClr>
                <a:srgbClr val="6699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Protecting Indian Country:   $20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BI Agen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19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ntion Center Maintena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$  1.0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Advancing Indian Education: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c00000"/>
                </a:solidFill>
                <a:latin typeface="Arial"/>
              </a:rPr>
              <a:t>$8.9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SEP Program Adjustmen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3.9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vironmental Audi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2.0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ibal Grant Suppor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$3.0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Secretarial Priorities in Indian Affair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52280" y="1676520"/>
            <a:ext cx="86868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Improving Trust &amp; Land Management: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       $11.8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Energy Frontier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2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mate Change Adapt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$200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Natural 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2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dastral Survey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659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879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er progr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.5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ety of Da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3.8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0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47880" indent="-281880">
              <a:spcBef>
                <a:spcPts val="575"/>
              </a:spcBef>
              <a:buClr>
                <a:srgbClr val="cccc00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4560" indent="-33372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229760" indent="-280440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715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0066"/>
                </a:solidFill>
                <a:latin typeface="Arial"/>
              </a:rPr>
              <a:t>FY 2011 IA President’s Budget</a:t>
            </a: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04920" y="1447920"/>
            <a:ext cx="8610480" cy="46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dget Supports Tribal Priori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s defined by Tribal Budget Advisory Committe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275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ublic Saf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duc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onomic Development (includes Energ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atural Resour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649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0000"/>
                </a:solidFill>
                <a:latin typeface="Arial"/>
              </a:rPr>
              <a:t>Overarching: Contract Support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eductions – 2011 budge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-time TCU forward fun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0.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partment-wide Saving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5.2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55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ate Backlog (completed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7.5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ment Complet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2.4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C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2.0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c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$  1.7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4"/>
          <p:cNvSpPr/>
          <p:nvPr/>
        </p:nvSpPr>
        <p:spPr>
          <a:xfrm>
            <a:off x="6861600" y="14479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 in Mill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6T00:26:11Z</dcterms:created>
  <dc:creator>Rick Miller</dc:creator>
  <dc:description/>
  <dc:language>en-US</dc:language>
  <cp:lastModifiedBy>maryjane.miller</cp:lastModifiedBy>
  <dcterms:modified xsi:type="dcterms:W3CDTF">2010-02-26T19:45:52Z</dcterms:modified>
  <cp:revision>133</cp:revision>
  <dc:subject/>
  <dc:title>Construction  by Activity</dc:title>
</cp:coreProperties>
</file>