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6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ftr" idx="17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 type="sldNum" idx="18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870BB86-A748-4859-8827-B7DA0CFA1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628C12-AA39-48CD-8FA7-EDCE40AE6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FC82F5-56D6-4D23-8F4B-39714E4C1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EDB579D-28B8-489F-977E-C605E88A7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5AE16A-D9C5-4C4C-9974-BD3039755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96920" y="4377960"/>
            <a:ext cx="636912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F92FCF-136D-4A5F-BCD8-D662AE299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229680" y="4377960"/>
            <a:ext cx="6410520" cy="4535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EAFEC1-BCA4-44FC-AF6A-6FEC2D441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A8DCAC-B1D0-480B-90AF-6FD8F2789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CA39C3-00CF-4D3D-8582-8AB8D6663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D570A1-2931-4858-9DC2-9B32625A6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C3F6E6A-033C-41B1-96E6-7D9099960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531-8701-4674-ACF5-13570C7E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372-3F97-4F8C-B83F-7946F936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6B2-93A9-4D77-835E-3EA6C1D6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381-7617-4414-9A73-3F1BD440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1C4E-98EB-414B-9773-60BFE092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6458-4A80-43BC-97A3-34BD543F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F776-E659-469D-A463-ABC9E250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4B33-CC48-4B80-B837-0DDFE2B4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CCCC-79B6-41A0-A681-60C22DC7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1FEB-0310-4414-9AB0-CC9A5E3D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3524-56D5-4D81-877D-8316BBE1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A56-F5E0-4E28-81F4-2C1E36A3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62BF-1A5E-4330-8D44-84307053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9F09-7D28-4833-9BEC-FB60702F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6608-E876-40F1-80AC-6636916B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868D-B50D-447F-A286-B377F47F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F159-FB0D-4BF8-9F0C-E6B2A690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F99B-FD6F-4ADA-A6BD-812D1FC9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5E176-600A-4815-A1AC-EDAD19C2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50B7-7F16-4961-A6D2-986493A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9FAD8-D0A4-4783-A146-28234253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8E86-AE57-4EC4-BF4E-4E5632A6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B7E-AA7F-43A3-86FD-C8C2FAB5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A501-ADF9-4B12-BD72-2FD67A55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774A0-45C0-4160-8085-7BB4C179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5FD5-F5A7-4CC2-8499-51E0E8D1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284CB-423A-4A51-BF6F-A8539F3A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F9401-29C3-4668-B994-923F41C6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49CA-8D3F-4A60-8021-0E78548B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A1DC-5308-4D8E-BD26-A3AE3449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E5BA-17C7-4199-A899-8D0E04AB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4EFB-8189-41CC-9537-F9DF62E6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7E6D0-8BAC-46E7-A466-54AE0A72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A20-0104-4FE7-AD9B-E3D5A995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B7536-DCB1-4F34-91F5-879CD103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B1656-6715-49B9-81E0-161577E6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88627-BD70-4E8E-A90D-DAC61FF6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7DF5D-E15C-4258-A1CB-09B07BDC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BC86-D0BD-42CC-8824-84ED853D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A189-15DC-4C1D-958E-EB086761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24C3B-24BE-4C78-8522-67878100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320B9-7BDD-484A-8B5D-1F811E54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4B649-476B-46FA-BAB3-2CA9E9B0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59CF-BDB0-4255-AC33-D1ED7E15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39A-93DA-4C53-96C6-24E301A9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25E25-721F-43C2-B9E2-EA560888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134F0-7FF2-437A-A2F0-2913E7A5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CE1F1-3734-4834-B130-48E309BD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302D5-534C-462F-A18A-E5C816BB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F88AC-F68D-4504-B523-CA08DA4E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AFCAC-4CA0-4990-9388-50677B0A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E46A4-DEA1-4500-86B4-BBB73351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0C00C-D85D-4DC2-BE9C-5D7F37A7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9A479-A4D0-418B-BCDA-43CFD7E8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D3E7F-2839-461E-A089-50A21AD1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B48-97B8-4158-A1EB-B1E4BA1F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17CA3-F797-4947-9A4E-9CD4136D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88B-5E9C-4E0D-9A4C-C87FDBC9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FB6-20C3-4FA0-BA2D-F3BAE303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ECE-1216-4C34-893A-1361BCB6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4577-D681-4A3D-A990-68ECBA235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5EE6-9907-4D5E-87F8-E44AC6572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0B74-A897-4203-A7D9-527ECAF019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6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15F9-0AB2-4951-9E76-1A97BAE1F1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0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5E88-109E-411E-AF97-1306008994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Y 2011 Indian Affairs’ President’s Budge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676160" y="3962160"/>
            <a:ext cx="60195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y Jane Mi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Office of Budge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alignments of Progra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 Maintenance: $26.4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Community &amp; Econom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     Trib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&amp; Min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8.5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 Trust 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&amp; Economic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alignments of Progra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ies Maintenance: $50.7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 Education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        Education (Elem/Second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ies Maintenance: $6.5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 PS&amp;J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afety &amp;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alignments of Progra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8288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ies Operations &amp; Maintenance: $6.3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 Executive Direction &amp; 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afety &amp;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Y 2011 Indian Affairs Budget 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76320" y="61722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 Changes: OIP: +6M; Construction: -$51.6M; Settlements: -1M; ILCA: -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time funding:  $50M; Efficiencies: $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1432080" y="2550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9"/>
          <p:cNvGraphicFramePr/>
          <p:nvPr/>
        </p:nvGraphicFramePr>
        <p:xfrm>
          <a:off x="536400" y="4265640"/>
          <a:ext cx="8050320" cy="180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4265640"/>
                    <a:ext cx="80503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8" name="Chart 7" descr=""/>
          <p:cNvPicPr/>
          <p:nvPr/>
        </p:nvPicPr>
        <p:blipFill>
          <a:blip r:embed="rId3"/>
          <a:stretch/>
        </p:blipFill>
        <p:spPr>
          <a:xfrm>
            <a:off x="225360" y="225360"/>
            <a:ext cx="64072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Object 27"/>
          <p:cNvGraphicFramePr/>
          <p:nvPr/>
        </p:nvGraphicFramePr>
        <p:xfrm>
          <a:off x="1066680" y="3809880"/>
          <a:ext cx="724860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9880"/>
                    <a:ext cx="72486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724280" y="228240"/>
            <a:ext cx="426744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on of Indian Programs – By Ac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2212560" y="327672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4038480" y="2386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629280" y="6284880"/>
            <a:ext cx="84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m Changes:  TG: +26M; HS: +2M; TNR: +1.9M; PS&amp;J: +$20M; EDUC: +$6.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Chart 13" descr=""/>
          <p:cNvPicPr/>
          <p:nvPr/>
        </p:nvPicPr>
        <p:blipFill>
          <a:blip r:embed="rId3"/>
          <a:stretch/>
        </p:blipFill>
        <p:spPr>
          <a:xfrm>
            <a:off x="146160" y="225360"/>
            <a:ext cx="55720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876560" y="99036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stru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y 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6"/>
          <p:cNvSpPr/>
          <p:nvPr/>
        </p:nvSpPr>
        <p:spPr>
          <a:xfrm>
            <a:off x="457200" y="58672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ment School:  Dennehotso Phase II, Chinle, AZ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ment Facility: Riverside Indian School Phase I, Riverside,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s: ~$55M;  Realignments: ~$48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10"/>
          <p:cNvGraphicFramePr/>
          <p:nvPr/>
        </p:nvGraphicFramePr>
        <p:xfrm>
          <a:off x="914400" y="3809880"/>
          <a:ext cx="7615080" cy="198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9880"/>
                    <a:ext cx="761508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Chart 7" descr=""/>
          <p:cNvPicPr/>
          <p:nvPr/>
        </p:nvPicPr>
        <p:blipFill>
          <a:blip r:embed="rId3"/>
          <a:stretch/>
        </p:blipFill>
        <p:spPr>
          <a:xfrm>
            <a:off x="-6480" y="-6480"/>
            <a:ext cx="5803920" cy="39751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8"/>
          <p:cNvSpPr/>
          <p:nvPr/>
        </p:nvSpPr>
        <p:spPr>
          <a:xfrm>
            <a:off x="3057480" y="137160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La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ttlements/Miscellaneous Pay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3" name="Object 5"/>
          <p:cNvGraphicFramePr/>
          <p:nvPr/>
        </p:nvGraphicFramePr>
        <p:xfrm>
          <a:off x="228600" y="1676520"/>
          <a:ext cx="8558280" cy="40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58280" cy="40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Object 16"/>
          <p:cNvGraphicFramePr/>
          <p:nvPr/>
        </p:nvGraphicFramePr>
        <p:xfrm>
          <a:off x="12600" y="762120"/>
          <a:ext cx="728820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762120"/>
                    <a:ext cx="728820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an Guaranteed Loa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98108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2136960" y="29718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8"/>
          <p:cNvGraphicFramePr/>
          <p:nvPr/>
        </p:nvGraphicFramePr>
        <p:xfrm>
          <a:off x="838080" y="4495680"/>
          <a:ext cx="7616880" cy="156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495680"/>
                    <a:ext cx="7616880" cy="15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dget 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914400" y="4038480"/>
          <a:ext cx="7164360" cy="25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716436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12"/>
          <p:cNvSpPr/>
          <p:nvPr/>
        </p:nvSpPr>
        <p:spPr>
          <a:xfrm>
            <a:off x="5867280" y="1219320"/>
            <a:ext cx="2971800" cy="2288520"/>
          </a:xfrm>
          <a:prstGeom prst="rect">
            <a:avLst/>
          </a:prstGeom>
          <a:noFill/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PA chang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 Spt:        +$19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DF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+$  2.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&amp; Needy:     +$  3.0M     Social Workers:     +$ 2.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nett Freeze”:  +$ 1.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$ 1.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Chart 7" descr=""/>
          <p:cNvPicPr/>
          <p:nvPr/>
        </p:nvPicPr>
        <p:blipFill>
          <a:blip r:embed="rId3"/>
          <a:stretch/>
        </p:blipFill>
        <p:spPr>
          <a:xfrm>
            <a:off x="378000" y="298440"/>
            <a:ext cx="547992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4"/>
          <p:cNvSpPr txBox="1"/>
          <p:nvPr/>
        </p:nvSpPr>
        <p:spPr>
          <a:xfrm>
            <a:off x="1905120" y="2133720"/>
            <a:ext cx="4576680" cy="24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8000">
                    <a:alpha val="99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stions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8000">
                  <a:alpha val="99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Y 2011 President’s Budg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2,566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2% below FY 10 enacted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hange after one-time fu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gressional enacted level mainta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Y 2011 Secretarial Priorities in Indian Affairs Budge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52280" y="1676520"/>
            <a:ext cx="8686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Empowering Tribal N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ing Nation-to-Nation Relationships:  $29.9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249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ng Indian Count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$20.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ing Indian Edu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.9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ing Trust &amp; Land Manage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$11.8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nergy Frontier  $2.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 Adaptation $2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28188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29760" indent="-28044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Y 2011 Secretarial Priorities in Indian Affairs Budge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2280" y="1676520"/>
            <a:ext cx="8686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Advancing Nation-to-Nation Relationships:  $29.9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Support &amp; ISD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1.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&amp; Needy Trib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.9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Work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.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Determination Specialis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llfish Settlement final adjust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anage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.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.4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249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27160" indent="-25704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Y 2011 Secretarial Priorities in Indian Affairs Budge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52280" y="1676520"/>
            <a:ext cx="8686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249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tecting Indian Country:   $20.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BI Ag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9.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ntion Center Mainten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 1.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Y 2011 Secretarial Priorities in Indian Affairs Budge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676520"/>
            <a:ext cx="8686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vancing Indian Education: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$8.9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EP Program Adjustmen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3.9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 Audi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2.0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bal Grant Sup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3.0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Y 2011 Secretarial Priorities in Indian Affairs Budge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52280" y="1676520"/>
            <a:ext cx="8686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mproving Trust &amp; Land Management: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    $11.8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nergy Frontier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.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 Adap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$2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Natural Re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stral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659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879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of D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.8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28188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29760" indent="-28044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Y 2011 IA President’s Budge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447920"/>
            <a:ext cx="8610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dget Supports Tribal Prio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defined by Tribal Budget Advisory Committe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c Safe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nomic Development (includes Energ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Overarching: Contract Support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ductions – 2011 budg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ime TCU forward fu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0.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-wide Sav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.2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5.4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te Backlog (complete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7.5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lement Comple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2.4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2.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1.7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861600" y="14479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0:26:11Z</dcterms:created>
  <dc:creator>Rick Miller</dc:creator>
  <dc:description/>
  <dc:language>en-US</dc:language>
  <cp:lastModifiedBy>maryjane.miller</cp:lastModifiedBy>
  <dcterms:modified xsi:type="dcterms:W3CDTF">2010-02-26T19:45:52Z</dcterms:modified>
  <cp:revision>133</cp:revision>
  <dc:subject/>
  <dc:title>Construction  by Activity</dc:title>
</cp:coreProperties>
</file>