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353497-A8F5-4048-8D6B-EBB14542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TextBox 2"/>
          <p:cNvSpPr/>
          <p:nvPr/>
        </p:nvSpPr>
        <p:spPr>
          <a:xfrm>
            <a:off x="233280" y="4724280"/>
            <a:ext cx="646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3280" y="4343400"/>
          <a:ext cx="6699240" cy="4267080"/>
        </p:xfrm>
        <a:graphic>
          <a:graphicData uri="http://schemas.openxmlformats.org/drawingml/2006/table">
            <a:tbl>
              <a:tblPr/>
              <a:tblGrid>
                <a:gridCol w="1479600"/>
                <a:gridCol w="390600"/>
                <a:gridCol w="544320"/>
                <a:gridCol w="466920"/>
                <a:gridCol w="468360"/>
                <a:gridCol w="3349440"/>
              </a:tblGrid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and Related Chang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Tot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ive Dir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ffice of Information Technology will have an internal transfer of $16M to Trust Services for the management of the Trust Funds Management System (TFAS) and IT will have a total net decrease of -$150k as a result of cost savings for Travel, IT reduction and acquisi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5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decrease of -$1.589M is a cost savings resulting from in-sourcing the records indexing function for the Office of 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increase of +$72k to fund the e-OPF initiative to be funded under Budget, Finance and Administration for all of OS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ternal transfer of $4,000 to the Office of Field Operations for Beneficiary Processes Program for the Wyandotte tribe who returned to the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decrease of -$1M is a result of reduced workload in the Data Quality and Integrity program and a reduction of -$50k representing savings achieved by beneficiary use of the OST Debit Card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crease of +$4,000 as a result of an internal transfer from the Office of External Affairs’ internal transfer for Beneficiary Payment Processing for the Wyandotte tri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will also receive an internal transfer of +$16M from the Office of Information Technology for the management of the Trust Funds Management System (TFAS). +$800k is a result of increase in labor expense primarily associated with workload and -$60k decrease as a result of automation of one-time disbursements transac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TA will have -$2k in cost savings as a result of the Department-wide management efficiencies and -$25M as a result settlement agreement between the Cobell plantiffs and the U.S. Governmen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OS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,8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15" name=""/>
          <p:cNvGraphicFramePr/>
          <p:nvPr/>
        </p:nvGraphicFramePr>
        <p:xfrm>
          <a:off x="233280" y="4343400"/>
          <a:ext cx="6699240" cy="4267080"/>
        </p:xfrm>
        <a:graphic>
          <a:graphicData uri="http://schemas.openxmlformats.org/drawingml/2006/table">
            <a:tbl>
              <a:tblPr/>
              <a:tblGrid>
                <a:gridCol w="1479600"/>
                <a:gridCol w="390600"/>
                <a:gridCol w="544320"/>
                <a:gridCol w="466920"/>
                <a:gridCol w="468360"/>
                <a:gridCol w="3349440"/>
              </a:tblGrid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and Related Chang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Tot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ive Dir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ffice of Information Technology will have an internal transfer of $16M to Trust Services for the management of the Trust Funds Management System (TFAS) and IT will have a total net decrease of -$150k as a result of cost savings for Travel, IT reduction and acquisi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5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decrease of -$1.589M is a cost savings resulting from in-sourcing the records indexing function for the Office of Trust Rec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 program increase of +$72k to fund the e-OPF initiative to be funded under Budget, Finance and Administration for all of OS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ternal transfer of $4,000 to the Office of Field Operations for Beneficiary Processes Program for the Wyandotte tribe who returned to the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decrease of -$1M is a result of reduced workload in the Data Quality and Integrity program and a reduction of -$50k representing savings achieved by beneficiary use of the OST Debit Card Progr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 and an increase of +$4,000 as a result of an internal transfer from the Office of External Affairs’ internal transfer for Beneficiary Payment Processing for the Wyandotte tri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Costs increas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 will also receive an internal transfer of +$16M from the Office of Information Technology for the management of the Trust Funds Management System (TFAS). +$800k is a result of increase in labor expense primarily associated with workload and -$60k decrease as a result of automation of one-time disbursements transac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6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TA will have -$2k in cost savings as a result of the Department-wide management efficiencies and -$25M as a result settlement agreement between the Cobell plantiffs and the U.S. Governmen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OS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6,8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460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460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54F-98ED-4FA1-B3ED-BC71C829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29C-7E90-4730-8370-8A5CFEB4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7CD-998C-4D66-AA9F-4A76E65D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7F4-2DB3-425B-B9A4-097021F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EF6-F70D-4B95-8977-1EC2DCC9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5BE8-1C31-4201-8AC7-B38AEAD3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61E2-32FB-43BC-B86B-E213190E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5BC-81DD-442A-8CEE-CBE943B5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6C7D-D8E1-4A23-94B0-37658AF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53F-6EA6-41B3-908B-ACCDC61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407D-4317-4F85-8695-9764B55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F73-4DFC-452E-9588-86D0D5E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965C-AB25-4E6A-A36A-449050A0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22AD-9527-4D2D-B81B-74821FC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390F-CDBE-4CEA-8D46-F258F67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B24-7D05-45AE-BCDB-8C0441B9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B9A-5D89-42B2-AD82-6342DCF1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54C-A33D-4924-BB3A-E1F8CD0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8B3-E7AF-484B-8762-AEF208DF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13D-8A6C-4063-808C-88F85C0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49C-0BB9-41F7-A0BF-48747DF4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15A-C1FC-4278-AA9B-6B59127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3F6-8B5A-4A5B-95A0-2B71313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918-AD2E-4DFB-936D-CF42332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3CD5-41BF-4FED-A33A-00FCF120B3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A35-53C5-4B50-A176-F4E2D2E2C8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181160"/>
            <a:ext cx="770076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aramond"/>
              </a:rPr>
              <a:t>Office of the Special Trustee for American Indians</a:t>
            </a:r>
            <a:br>
              <a:rPr sz="4600"/>
            </a:br>
            <a:r>
              <a:rPr b="1" lang="en-US" sz="46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00"/>
                </a:solidFill>
                <a:latin typeface="Garamond"/>
              </a:rPr>
              <a:t>FY 2011 – Budget Briefing</a:t>
            </a:r>
            <a:br>
              <a:rPr sz="4200"/>
            </a:br>
            <a:r>
              <a:rPr b="1" lang="en-US" sz="4000" spc="-1" strike="noStrike">
                <a:solidFill>
                  <a:srgbClr val="006600"/>
                </a:solidFill>
                <a:latin typeface="Garamond"/>
              </a:rPr>
              <a:t> Tribal Budget Advisory Council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90920" y="4691160"/>
            <a:ext cx="6400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March 15, 2010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 Steve McEntegart,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Director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Budget, Finance &amp; Administration</a:t>
            </a:r>
            <a:br>
              <a:rPr sz="2300"/>
            </a:br>
            <a:r>
              <a:rPr b="1" lang="en-US" sz="2300" spc="-1" strike="noStrike">
                <a:solidFill>
                  <a:srgbClr val="006600"/>
                </a:solidFill>
                <a:latin typeface="Garamond"/>
              </a:rPr>
              <a:t>202-208-3014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Office of the Special Trustee for American Indian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09480" y="914400"/>
            <a:ext cx="8077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nt Accomplish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.gov was implemented in FY 2009 to allow lessees to make lease payments on-line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avoid mailing checks to the lockbox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ffice of Appraisal Services (OAS) has eliminated 95% of the backlog for appraisal request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2009 Indian trust financial activity – OST held in trust monetary assets of $3.6 billion (as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9/30/09).  $460 million in 384,000 individual accounts and $3.1 billion in 2,700 Tribal accounts.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These are audited balances that are also reconciled daily with Treas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ad receipts of $890 million, including investment income of $156.5 million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isbursements of $746.9 mill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76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9"/>
          <p:cNvSpPr/>
          <p:nvPr/>
        </p:nvSpPr>
        <p:spPr>
          <a:xfrm>
            <a:off x="1219320" y="212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aramond"/>
              </a:rPr>
              <a:t>FY 2011 OST President’s 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1693800"/>
          <a:ext cx="6400800" cy="2135160"/>
        </p:xfrm>
        <a:graphic>
          <a:graphicData uri="http://schemas.openxmlformats.org/drawingml/2006/table">
            <a:tbl>
              <a:tblPr/>
              <a:tblGrid>
                <a:gridCol w="3048120"/>
                <a:gridCol w="1219320"/>
                <a:gridCol w="1185840"/>
                <a:gridCol w="947520"/>
              </a:tblGrid>
              <a:tr h="118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$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0 En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Y 2011 President’s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 (+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(-)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m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the Special Trus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,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 of Historical Trust Accou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dcdcdc"/>
                        </a:gs>
                        <a:gs pos="50000">
                          <a:srgbClr val="ffffff"/>
                        </a:gs>
                        <a:gs pos="100000">
                          <a:srgbClr val="dcdcdc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5,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– FY 2011 President’s Budge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112760"/>
          <a:ext cx="8305920" cy="4846680"/>
        </p:xfrm>
        <a:graphic>
          <a:graphicData uri="http://schemas.openxmlformats.org/drawingml/2006/table">
            <a:tbl>
              <a:tblPr/>
              <a:tblGrid>
                <a:gridCol w="2946600"/>
                <a:gridCol w="1165320"/>
                <a:gridCol w="1044360"/>
                <a:gridCol w="1044720"/>
                <a:gridCol w="961920"/>
                <a:gridCol w="1143000"/>
              </a:tblGrid>
              <a:tr h="106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Trans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 President’s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1b3c16"/>
                        </a:gs>
                        <a:gs pos="50000">
                          <a:srgbClr val="3b812f"/>
                        </a:gs>
                        <a:gs pos="100000">
                          <a:srgbClr val="1b3c1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ecutive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Technolog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, Finance &amp;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Review &amp;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Accoun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aisal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s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3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ical Trust Acco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,9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6,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 w="1368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5000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1" name="Text Box 110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3520" y="1852560"/>
          <a:ext cx="8076960" cy="3989520"/>
        </p:xfrm>
        <a:graphic>
          <a:graphicData uri="http://schemas.openxmlformats.org/drawingml/2006/table">
            <a:tbl>
              <a:tblPr/>
              <a:tblGrid>
                <a:gridCol w="6781680"/>
                <a:gridCol w="1295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 Summary of Program Increases/Decre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381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solidFill>
                      <a:srgbClr val="28571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381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solidFill>
                      <a:srgbClr val="28571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quisition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l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lated Ch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eral Trust Program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eral Trust Program Decr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7,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1872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cc9900"/>
                      </a:solidFill>
                    </a:lnL>
                    <a:lnR w="1872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381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,7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cc9900"/>
                      </a:solidFill>
                    </a:lnL>
                    <a:lnR w="38160">
                      <a:solidFill>
                        <a:srgbClr val="cc9900"/>
                      </a:solidFill>
                    </a:lnR>
                    <a:lnT w="18720">
                      <a:solidFill>
                        <a:srgbClr val="cc9900"/>
                      </a:solidFill>
                    </a:lnT>
                    <a:lnB w="381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367"/>
          <p:cNvSpPr/>
          <p:nvPr/>
        </p:nvSpPr>
        <p:spPr>
          <a:xfrm>
            <a:off x="8534520" y="6324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– FY 2011 President’s Budge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/ FY 2011 Prioriti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Text Box 245"/>
          <p:cNvSpPr/>
          <p:nvPr/>
        </p:nvSpPr>
        <p:spPr>
          <a:xfrm>
            <a:off x="8458200" y="6324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7"/>
          <p:cNvSpPr/>
          <p:nvPr/>
        </p:nvSpPr>
        <p:spPr>
          <a:xfrm>
            <a:off x="990720" y="1066680"/>
            <a:ext cx="71625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 has four funding priorities at the FY 2011 target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Services program increase of - $8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 probate processing without carry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TA will continue to research the rightful owners of residu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alances in special deposit accounts and distribute $1.5 million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individual Indians, Tribes, and third pa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, Finance &amp; Administration - $7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Official Personnel Folder (eOPF)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fund fixed costs and related changes - $1.058 mi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absorption of increas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Garamond"/>
              </a:rPr>
              <a:t>OST / FY 2011 Decreas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Text Box 245"/>
          <p:cNvSpPr/>
          <p:nvPr/>
        </p:nvSpPr>
        <p:spPr>
          <a:xfrm>
            <a:off x="8458200" y="6324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7"/>
          <p:cNvSpPr/>
          <p:nvPr/>
        </p:nvSpPr>
        <p:spPr>
          <a:xfrm>
            <a:off x="838080" y="838080"/>
            <a:ext cx="7696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Historical Trust Accounting has a program decrease of - $25 mi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duction assumes enactment in 2010 of a settlement of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bell v. Salaz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Trust Records has a program decrease of - $1.589 mi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duction is a result of in-sourcing and reduced records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st Accountability has program decrease of - $1.1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Development Initiative program has cost savings of $50k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sbursements to trust beneficiaries enrolled in OST’s Debit Card program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and $1 million from the Data Quality and Integrity program as a resul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ecreasing realty post-conversion clean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ice of Trust Services has a program decrease of - $60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savings resulting from the automation of one-time disbursemen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gingram</cp:lastModifiedBy>
  <dcterms:modified xsi:type="dcterms:W3CDTF">2010-02-19T17:18:58Z</dcterms:modified>
  <cp:revision>330</cp:revision>
  <dc:subject/>
  <dc:title>Office of the Special Trustee for American Indians</dc:title>
</cp:coreProperties>
</file>