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D3C2C99-A476-4870-9831-95BB1C3FB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TextBox 2"/>
          <p:cNvSpPr/>
          <p:nvPr/>
        </p:nvSpPr>
        <p:spPr>
          <a:xfrm>
            <a:off x="233280" y="4724280"/>
            <a:ext cx="6465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33280" y="4343400"/>
          <a:ext cx="6699240" cy="4267080"/>
        </p:xfrm>
        <a:graphic>
          <a:graphicData uri="http://schemas.openxmlformats.org/drawingml/2006/table">
            <a:tbl>
              <a:tblPr/>
              <a:tblGrid>
                <a:gridCol w="1479600"/>
                <a:gridCol w="390600"/>
                <a:gridCol w="544320"/>
                <a:gridCol w="466920"/>
                <a:gridCol w="468360"/>
                <a:gridCol w="3349440"/>
              </a:tblGrid>
              <a:tr h="450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and Related Chang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∆            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l Transfe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 Chang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 Total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ecutive Dir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 Technology Serv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6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6,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Office of Information Technology will have an internal transfer of $16M to Trust Services for the management of the Trust Funds Management System (TFAS) and IT will have a total net decrease of -$150k as a result of cost savings for Travel, IT reduction and acquisition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Reco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,5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,4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 and a program decrease of -$1.589M is a cost savings resulting from in-sourcing the records indexing function for the Office of Trust Reco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dget, Finance &amp; Administr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 and a program increase of +$72k to fund the e-OPF initiative to be funded under Budget, Finance and Administration for all of OST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rnal Affai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 and an internal transfer of $4,000 to the Office of Field Operations for Beneficiary Processes Program for the Wyandotte tribe who returned to the program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Review &amp; Aud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Accountab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,0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9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 and decrease of -$1M is a result of reduced workload in the Data Quality and Integrity program and a reduction of -$50k representing savings achieved by beneficiary use of the OST Debit Card Program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eld Opera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 and an increase of +$4,000 as a result of an internal transfer from the Office of External Affairs’ internal transfer for Beneficiary Payment Processing for the Wyandotte tri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aisal Service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Service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97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Services will also receive an internal transfer of +$16M from the Office of Information Technology for the management of the Trust Funds Management System (TFAS). +$800k is a result of increase in labor expense primarily associated with workload and -$60k decrease as a result of automation of one-time disbursements transaction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torical Trust Accounting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5,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TA will have -$2k in cost savings as a result of the Department-wide management efficiencies and -$25M as a result settlement agreement between the Cobell plantiffs and the U.S. Government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460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OST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46080">
                    <a:lnL w="936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6,8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5,7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46080">
                    <a:lnL w="288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graphicFrame>
        <p:nvGraphicFramePr>
          <p:cNvPr id="115" name=""/>
          <p:cNvGraphicFramePr/>
          <p:nvPr/>
        </p:nvGraphicFramePr>
        <p:xfrm>
          <a:off x="233280" y="4343400"/>
          <a:ext cx="6699240" cy="4267080"/>
        </p:xfrm>
        <a:graphic>
          <a:graphicData uri="http://schemas.openxmlformats.org/drawingml/2006/table">
            <a:tbl>
              <a:tblPr/>
              <a:tblGrid>
                <a:gridCol w="1479600"/>
                <a:gridCol w="390600"/>
                <a:gridCol w="544320"/>
                <a:gridCol w="466920"/>
                <a:gridCol w="468360"/>
                <a:gridCol w="3349440"/>
              </a:tblGrid>
              <a:tr h="450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and Related Chang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∆            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l Transfe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 Chang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 Total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ecutive Dir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 Technology Serv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6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6,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Office of Information Technology will have an internal transfer of $16M to Trust Services for the management of the Trust Funds Management System (TFAS) and IT will have a total net decrease of -$150k as a result of cost savings for Travel, IT reduction and acquisition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Reco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,5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,4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 and a program decrease of -$1.589M is a cost savings resulting from in-sourcing the records indexing function for the Office of Trust Reco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dget, Finance &amp; Administr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 and a program increase of +$72k to fund the e-OPF initiative to be funded under Budget, Finance and Administration for all of OST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rnal Affai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 and an internal transfer of $4,000 to the Office of Field Operations for Beneficiary Processes Program for the Wyandotte tribe who returned to the program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Review &amp; Aud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Accountab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,0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9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 and decrease of -$1M is a result of reduced workload in the Data Quality and Integrity program and a reduction of -$50k representing savings achieved by beneficiary use of the OST Debit Card Program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eld Opera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 and an increase of +$4,000 as a result of an internal transfer from the Office of External Affairs’ internal transfer for Beneficiary Payment Processing for the Wyandotte tri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aisal Service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Service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97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Services will also receive an internal transfer of +$16M from the Office of Information Technology for the management of the Trust Funds Management System (TFAS). +$800k is a result of increase in labor expense primarily associated with workload and -$60k decrease as a result of automation of one-time disbursements transaction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torical Trust Accounting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5,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TA will have -$2k in cost savings as a result of the Department-wide management efficiencies and -$25M as a result settlement agreement between the Cobell plantiffs and the U.S. Government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460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OST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46080">
                    <a:lnL w="936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6,8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5,7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46080">
                    <a:lnL w="288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5FC-50CE-436F-8671-62ACD396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C3CF-7E4A-490A-BB0E-2C727406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B92-3355-43B7-BF85-AAF0991C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015F-357C-4B81-8A20-4B7250A4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8624-EB76-4596-9AC6-4E71D138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1173-EA78-40A4-86E7-D2A352F4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C6A3-F747-4190-9C19-83A7333E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3F34-AFEA-4578-BB19-F9F2402F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1275-284B-4FF2-A93C-DB1D492D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7656-94D7-4F3E-8596-C845D803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5BB3-1125-478C-9DC5-0F2867E8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A8C6-1D05-42E8-8BA8-56228948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D2A9-9C8B-44E7-904C-8496C53F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36EE-0D61-45B3-B2F9-6F25AFEB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B4F9-D53F-4F4A-BB9A-A0590379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9D8A-9CA7-4683-8F7D-AE448AF6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1119-E981-4881-AF76-B424A494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E60-00E0-443A-BF17-63D8E9BA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DE1-490E-4D4A-8D9B-A6332776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B3A-F291-46E4-ABE1-10B10067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4C3-A91E-48F1-91F7-B97650DD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8E3-2D53-4CEA-8D38-57CC6504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17BA-666A-478A-93E1-6058885E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9A3-A16D-4CF5-B6F6-CC60DC29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5CBF-5903-48FB-9646-812BE14C3C5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A4ED-50F6-479C-8551-42D014FE623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1181160"/>
            <a:ext cx="7700760" cy="26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Garamond"/>
              </a:rPr>
              <a:t>Office of the Special Trustee for American Indians</a:t>
            </a:r>
            <a:br>
              <a:rPr sz="4600"/>
            </a:br>
            <a:r>
              <a:rPr b="1" lang="en-US" sz="4600" spc="-1" strike="noStrike">
                <a:solidFill>
                  <a:srgbClr val="006600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006600"/>
                </a:solidFill>
                <a:latin typeface="Garamond"/>
              </a:rPr>
              <a:t>FY 2011 – Budget Briefing</a:t>
            </a:r>
            <a:br>
              <a:rPr sz="4200"/>
            </a:br>
            <a:r>
              <a:rPr b="1" lang="en-US" sz="4000" spc="-1" strike="noStrike">
                <a:solidFill>
                  <a:srgbClr val="006600"/>
                </a:solidFill>
                <a:latin typeface="Garamond"/>
              </a:rPr>
              <a:t> Tribal Budget Advisory Council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590920" y="4691160"/>
            <a:ext cx="640080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00"/>
                </a:solidFill>
                <a:latin typeface="Garamond"/>
              </a:rPr>
              <a:t>March 15, 2010</a:t>
            </a:r>
            <a:br>
              <a:rPr sz="2300"/>
            </a:br>
            <a:r>
              <a:rPr b="1" lang="en-US" sz="2300" spc="-1" strike="noStrike">
                <a:solidFill>
                  <a:srgbClr val="006600"/>
                </a:solidFill>
                <a:latin typeface="Garamond"/>
              </a:rPr>
              <a:t> Steve McEntegart,</a:t>
            </a:r>
            <a:br>
              <a:rPr sz="2300"/>
            </a:br>
            <a:r>
              <a:rPr b="1" lang="en-US" sz="2300" spc="-1" strike="noStrike">
                <a:solidFill>
                  <a:srgbClr val="006600"/>
                </a:solidFill>
                <a:latin typeface="Garamond"/>
              </a:rPr>
              <a:t>Director</a:t>
            </a:r>
            <a:br>
              <a:rPr sz="2300"/>
            </a:br>
            <a:r>
              <a:rPr b="1" lang="en-US" sz="2300" spc="-1" strike="noStrike">
                <a:solidFill>
                  <a:srgbClr val="006600"/>
                </a:solidFill>
                <a:latin typeface="Garamond"/>
              </a:rPr>
              <a:t>Budget, Finance &amp; Administration</a:t>
            </a:r>
            <a:br>
              <a:rPr sz="2300"/>
            </a:br>
            <a:r>
              <a:rPr b="1" lang="en-US" sz="2300" spc="-1" strike="noStrike">
                <a:solidFill>
                  <a:srgbClr val="006600"/>
                </a:solidFill>
                <a:latin typeface="Garamond"/>
              </a:rPr>
              <a:t>202-208-3014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Office of the Special Trustee for American Indians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09480" y="914400"/>
            <a:ext cx="80773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cent Accomplish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.gov was implemented in FY 2009 to allow lessees to make lease payments on-line a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avoid mailing checks to the lockbox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ffice of Appraisal Services (OAS) has eliminated 95% of the backlog for appraisal requests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2009 Indian trust financial activity – OST held in trust monetary assets of $3.6 billion (as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9/30/09).  $460 million in 384,000 individual accounts and $3.1 billion in 2,700 Tribal accounts.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These are audited balances that are also reconciled daily with Treasu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had receipts of $890 million, including investment income of $156.5 million a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disbursements of $746.9 mill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8534520" y="63244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76"/>
          <p:cNvSpPr/>
          <p:nvPr/>
        </p:nvSpPr>
        <p:spPr>
          <a:xfrm>
            <a:off x="8534520" y="63244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9"/>
          <p:cNvSpPr/>
          <p:nvPr/>
        </p:nvSpPr>
        <p:spPr>
          <a:xfrm>
            <a:off x="1219320" y="2127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Garamond"/>
              </a:rPr>
              <a:t>FY 2011 OST President’s Bud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66680" y="1693800"/>
          <a:ext cx="6400800" cy="2135160"/>
        </p:xfrm>
        <a:graphic>
          <a:graphicData uri="http://schemas.openxmlformats.org/drawingml/2006/table">
            <a:tbl>
              <a:tblPr/>
              <a:tblGrid>
                <a:gridCol w="3048120"/>
                <a:gridCol w="1219320"/>
                <a:gridCol w="1185840"/>
                <a:gridCol w="947520"/>
              </a:tblGrid>
              <a:tr h="118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$0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Y 2010 Enac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Y 2011 President’s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c (+)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c (-)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om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ice of the Special Trust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,4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,6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7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ice of Historical Trust Accou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5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5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5,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1b3c16"/>
                        </a:gs>
                        <a:gs pos="50000">
                          <a:srgbClr val="3b812f"/>
                        </a:gs>
                        <a:gs pos="100000">
                          <a:srgbClr val="1b3c1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5,9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1b3c16"/>
                        </a:gs>
                        <a:gs pos="50000">
                          <a:srgbClr val="3b812f"/>
                        </a:gs>
                        <a:gs pos="100000">
                          <a:srgbClr val="1b3c1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,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1b3c16"/>
                        </a:gs>
                        <a:gs pos="50000">
                          <a:srgbClr val="3b812f"/>
                        </a:gs>
                        <a:gs pos="100000">
                          <a:srgbClr val="1b3c1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5,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1b3c16"/>
                        </a:gs>
                        <a:gs pos="50000">
                          <a:srgbClr val="3b812f"/>
                        </a:gs>
                        <a:gs pos="100000">
                          <a:srgbClr val="1b3c1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b812f"/>
                </a:solidFill>
                <a:latin typeface="Garamond"/>
              </a:rPr>
              <a:t>OST – FY 2011 President’s Budge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0880" y="1112760"/>
          <a:ext cx="8305920" cy="4846680"/>
        </p:xfrm>
        <a:graphic>
          <a:graphicData uri="http://schemas.openxmlformats.org/drawingml/2006/table">
            <a:tbl>
              <a:tblPr/>
              <a:tblGrid>
                <a:gridCol w="2946600"/>
                <a:gridCol w="1165320"/>
                <a:gridCol w="1044360"/>
                <a:gridCol w="1044720"/>
                <a:gridCol w="961920"/>
                <a:gridCol w="1143000"/>
              </a:tblGrid>
              <a:tr h="1069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$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∆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l Transf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 President’s Bu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1b3c16"/>
                        </a:gs>
                        <a:gs pos="50000">
                          <a:srgbClr val="3b812f"/>
                        </a:gs>
                        <a:gs pos="100000">
                          <a:srgbClr val="1b3c1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ecutive Dir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 Technology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6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8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Reco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,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dget, Finance &amp; Administ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rnal Affai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Review &amp; Aud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Account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6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,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eld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5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aisal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3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torical Trust Accoun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5,9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6,8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,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1" name="Text Box 110"/>
          <p:cNvSpPr/>
          <p:nvPr/>
        </p:nvSpPr>
        <p:spPr>
          <a:xfrm>
            <a:off x="8534520" y="63244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533520" y="1852560"/>
          <a:ext cx="8076960" cy="3989520"/>
        </p:xfrm>
        <a:graphic>
          <a:graphicData uri="http://schemas.openxmlformats.org/drawingml/2006/table">
            <a:tbl>
              <a:tblPr/>
              <a:tblGrid>
                <a:gridCol w="6781680"/>
                <a:gridCol w="12952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1 Summary of Program Increases/Decrea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3816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solidFill>
                      <a:srgbClr val="28571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$0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38160">
                      <a:solidFill>
                        <a:srgbClr val="cc9900"/>
                      </a:solidFill>
                    </a:lnR>
                    <a:lnT w="3816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solidFill>
                      <a:srgbClr val="28571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xed C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3816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ed Ch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cc9900"/>
                      </a:solidFill>
                    </a:lnL>
                    <a:lnR w="3816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quisition Re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381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Re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381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vel Re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381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lated Chan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3816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deral Trust Program Incr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3816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deral Trust Program Decre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27,6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3816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O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381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5,7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3816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38160">
                      <a:solidFill>
                        <a:srgbClr val="cc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367"/>
          <p:cNvSpPr/>
          <p:nvPr/>
        </p:nvSpPr>
        <p:spPr>
          <a:xfrm>
            <a:off x="8534520" y="63244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b812f"/>
                </a:solidFill>
                <a:latin typeface="Garamond"/>
              </a:rPr>
              <a:t>OST – FY 2011 President’s Budge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b812f"/>
                </a:solidFill>
                <a:latin typeface="Garamond"/>
              </a:rPr>
              <a:t>OST / FY 2011 Prioriti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Text Box 245"/>
          <p:cNvSpPr/>
          <p:nvPr/>
        </p:nvSpPr>
        <p:spPr>
          <a:xfrm>
            <a:off x="8458200" y="6324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47"/>
          <p:cNvSpPr/>
          <p:nvPr/>
        </p:nvSpPr>
        <p:spPr>
          <a:xfrm>
            <a:off x="990720" y="1066680"/>
            <a:ext cx="716256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 has four funding priorities at the FY 2011 target requ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 Services program increase of - $80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 probate processing without carry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TA will continue to research the rightful owners of residua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balances in special deposit accounts and distribute $1.5 million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individual Indians, Tribes, and third par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, Finance &amp; Administration - $7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ic Official Personnel Folder (eOPF)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fund fixed costs and related changes - $1.058 mill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igate absorption of increase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b812f"/>
                </a:solidFill>
                <a:latin typeface="Garamond"/>
              </a:rPr>
              <a:t>OST / FY 2011 Decreas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Text Box 245"/>
          <p:cNvSpPr/>
          <p:nvPr/>
        </p:nvSpPr>
        <p:spPr>
          <a:xfrm>
            <a:off x="8458200" y="6324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47"/>
          <p:cNvSpPr/>
          <p:nvPr/>
        </p:nvSpPr>
        <p:spPr>
          <a:xfrm>
            <a:off x="838080" y="838080"/>
            <a:ext cx="769644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ffice of Historical Trust Accounting has a program decrease of - $25 mill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duction assumes enactment in 2010 of a settlement of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bell v. Salaza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ws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ffice of Trust Records has a program decrease of - $1.589 mill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duction is a result of in-sourcing and reduced records ind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st Accountability has program decrease of - $1.1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Development Initiative program has cost savings of $50k i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disbursements to trust beneficiaries enrolled in OST’s Debit Card program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and $1 million from the Data Quality and Integrity program as a result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decreasing realty post-conversion clean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ffice of Trust Services has a program decrease of - $60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-savings resulting from the automation of one-time disbursement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7:20:32Z</dcterms:created>
  <dc:creator> </dc:creator>
  <dc:description/>
  <dc:language>en-US</dc:language>
  <cp:lastModifiedBy>gingram</cp:lastModifiedBy>
  <dcterms:modified xsi:type="dcterms:W3CDTF">2010-02-19T17:18:58Z</dcterms:modified>
  <cp:revision>330</cp:revision>
  <dc:subject/>
  <dc:title>Office of the Special Trustee for American Indians</dc:title>
</cp:coreProperties>
</file>