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5D80-1BFD-41E9-A59E-0C298C544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 budgets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– personnel, supplie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ilities – utilities, staffing in facilities,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09 appropriations passed on 3/11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ilities shortfall reduction of $300K, some may be made up with stimulus funds, leaving only $100K short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2007 steadily increase in Education funds to Haskell; previously the funds were flat (no increases) this created problems in hiring staff and replacing positi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B16-45D0-4471-982D-7D0DE09F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DF9-B32D-4517-AB31-C4BC8843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1B42B-D15B-4364-AAB7-7DF34B26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EE2FA-E6EE-444E-8D77-C1ACBA01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4B31C-A54A-4AFC-8E89-6769CFF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346A8-A0A5-4B01-A585-33D4B973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3CAF2-11AF-44ED-B3B9-EA6B9179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3277B-498A-4316-A6B5-57727A29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F2621-2CEB-4A72-837D-40227930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00348-7E34-4A94-8F7C-25FEE973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95E54-6F30-4333-B8CC-90F0B223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6E996-9AD0-420F-9049-54C568BD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C9A-8AF8-481A-9770-10FB3EDD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2193B-3533-4ABF-B4B5-3D286774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A75E4-38F3-4676-BD09-46DD17E3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480DC-0F27-4B3C-B261-0F8534F3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0F817-17B9-45A4-A053-C387AC39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61CD4-F1C7-4639-9982-6C0A4A3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5BE52-6272-4901-AE0A-E94B4A26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FE54C-17FC-437A-8938-38650F9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A7AEE-C82B-42D1-AFC0-DBA0BF80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0E5F4-7B35-4671-BFA3-930852DE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2E3F2-4AA4-4608-85A8-D1EA63CA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1F6-C0E4-48AE-8298-087483B8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1B66C-8E42-415B-B3CB-46940A14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9F8146-1368-432D-AC93-5E2446ED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005EC0-3462-4B59-B889-C53A2CD0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704033-2F66-4C06-867F-C809D8D3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4914D2-F10C-4901-B99E-09D3B1D8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E3BE7E-8391-4646-997A-E1C96C0B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DC3FCA-8E1F-4CA4-A203-A752548F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7559DE-20D0-47D1-A0EB-76733D3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A4AD85-A444-41F8-87AA-689D6D1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F35A34-90A1-491D-9DB8-17CBF80C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9262-98C2-4DA8-9127-63FA3C18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A6ADD4-B173-4590-966D-0F14E31F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97157F-BD05-4B6F-B40C-D445FDF6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CB6E52-7D6B-4622-B92C-985CB125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7E39-2704-4D67-A617-F618F0A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812D-F8C1-437E-B2BA-B76227D2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06A1-223D-4E4A-8DB4-B9C923E6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0EFD-6CD8-4425-A43F-95303473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959B-7541-4AF9-B2E3-3E71DAA9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124C-2744-419F-BD12-5A6C48B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07D-F453-4DD2-B83F-547824E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06C6-BDB0-4B01-BBFD-143FE1E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F1AF-F1C1-4295-8F0F-7DB199B5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CE4E-925B-464E-8121-B0487454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F5B6-90AC-4DF2-87B2-770C7425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DF0E-003B-4316-AA1E-C2FEE455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1393-07C3-47B5-9C0C-1BA238B7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875A-BDFD-4454-A637-1582F83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C0F4-8998-42C6-A765-B1BB00A4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4043-A787-42C7-9579-8C74455F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FD88-42B9-45DF-B5E6-F636F2BE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034-B215-4501-966E-A39F251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447D-D15A-4115-B9D9-0CF82699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3099-B7B5-43AA-B55E-D21A36DB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9933-FFC5-4BAF-B755-51D0B28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E23F-B94B-4FD7-8DD0-33958DD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F77D-02FB-430B-A5E8-B8DDC710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2DF1-6A54-4D3D-B7CE-ED8F6CA7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F6ED3-AC09-4516-AD40-2BD17628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EF56-CF27-40E6-B085-F4AAE02A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4084-F358-4D11-911A-3344C008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82DF-E2BD-4592-A3A6-90D4C056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DE9-A34B-4874-B26D-96779E7A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4467A-2D5E-477D-83BF-E1702021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A010D-10B6-4979-AE54-C438C2E1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6D56-C278-4836-B63D-D1C8A341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0AD2-E267-4CCA-A4A8-945F8698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A3F98-97B6-4FCD-BDD7-D55D808F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5943C-C160-4217-AF74-8BF3F8D7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00B0-94A6-4BE1-9615-59D239E9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175B-0C90-4077-84F7-81035EF3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59AF-3ABE-4858-B7E7-3C8EA4DC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0B08E-914F-4E1B-9E5C-A580CF7C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51E-9CBF-43E4-A2EA-D28A0626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F32B-B669-45C8-9D77-63E1E1D5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B1E7-2918-4991-915D-472C8EC2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F2713-A648-4F6E-9278-AFA05883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81FC0-0FD9-4C85-BE33-E21696DF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DAEC8-6B51-42DE-8C86-BA8B2C0F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514C8-85E2-4CF7-89CC-F66B8B38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2C1AE-0165-448D-9A7D-BE25801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A9DC3-C143-40E0-88EC-D08BA017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EEBBC-6A29-42E0-ADB5-FABD05A3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88027-3E92-4423-9DCF-7CE5B0C8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F7B-275F-45D3-9262-F927692F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2869-F5F1-4AEA-945E-8678319F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359BB-818E-4EFE-9EC6-78A265FC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F22C7-8E33-4095-82BE-217CF7E8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B6FBD-C941-43CB-8A80-11FF61AA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7BA6F-181B-45C8-B404-259447AB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F016E-3306-44D1-833F-541DC987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E348A-EAD0-43F0-8335-BB35B9AF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04D36-96F4-489C-A107-4BD4437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D725C-7AEB-45A8-8E23-5CCAF8A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3670-D29D-4615-825B-95F15BA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042-6DBA-4DB1-BECA-66C29414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7C8D-30E2-4A95-9A0D-7C4882F7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87BE-ACD8-49B9-BE10-858DB99C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CCC46-23F9-49C3-8C99-539C62AD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5EDF7-2DAD-43F0-9944-2728BD9A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EB20C-21FE-40B6-BD2B-0D1553E4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7D2A5-D2C6-4DAA-B2F9-D85A300D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1A119-A218-4B4F-B7F1-387BB02A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EFAF6-97F1-4056-89CB-7269BFD2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B6FEA-2C30-485F-9944-D078DD7D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18A7-CFBF-429F-9A66-9DD8BA5D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93A-6E7B-474B-9877-C6A7C55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DC9C8-E782-412B-A6C0-459A2B7A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0FD94-81E3-43CE-B3D8-1F495BE7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64D52-CD57-479B-8D49-6FCFAFE5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50647-5C6E-46D1-B1DA-99399CAC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FDD8-4132-4361-A2AC-18B48A93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0935AE-9B10-4248-B89A-7C1917A3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CF0E16-6ABA-4108-A12C-EFE609A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897DFB-D5E8-442C-A475-9E43BEAD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FA4644-4716-4AA7-A09B-1514FB57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8856D0-8D4C-43D0-95DE-59900F8E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5A3-1E1F-48AD-8A6C-C6356F3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22FFA9-1125-4B03-AD83-AA30C8FD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973543-1385-4F31-8B9A-9311AFB4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AA283E-C02E-46E6-BEB0-2623D99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0C1CA1-8D18-430D-ABF6-260BCAAC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8BFE8C-D497-4A2A-B17C-1AA28618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B9AD3E-20E1-4304-9DCB-59CC5848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0FB587-62F4-42AC-9D9D-FA0854F4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C6934-AAB0-48EA-92BF-97CF6513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A3F29-3CB0-47D6-9205-D623F976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891FF-D559-4E50-9CA0-E307F70A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64A6-E1CD-412E-BCE7-C6D5EC316F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923C-4F7F-4F06-A26A-22EEBFF05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331C-EE1F-4EC9-9FAD-1996F4B0E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E11A-06CA-4891-AC4E-1B3F310F99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4988-8BF3-4B5C-9FF4-169DBE4D18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CD90-3FB8-4722-9FBA-3D2B3A6A46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traight Connector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2BCF-D520-4DBA-BE14-F546309F3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1BF6-FA39-4923-8CEC-1F815ABCB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224A-9852-4F80-B7EF-10B9A4FAC5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5CF9-DA21-4AC7-9F66-81E426DE0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ftr" idx="24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traight Connector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FFAD-095F-4D07-A7BE-84D591019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dt" idx="26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BUREAU OF INDIAN EDUC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ASKELL INDIAN NATIONS UNIVERS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OUTHWESTERN INDIAN POLYTECHNIC INSTITU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Tribal Budget Advisory Council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(TBAC) Briefing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March 15, 2010</a:t>
            </a:r>
            <a:endParaRPr b="0" lang="en-US" sz="31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64" name="Picture 4" descr="sipi logo.jpg"/>
          <p:cNvPicPr/>
          <p:nvPr/>
        </p:nvPicPr>
        <p:blipFill>
          <a:blip r:embed="rId1"/>
          <a:stretch/>
        </p:blipFill>
        <p:spPr>
          <a:xfrm>
            <a:off x="7620120" y="11430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haskelllogo"/>
          <p:cNvPicPr/>
          <p:nvPr/>
        </p:nvPicPr>
        <p:blipFill>
          <a:blip r:embed="rId2"/>
          <a:stretch/>
        </p:blipFill>
        <p:spPr>
          <a:xfrm>
            <a:off x="304920" y="1219320"/>
            <a:ext cx="94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verview of SIPI Degree Progra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gree Pr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 Associate’s Degree – Associate’s of Sciences, Associate’s of Arts, and Associates of Applied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 Certificat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Graduates"/>
          <p:cNvPicPr/>
          <p:nvPr/>
        </p:nvPicPr>
        <p:blipFill>
          <a:blip r:embed="rId1"/>
          <a:stretch/>
        </p:blipFill>
        <p:spPr>
          <a:xfrm>
            <a:off x="152280" y="4038480"/>
            <a:ext cx="4191120" cy="2656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" descr="F:\IMG_1549.JPG"/>
          <p:cNvPicPr/>
          <p:nvPr/>
        </p:nvPicPr>
        <p:blipFill>
          <a:blip r:embed="rId2"/>
          <a:srcRect l="3248" t="29215" r="9119" b="2630"/>
          <a:stretch/>
        </p:blipFill>
        <p:spPr>
          <a:xfrm>
            <a:off x="4343400" y="40384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Overview of Haskell and SIPI Operation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urrent operation budget for Hask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Funding for Haskell FY 2009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$10,442,000 Education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$3,736,845 Faciliti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tal $14,178,845.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urrent operation budget for SIP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Funding for SIPI FY 2009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$6,716,123 Educ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$1,690,868 Faciliti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tal $8,406,991.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unding levels at both schools are consistent with appropriations from over 20 years ago after adjustments for inf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5318280" y="2322360"/>
            <a:ext cx="214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Overview of Haskell and SIPI Operation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ding constraints have an adverse impact on accredi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ding constraints limit new degree programs, hiring, tribal outreach and training, services to students, facility improvements, and information technology (I.T. Infrastructur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ding is supplemented by gra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rvices are supplemented through partner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lans for Haskell and SIP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skel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xpand degree offering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rogram development for Student Succes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nhance I.T. infrastructure to support online learn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Fill critical positions across campu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P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ll key positions, including instructor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pand and maintain the Librar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rengthen student support servi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rengthen information technology infrastructu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mprove residential lif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23880"/>
            <a:ext cx="4346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ASKELL INDIAN NATIONS UNIVERSITY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155 Indian Av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awrence, KS 6604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www.haskell.edu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3962520" y="1523880"/>
            <a:ext cx="4800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OUTHWESTERN INDIAN POLYTECHNIC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9169 Coors Blvd. 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lbuquerque, NM 87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www.sipi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380880" y="3809880"/>
            <a:ext cx="5410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U.S. Department of I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Bureau of Indian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1849 C Street, NW, MS 3606-M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ashington, DC 20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www.bia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rpose of this Sessio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tain TBAC support for activities and missions of Haskell and SIP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an overview of Haskell and SIP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municate the value of Haskell and SIPI in building capacity throughout Indian Count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information to the TBAC about current and historic funding levels appropriated to Haskell and SIP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Bureau of Indian Education</a:t>
            </a:r>
            <a:br>
              <a:rPr sz="3000"/>
            </a:br>
            <a:r>
              <a:rPr b="0" lang="en-US" sz="2200" spc="-1" strike="noStrike">
                <a:solidFill>
                  <a:srgbClr val="7b9899"/>
                </a:solidFill>
                <a:latin typeface="Georgia"/>
              </a:rPr>
              <a:t>(Oversight for Post Secondary)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ephanie Birdwell (Cherokee Nation of Oklahoma), Deputy Director for Policy, Evaluation and Post Secondary Education (Washington D.C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mes Chris Redman (Chickasaw Nation), Education Program Specialist (OKC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 Holder (Wichita and Affiliated Tribes), Special Assistant to the Deputy Director (ABQ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randi Sweet (Turtle Mountain Chippewa), Program Analyst (Washington, D.C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icia Henson (Cherokee Nation of Oklahoma), Program Support Assistant (OKC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anita Keesing (Pascua Yaqui), Program Analyst, (Washington, D.C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indy Wheeler (Oglala Sioux), Program Assistant (ABQ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PI Administ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esident: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. Sherry R. Allison (Dine’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Vice President-Academic Programs: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s. Valerie Montoya (Ohkay Owingeh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Vice-President College Operation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ing): Mr. Monte Monteit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irector of Housing and Recreation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r. Ray Gachupin (Jemez Pueblo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partment Chair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ing): Ms. Dorothy Wes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irector of Admission/Financial Aid: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r. Joe Carpio (Laguna Pueblo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2" name="Picture 4" descr="roof panorama"/>
          <p:cNvPicPr/>
          <p:nvPr/>
        </p:nvPicPr>
        <p:blipFill>
          <a:blip r:embed="rId1"/>
          <a:stretch/>
        </p:blipFill>
        <p:spPr>
          <a:xfrm>
            <a:off x="152280" y="4114800"/>
            <a:ext cx="8763120" cy="23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skell Administ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4" name="Content Placeholder 5"/>
          <p:cNvSpPr/>
          <p:nvPr/>
        </p:nvSpPr>
        <p:spPr>
          <a:xfrm>
            <a:off x="304920" y="152388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esident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ing):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. Venida Chenault (Prairie Band Potawato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Vice President-Academic Affair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. Venida Chena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Vice-President University Service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ing): Dr. Dan Wildcat (Muscog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irector of Housing and Recreation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r. Jim Tucker (Cherok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gistr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Mr. Manny King (Northern Cheye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test"/>
          <p:cNvPicPr/>
          <p:nvPr/>
        </p:nvPicPr>
        <p:blipFill>
          <a:blip r:embed="rId1"/>
          <a:stretch/>
        </p:blipFill>
        <p:spPr>
          <a:xfrm>
            <a:off x="152280" y="3886200"/>
            <a:ext cx="883944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skell Board of Reg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0384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Judy Dehos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Western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Fannie Atcitt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Navajo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il Vigil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outhwest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Brandon Steve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Midwest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Lana Redey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Eastern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lberta Frida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Northwest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ussell Bradle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Four Tribes of Kans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adley Davi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Pacific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4832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larena Brocki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Rocky Mountain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orge Tige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Eastern Oklahoma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arold Frazie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Great Plains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Joyce Be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National Alumni Associ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Janice Mendez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tudent Sena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Francis Jacks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Alaska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on Two Hatche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outhern Plains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9" name="Picture 5" descr="haskelllogo"/>
          <p:cNvPicPr/>
          <p:nvPr/>
        </p:nvPicPr>
        <p:blipFill>
          <a:blip r:embed="rId1"/>
          <a:stretch/>
        </p:blipFill>
        <p:spPr>
          <a:xfrm>
            <a:off x="152280" y="152280"/>
            <a:ext cx="947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5"/>
          <p:cNvSpPr/>
          <p:nvPr/>
        </p:nvSpPr>
        <p:spPr>
          <a:xfrm>
            <a:off x="380880" y="175248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Francis Tafoy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Chairman, Eight Northern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Stanley Milford, S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, Vice Chairman, Navajo Nation (New Mex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s. Pamela Cordov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ecretary, Mescalero Apache T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s. La Titia Tayl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outhern Ute Indian T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Freddie Howar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Navajo Nation (Arizo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Larry Schurz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Inter-Tribal Council of Ari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Paul Shattuck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Ten Southern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s. Paulette Dix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Jicarilla Apache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Conway Hannah,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IPI Student Senat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PI Board of Reg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82" name="Picture 4" descr="sipi logo.jpg"/>
          <p:cNvPicPr/>
          <p:nvPr/>
        </p:nvPicPr>
        <p:blipFill>
          <a:blip r:embed="rId1"/>
          <a:stretch/>
        </p:blipFill>
        <p:spPr>
          <a:xfrm>
            <a:off x="152280" y="15228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creditation overview of Haskell and SIP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skell and SIPI both received North Central Association (NCA) accreditation in the 1970’s and have maintained this accredi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th institutions maintain specialized accreditations for specific degree progra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5" name="Picture 6" descr="Picture1"/>
          <p:cNvPicPr/>
          <p:nvPr/>
        </p:nvPicPr>
        <p:blipFill>
          <a:blip r:embed="rId1"/>
          <a:stretch/>
        </p:blipFill>
        <p:spPr>
          <a:xfrm>
            <a:off x="152280" y="3505320"/>
            <a:ext cx="4724640" cy="3200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Campus_Aerial"/>
          <p:cNvPicPr/>
          <p:nvPr/>
        </p:nvPicPr>
        <p:blipFill>
          <a:blip r:embed="rId2"/>
          <a:stretch/>
        </p:blipFill>
        <p:spPr>
          <a:xfrm>
            <a:off x="4648320" y="3505320"/>
            <a:ext cx="4267080" cy="3201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175248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17220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k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Overview of Haskell Degree Program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gree Program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ur baccalaureate degrees – Elementary Education, Environmental Science, American Indian Studies, Business Administr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14 Associate Degre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posed Degrees – Liberal Arts, Community Health, and additional degrees identified in the course of national tribal dialogue session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dditional programs must align with existing resources and mis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1" name="Picture 5" descr="test22"/>
          <p:cNvPicPr/>
          <p:nvPr/>
        </p:nvPicPr>
        <p:blipFill>
          <a:blip r:embed="rId1"/>
          <a:stretch/>
        </p:blipFill>
        <p:spPr>
          <a:xfrm>
            <a:off x="152280" y="4876920"/>
            <a:ext cx="88394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9:43:17Z</dcterms:created>
  <dc:creator>lptp49</dc:creator>
  <dc:description/>
  <dc:language>en-US</dc:language>
  <cp:lastModifiedBy>amber_ebarb</cp:lastModifiedBy>
  <dcterms:modified xsi:type="dcterms:W3CDTF">2010-03-10T20:39:52Z</dcterms:modified>
  <cp:revision>32</cp:revision>
  <dc:subject/>
  <dc:title>Stakeholder Dialouge Session</dc:title>
</cp:coreProperties>
</file>