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E2A0-E960-42B3-ADE9-7A5A7529D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te budgets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– personnel, supplie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ilities – utilities, staffing in facilities,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09 appropriations passed on 3/11/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ilities shortfall reduction of $300K, some may be made up with stimulus funds, leaving only $100K short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2007 steadily increase in Education funds to Haskell; previously the funds were flat (no increases) this created problems in hiring staff and replacing positi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707-9A44-4FD0-8D7E-DB534363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152-27F6-4EAA-9555-AEB9B243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6E7AD-F68E-41D9-9544-6107C491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1FE63-1D6A-47D3-AF2E-6C35B9D6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4D468-C48C-4F49-94A1-83EC8B09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372BE3-C5F5-4D75-8761-9C38EA6E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FDA0C-2631-406E-8335-B41F65E5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B664D-185E-42F6-965E-9F04148D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98DCB-9FAE-4722-AA9C-43F39437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CF658-10A9-4A05-8C1B-68A88D09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6B92F-66E6-40E0-80DB-9B6477D0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E8C2C-015F-4224-AC9E-093479EE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6C5-1EE6-4D70-A72F-0296EEF8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A6222-A154-42C2-B986-A4550FC3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D2C8A-5114-4B15-81E7-F83A5AA3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67509-5036-4EB9-87CF-51374717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85438-6A08-4713-A104-6BD02CCF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9EC3F-CD7E-45E4-9DD7-3BB22757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4FB80-3A91-4D4C-8F7C-682B2EDF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A9DA8-DFCD-4A0A-A2D7-A0E00769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E8328-5957-44D4-AC99-1536A333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A56E7-BD1A-4170-B5DC-DE9D7538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1B77F-00DC-40D4-85E6-E3BFEDF2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95A-1DFE-4790-AD3C-96401720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D1550-1FA5-440F-B711-F01B4691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D81C5D-4E9E-45F9-A03F-B013CACD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F31AE2-9F3F-4832-97E9-FEC0F0AB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69A233-2EDD-49EA-802F-B68A582D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C6580F-A184-4E65-A752-64869DC2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129D06-B8A1-4E65-A6D5-4EFC286C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503558-CB49-4CE8-AC74-CA5F66EA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D8ED37-E277-44AE-B578-C2A8D8CA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27A7B7-8DE0-483C-B911-A127BBF9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747856-4614-47C6-ACD5-6E070B7A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FDCF-A905-431D-8699-B3BBC879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D10805-22A2-4F22-BFE8-1F4CCB2D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D3CA3F-0383-4A03-BD93-040ECA4E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B26A62-7ED3-4820-B243-BC6764F8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25E7-66AE-41F0-AC21-F1243AB7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041E-F1BF-4530-8909-DFE04EFA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AD22-E599-4179-B33E-ACAE9B27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D98C-F4A0-4EE3-A681-1B48FCC6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8988-7EC2-4A74-82AE-7278C011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7D4D-414C-439F-A7CC-37F657D3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F77-D32A-49A9-81C5-97B269EB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FD15-94BA-404F-B73A-B76C081F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E315-8D54-430A-9B70-0591E5AD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117B-37F1-4C32-BEE6-3E8FF563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BC0B-4D55-4227-AD04-BADE8BF0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87AF-CA92-4D28-87D1-7EFA4C72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29F76-12FE-4D39-A3ED-692C5BB8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ABE25-08BC-4FC5-B63B-2A772442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03CB-CC39-404F-ABAC-63BF953C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CB338-F49E-4DCB-9507-D021A6BA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273DB-DB38-4A3F-A115-AE9C9BFE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95F-BD1D-4AFF-8778-2D208784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36DED-6EC0-478F-A326-66F33BD4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58C5-D905-4E47-BF05-1E891C98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48F6E-08F1-4828-B156-269C1D6F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89780-424E-4EED-BA8D-4CBCE467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B52C8-49EA-4379-A5A8-E136A3D2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E0F7E-73C6-4353-9E05-77044FA8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1E8C8-288F-42F4-811B-ADA03D8C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32ED8-F85D-4D26-8657-FA5C74C7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E8732-E0E2-4731-BE2B-9A4FF87D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77F8E-BB0C-4739-BFD7-B0B895F3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18F-5242-4278-92A6-3EEEDA6C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BFA30-81DA-4D0F-ACDD-A9E4E99A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C0890-1463-4C44-9142-9909E107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25FEA-5D63-4207-8CC1-4571C3C1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5D3F0-9A39-45A0-B95A-2093F295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EC618-E375-4816-ADD4-C7246C1F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A9568-6CA1-460E-934C-C80B9AD8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88D84-EB5B-4BC8-9D93-416053E6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508ED-B63D-4347-966F-A6679D32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9D9C4-032C-4857-95A7-0EAF1056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D995B-7B49-4C61-85F4-2E3F3703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C4F-E1C6-4CFC-B35B-DDC86E30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024E6-375B-4EF2-B218-15656B24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82C95-74CC-4D7A-855D-CC491E68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8D017-82B1-48E4-87A7-D2FF9571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EA5C4-6E10-4100-B517-062083DE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2FCD9-B2D8-418A-95AC-1AB30232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28772-6A6D-4A10-98A6-B144EDDA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C6DA4-7125-419A-B45E-F448E977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174A4-28F2-4F7C-B4D4-3CC41B2F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D2E3-E7A9-47BD-9368-704AC7A7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2FB23-000D-4C2F-AA5A-A3EC467F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3A0-B566-482A-B2E7-E60322DC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27FCC-DC81-44A5-9C81-53CC7642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51E31-0864-4AD1-B941-E64C9D20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0BFE4-E931-43CF-8D29-194E8833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16DBF-0797-4F4E-B87B-6D923591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4EE3E-69AF-413E-94E8-AE7BFC13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97CD8-60D9-496E-B144-FFD1E11B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C3981-EA4B-4D78-AF64-81DC4763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E3996-440A-465F-A948-AB39257B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509F9-FBC0-4022-8956-9905EAE8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18BF1-0C13-4D75-8699-D7426D38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6B6-8E80-4D90-9A2A-2A77BC46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BC909-6B3C-4B29-A7F5-1830BE40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89DF9-43DD-459C-A419-8AF86E32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C7751-2715-4BB7-9157-925895C7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0524A-716A-4C41-A60D-077F60CC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B0EC7-417B-4770-9CB8-F557CC52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C40A6-9A81-42DF-B72E-AC400D55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DB89C-3ADA-444D-9407-452A1D9B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B8035-75AC-4AFB-8ADD-4FA66193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261B7-704D-4355-BEAA-C711ED6A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205AF-87F4-42C2-859D-1102692A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352-0CD8-4C51-8A01-D787D687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BEBA3-EF7F-4A44-8523-A6C515DE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1FEC7-1BB2-4278-9B65-A7F4E23B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CFD2E-018C-47B2-8306-271720D7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F96A3-F095-4C09-AEE2-5EB0EEA0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EC227-46EA-44AF-B938-3FA177F5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B0924F-5AC4-4FBC-B8CD-5DEAE798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514C5F-4098-4424-A703-939EEE38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388D46-7D70-4D71-BFC6-CDB31A12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1E261B-7B76-45C6-8E1D-53E96A99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2BF962-4266-4A54-AFE4-2F78B869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146-208F-42A2-8316-78490992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FD139A-6D4B-4B8F-BB91-3671F4C8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23E6D2-3DF2-43A4-B24A-AF93BF13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E934EE-F7BD-48D4-B9D6-C4FF1027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486DD8-4DE2-4B01-9811-B2355F1A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FB2BE6-A2B2-4CC0-8C6E-252DCA94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D3C789-EA31-405E-BC12-8D22D872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D4479D-492A-4CCA-9F03-91F7DBB8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F9813-AF29-464C-8FFE-9EFC6700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BA090-0127-4D4F-B1ED-9D4982A2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C0DF0-52DB-4584-B10B-5F5B4AB2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B737-1ACE-4A29-9FDF-1C8C4DBF9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15A5-C05F-4088-95B3-1BBD0004F1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4675-DC86-4F0E-9D64-CE67792E00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005B-8D39-4260-9D59-1EBE6A311B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8BBE-49E4-42CB-8637-94B5FAA25A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CEA0-AEAD-43CC-A75F-43EBD976D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traight Connector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F659-ADAD-4511-88E5-3A4A7D8619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BC28-B453-4BD3-B1BC-8AC205AD04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EB7F-0A86-4186-8F41-7BE6AF4941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2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99F1-D6EA-49F8-977E-51335BE4FF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dt" idx="2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ftr" idx="24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traight Connector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6B11-049B-4AC6-BC3C-FCD9AAEF18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dt" idx="26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BUREAU OF INDIAN EDUC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ASKELL INDIAN NATIONS UNIVERS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SOUTHWESTERN INDIAN POLYTECHNIC INSTITU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Georgia"/>
              </a:rPr>
              <a:t>Tribal Budget Advisory Council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Georgia"/>
              </a:rPr>
              <a:t>(TBAC) Briefing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Georgia"/>
              </a:rPr>
              <a:t>March 15, 2010</a:t>
            </a:r>
            <a:endParaRPr b="0" lang="en-US" sz="31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564" name="Picture 4" descr="sipi logo.jpg"/>
          <p:cNvPicPr/>
          <p:nvPr/>
        </p:nvPicPr>
        <p:blipFill>
          <a:blip r:embed="rId1"/>
          <a:stretch/>
        </p:blipFill>
        <p:spPr>
          <a:xfrm>
            <a:off x="7620120" y="114300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haskelllogo"/>
          <p:cNvPicPr/>
          <p:nvPr/>
        </p:nvPicPr>
        <p:blipFill>
          <a:blip r:embed="rId2"/>
          <a:stretch/>
        </p:blipFill>
        <p:spPr>
          <a:xfrm>
            <a:off x="304920" y="1219320"/>
            <a:ext cx="947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verview of SIPI Degree Progra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gree Progra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 Associate’s Degree – Associate’s of Sciences, Associate’s of Arts, and Associates of Applied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0 Certificat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Graduates"/>
          <p:cNvPicPr/>
          <p:nvPr/>
        </p:nvPicPr>
        <p:blipFill>
          <a:blip r:embed="rId1"/>
          <a:stretch/>
        </p:blipFill>
        <p:spPr>
          <a:xfrm>
            <a:off x="152280" y="4038480"/>
            <a:ext cx="4191120" cy="2656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" descr="F:\IMG_1549.JPG"/>
          <p:cNvPicPr/>
          <p:nvPr/>
        </p:nvPicPr>
        <p:blipFill>
          <a:blip r:embed="rId2"/>
          <a:srcRect l="3248" t="29215" r="9119" b="2630"/>
          <a:stretch/>
        </p:blipFill>
        <p:spPr>
          <a:xfrm>
            <a:off x="4343400" y="40384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Overview of Haskell and SIPI Operation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urrent operation budget for Haskel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Funding for Haskell FY 2009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$10,442,000 Education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$3,736,845 Faciliti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otal $14,178,845.0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urrent operation budget for SIPI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Funding for SIPI FY 2009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$6,716,123 Educat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$1,690,868 Faciliti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otal $8,406,991.0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unding levels at both schools are consistent with appropriations from over 20 years ago after adjustments for infl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5318280" y="2322360"/>
            <a:ext cx="214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Overview of Haskell and SIPI Operation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unding constraints have an adverse impact on accredit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unding constraints limit new degree programs, hiring, tribal outreach and training, services to students, facility improvements, and information technology (I.T. Infrastructur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unding is supplemented by gra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rvices are supplemented through partner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lans for Haskell and SIP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askell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Expand degree offering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rogram development for Student Succes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Enhance I.T. infrastructure to support online learn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Fill critical positions across campu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P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ll key positions, including instructor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xpand and maintain the Librar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rengthen student support servic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rengthen information technology infrastructur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mprove residential lif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680" y="1523880"/>
            <a:ext cx="43466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HASKELL INDIAN NATIONS UNIVERSITY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155 Indian Av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Lawrence, KS 6604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www.haskell.edu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3962520" y="1523880"/>
            <a:ext cx="4800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SOUTHWESTERN INDIAN POLYTECHNIC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9169 Coors Blvd. N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Albuquerque, NM 87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www.sipi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380880" y="3809880"/>
            <a:ext cx="5410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U.S. Department of In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Bureau of Indian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1849 C Street, NW, MS 3606-M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Washington, DC 202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www.bia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urpose of this Session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tain TBAC support for activities and missions of Haskell and SIP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an overview of Haskell and SIP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municate the value of Haskell and SIPI in building capacity throughout Indian Count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information to the TBAC about current and historic funding levels appropriated to Haskell and SIP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Bureau of Indian Education</a:t>
            </a:r>
            <a:br>
              <a:rPr sz="3000"/>
            </a:br>
            <a:r>
              <a:rPr b="0" lang="en-US" sz="2200" spc="-1" strike="noStrike">
                <a:solidFill>
                  <a:srgbClr val="7b9899"/>
                </a:solidFill>
                <a:latin typeface="Georgia"/>
              </a:rPr>
              <a:t>(Oversight for Post Secondary)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ephanie Birdwell (Cherokee Nation of Oklahoma), Deputy Director for Policy, Evaluation and Post Secondary Education (Washington D.C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mes Chris Redman (Chickasaw Nation), Education Program Specialist (OKC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n Holder (Wichita and Affiliated Tribes), Special Assistant to the Deputy Director (ABQ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randi Sweet (Turtle Mountain Chippewa), Program Analyst (Washington, D.C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licia Henson (Cherokee Nation of Oklahoma), Program Support Assistant (OKC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uanita Keesing (Pascua Yaqui), Program Analyst, (Washington, D.C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indy Wheeler (Oglala Sioux), Program Assistant (ABQ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IPI Administ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2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resident: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r. Sherry R. Allison (Dine’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Vice President-Academic Programs: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s. Valerie Montoya (Ohkay Owingeh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Vice-President College Operation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Acting): Mr. Monte Monteit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irector of Housing and Recreation: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r. Ray Gachupin (Jemez Pueblo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epartment Chair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Acting): Ms. Dorothy West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irector of Admission/Financial Aid: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Mr. Joe Carpio (Laguna Pueblo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2" name="Picture 4" descr="roof panorama"/>
          <p:cNvPicPr/>
          <p:nvPr/>
        </p:nvPicPr>
        <p:blipFill>
          <a:blip r:embed="rId1"/>
          <a:stretch/>
        </p:blipFill>
        <p:spPr>
          <a:xfrm>
            <a:off x="152280" y="4114800"/>
            <a:ext cx="8763120" cy="23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askell Administ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4" name="Content Placeholder 5"/>
          <p:cNvSpPr/>
          <p:nvPr/>
        </p:nvSpPr>
        <p:spPr>
          <a:xfrm>
            <a:off x="304920" y="152388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resident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Acting):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r. Venida Chenault (Prairie Band Potawato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Vice President-Academic Affair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r. Venida Chena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Vice-President University Service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Acting): Dr. Dan Wildcat (Muscog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irector of Housing and Recreation: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r. Jim Tucker (Cherok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egistra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Mr. Manny King (Northern Cheyen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5" descr="test"/>
          <p:cNvPicPr/>
          <p:nvPr/>
        </p:nvPicPr>
        <p:blipFill>
          <a:blip r:embed="rId1"/>
          <a:stretch/>
        </p:blipFill>
        <p:spPr>
          <a:xfrm>
            <a:off x="152280" y="3886200"/>
            <a:ext cx="883944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askell Board of Regen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0384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Judy Dehos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Western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Fannie Atcitty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Navajo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il Vigil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Southwest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Brandon Steven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Midwest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Lana Redey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Eastern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lberta Friday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Northwest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ussell Bradley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Four Tribes of Kans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adley Davi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Pacific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48320" y="171900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larena Brocki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Rocky Mountain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orge Tige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Eastern Oklahoma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arold Frazie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Great Plains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Joyce Bea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National Alumni Associ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Janice Mendez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Student Sena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Francis Jackso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Alaska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on Two Hatche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Southern Plains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9" name="Picture 5" descr="haskelllogo"/>
          <p:cNvPicPr/>
          <p:nvPr/>
        </p:nvPicPr>
        <p:blipFill>
          <a:blip r:embed="rId1"/>
          <a:stretch/>
        </p:blipFill>
        <p:spPr>
          <a:xfrm>
            <a:off x="152280" y="152280"/>
            <a:ext cx="947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5"/>
          <p:cNvSpPr/>
          <p:nvPr/>
        </p:nvSpPr>
        <p:spPr>
          <a:xfrm>
            <a:off x="380880" y="1752480"/>
            <a:ext cx="8458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r. Francis Tafoy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Chairman, Eight Northern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r. Stanley Milford, S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, Vice Chairman, Navajo Nation (New Mex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s. Pamela Cordov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Secretary, Mescalero Apache T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s. La Titia Taylo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Southern Ute Indian T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r. Freddie Howard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Navajo Nation (Arizo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r. Larry Schurz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Inter-Tribal Council of Ari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r. Paul Shattuck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Ten Southern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s. Paulette Dixo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Jicarilla Apache 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r. Conway Hannah,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SIPI Student Senate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IPI Board of Regen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582" name="Picture 4" descr="sipi logo.jpg"/>
          <p:cNvPicPr/>
          <p:nvPr/>
        </p:nvPicPr>
        <p:blipFill>
          <a:blip r:embed="rId1"/>
          <a:stretch/>
        </p:blipFill>
        <p:spPr>
          <a:xfrm>
            <a:off x="152280" y="15228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ccreditation overview of Haskell and SIP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askell and SIPI both received North Central Association (NCA) accreditation in the 1970’s and have maintained this accredit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oth institutions maintain specialized accreditations for specific degree progra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5" name="Picture 6" descr="Picture1"/>
          <p:cNvPicPr/>
          <p:nvPr/>
        </p:nvPicPr>
        <p:blipFill>
          <a:blip r:embed="rId1"/>
          <a:stretch/>
        </p:blipFill>
        <p:spPr>
          <a:xfrm>
            <a:off x="152280" y="3505320"/>
            <a:ext cx="4724640" cy="32004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Campus_Aerial"/>
          <p:cNvPicPr/>
          <p:nvPr/>
        </p:nvPicPr>
        <p:blipFill>
          <a:blip r:embed="rId2"/>
          <a:stretch/>
        </p:blipFill>
        <p:spPr>
          <a:xfrm>
            <a:off x="4648320" y="3505320"/>
            <a:ext cx="4267080" cy="3201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8"/>
          <p:cNvSpPr/>
          <p:nvPr/>
        </p:nvSpPr>
        <p:spPr>
          <a:xfrm>
            <a:off x="1752480" y="617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172200" y="617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k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Overview of Haskell Degree Program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gree Program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our baccalaureate degrees – Elementary Education, Environmental Science, American Indian Studies, Business Administr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14 Associate Degre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oposed Degrees – Liberal Arts, Community Health, and additional degrees identified in the course of national tribal dialogue session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dditional programs must align with existing resources and miss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1" name="Picture 5" descr="test22"/>
          <p:cNvPicPr/>
          <p:nvPr/>
        </p:nvPicPr>
        <p:blipFill>
          <a:blip r:embed="rId1"/>
          <a:stretch/>
        </p:blipFill>
        <p:spPr>
          <a:xfrm>
            <a:off x="152280" y="4876920"/>
            <a:ext cx="88394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9:43:17Z</dcterms:created>
  <dc:creator>lptp49</dc:creator>
  <dc:description/>
  <dc:language>en-US</dc:language>
  <cp:lastModifiedBy>amber_ebarb</cp:lastModifiedBy>
  <dcterms:modified xsi:type="dcterms:W3CDTF">2010-03-10T20:39:52Z</dcterms:modified>
  <cp:revision>32</cp:revision>
  <dc:subject/>
  <dc:title>Stakeholder Dialouge Session</dc:title>
</cp:coreProperties>
</file>