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860-C23A-415C-9E0A-515BD8D2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F99-7168-4D07-AFC9-A82ACFC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0CB-A306-4230-85AB-C85A075B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D10-1735-4C52-8BA9-DDB7AE69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00E5-C958-43DE-997F-F94E917B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5866-5EC4-438A-BF81-C033D64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2C6-A2CE-427E-AD81-CE5E9558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694B-9FD7-463E-AD13-0A52605A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61A-5071-45A6-8C2C-BB7260F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AFC-FAB4-42D5-87B5-45142A20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814-D91F-4D5C-B1CC-88296F6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E15-FA17-4299-9543-F0BF0E3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0701-8574-4DB4-B195-99B4A57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6F0-38FE-4A37-B5B7-72F10AA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F6E7-D648-4D5A-9B31-C0CE074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A060-B567-4145-94CB-0EB6C850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28DA-985E-4BC0-9C8F-06670B11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35A1-0A34-4B3D-A618-9184D7AB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B712-A60A-43F6-A738-12B9EC59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1DE8-CEA5-430C-84D7-42FDD4E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D1BF-F0C4-4037-9775-BDFD6BA7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609B-4D56-41F2-861B-CB087C72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8B8-4935-47FB-97E2-733238AB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8D5F-9BB9-4A04-B1C8-AF18B59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8C64-1C8F-41F4-BED4-2103DE14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95CE-2C0F-4E48-92D4-449B29F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BBC63-AF8C-4FC3-AEB8-7F60E55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F1F6-6E9B-421E-A11C-23D71BE0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B88E-525B-4DBE-8BEB-959B0E8A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14B2-9494-4369-8DF7-84BC5586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574F-C7D2-432E-B2EF-CFBC92A2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7DA9-843D-4894-90EB-0FB39B5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EEF0-FC53-47C2-8611-579756CC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A77-035B-46D9-9438-F4D62BA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BAB1-FA19-4471-86A2-AD15118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79C7-5A54-46DE-B1D5-7BC5388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8739-70BD-4DF1-9EB7-88E28BC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8E17-6A14-434F-BF71-E98F471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2C54-E894-4F23-ADA4-9E64893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D60A-2706-408B-A0DD-DADD395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B22D-5C44-4422-A80A-E7990AA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BBD5-245E-411E-BC62-ACAE390D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C5A6-5C43-4FC0-B837-E7388F31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3494-FFBA-4A54-9AE3-09404603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954-A412-49B7-B8DE-6332262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4BEBC-5F7D-497B-94FB-D48F9079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A2C0B-BB52-492C-A53F-51181DC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1026-723B-4CD0-A10D-A284674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C8A0-0CDE-49D5-9648-B7B4EB8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3F7C-B435-4868-9E62-95E45B5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352B-56E0-4F7F-B836-FBBAA5F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6870-ED85-4051-8A49-4001815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42B5-7011-428A-ADCE-E770CCD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1297-33BE-45E4-B5E7-2A8A540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BCE85-20AC-4AF9-8FE2-0631FA0E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817-70C9-4FC8-8A6F-CB43490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4B43-39AD-4525-A620-39AC2498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B99E-D8B2-4BB6-8E73-634B1C2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B3D8-4E6E-4E00-BFD6-668B39FA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55FD-9AF9-47F3-ABB5-1C4040F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BB96-DF73-4CD4-8496-C3BC314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A24D-8B2C-4DF0-BBF5-AED0912D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04A9-EC5F-42B1-BA35-E527AE33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8F82-8FFB-4E19-A8CF-4E7A60D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BAF3-DB84-4B5B-B619-A6A0C3E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686D-4BB3-4F69-96C3-488AB10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F24-AD06-4F6C-AE43-F0AF02A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8400-6ACE-4894-B3EF-F0AD7DB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964F-5D1E-4B8E-A267-EEC7C609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1804-575A-40AD-83F3-1A64E3D2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A58-858C-4997-8748-5EA3159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B04-0B86-436A-910A-4C4E3F7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D9F-A47E-4C81-86FE-1C27AB04CD13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A12-8FD3-4988-B11E-8CCC76507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9C4-1311-4782-9EC0-1B37BD64CF2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C0E5-3FFC-4459-870F-6437228666C3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3D5-4258-46BA-BD2B-409A198EF5AA}" type="slidenum">
              <a:rPr b="0" lang="en-US" sz="11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6A7-9F48-40C8-B5FE-90EE270FB132}" type="slidenum">
              <a:rPr b="0" lang="en-US" sz="11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y Jane Mill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B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ch 15-16, 201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6"/>
          <p:cNvSpPr/>
          <p:nvPr/>
        </p:nvSpPr>
        <p:spPr>
          <a:xfrm>
            <a:off x="1447920" y="152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Access the New TBAC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1523880" y="985680"/>
            <a:ext cx="6172200" cy="5720040"/>
          </a:xfrm>
          <a:prstGeom prst="rect">
            <a:avLst/>
          </a:prstGeom>
          <a:ln w="0">
            <a:noFill/>
          </a:ln>
        </p:spPr>
      </p:pic>
      <p:sp>
        <p:nvSpPr>
          <p:cNvPr id="265" name="Oval 4"/>
          <p:cNvSpPr/>
          <p:nvPr/>
        </p:nvSpPr>
        <p:spPr>
          <a:xfrm>
            <a:off x="2133720" y="38862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5486400" y="6248520"/>
            <a:ext cx="1600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1905120" y="609480"/>
            <a:ext cx="53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the Indian Affairs homepage www.indianaffairs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3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358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55d7e"/>
                </a:solidFill>
                <a:latin typeface="Trebuchet MS"/>
              </a:rPr>
              <a:t>http://tbac.bia.gov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172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3:00:32Z</dcterms:created>
  <dc:creator>allison.blotzer</dc:creator>
  <dc:description/>
  <dc:language>en-US</dc:language>
  <cp:lastModifiedBy>amber_ebarb</cp:lastModifiedBy>
  <dcterms:modified xsi:type="dcterms:W3CDTF">2010-03-10T20:39:34Z</dcterms:modified>
  <cp:revision>10</cp:revision>
  <dc:subject/>
  <dc:title>Slide 1</dc:title>
</cp:coreProperties>
</file>