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934A-E4CB-4499-A094-0A6BD66A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2478-99F5-41CC-AD4E-081874B9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A107-9198-46EE-8D35-829F870E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57E5-BEEB-4A54-A0FC-047B4DC8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3228-AEFB-4383-949C-590D2FB1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6EB4-E03E-44F5-84BD-CB2212F2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3935-8838-45E3-8715-63CC9828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5D26-5C80-4672-9870-CFB8EDC9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5813-B43C-466C-9F96-8700D61E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1FD7-CD06-45B7-BEA9-B4AB7280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AEC1-B74A-4D0E-8C07-F78953E2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A8F0-0DCA-48F4-A5FF-E1D31E02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65DE-356B-4719-ADD5-58BF75B8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3D97-2B17-40D3-B0B6-60939CCD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BC78-2C03-4617-9D11-BEBCB328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97F7-B4D0-4E71-8887-CD4CDAC5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E19B-F4D6-40F2-9055-B07E840D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545D6-849A-450E-BA64-8637BF145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AAA5D-845F-4A6F-BBF2-A74B2714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EE9DB-90FF-4043-B9C1-A8DD48A4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67DF3-7196-48B6-BF41-2205563F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04F28-7E4A-4E90-9EE9-9F9BCFC9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72CC-3A54-413D-B37E-8D38E18F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72A08-9F12-4F47-88FF-A0A1F2A6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43876-FA32-44D8-AA9E-6D24B42D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A4268-A72E-496E-8DA8-D33AA663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18F3F-E70F-4983-99C1-8A9E2851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E353B-EE9D-4624-AE35-F2290B04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8CA33-1ECA-4439-BA25-EA411B28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F2D98-1C1D-4F96-B5F2-3F877036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218E6-FCC8-443C-8219-835BBB5E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AF81D-007E-4574-9274-47E9943C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17E77-DFFE-401B-B517-DA19BE55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84FE-E466-4D87-86C0-3A90ED33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7E9F4-D462-4100-9A1A-B9CC5822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1AACD-86CC-4433-9EEF-E9C0DF31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06779-8E03-4CD7-A595-458214A9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2DF92-4C43-4789-A1D7-67E73215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36715-08E1-4B0B-B98A-35262240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5EBF3-095C-4F2C-BFDD-C6790D07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810B2-F8BB-4758-B2D9-7F4E5FB8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5FAC4-9EEF-401D-B119-E18903BC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0384C-C47A-4C83-A401-AB9B8D3A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6924B-1880-43C5-9F37-C51BBA59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7569-C5C0-4D49-BB7C-774F8CA2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6F8EB-B712-40AD-8BBC-4269AA26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8F53D-26E8-4D6B-BC65-0D5B0527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F1D4B-0C11-4B02-A619-53B9B0F5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EE793-E9B6-4EE0-A420-314DE7FB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5C1C4-CCB6-4C78-9B7C-778816E5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C5770-664F-46C7-B8D2-F5C5DA17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2AF0B-2FD5-4F4B-8F7A-F10F7BB2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1D3A9-4FF7-4229-AF19-FD77D2B7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B46D0-9377-46CB-A858-0A3BE69F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6A47D-60F3-4198-8BF1-867B3A7A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7F5B-BB3D-4167-8B8E-02E0FDCE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DDABC-278A-4BEE-A82E-4DF461CA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FA6A5-954C-43D2-9ECC-2E0070A6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2CC27-BB89-41D5-9B48-37C39FA7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6ADED-B46D-4E86-AECD-B8E185A2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43D98-8C7F-4BF1-B00D-291949A1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A6A54-2C30-48FA-BDC3-337BAC36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C2EB0-95E5-482B-989E-248DF143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EA846-1177-48D3-8C46-E5C58E6D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8CEEF-43DB-4077-9C83-F8C39F77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51741-5F1A-494D-8C91-C563EBB6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D67F-E3D3-43C7-B2AD-E0A8E553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26F18-6E8F-4C30-A581-549ED1A3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C4C39-0DFD-4F9A-88EC-D4CDE3AB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23AE3-A3DF-4A81-8329-CC62DCAC9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BDCD-5B83-4C91-BA63-50FD2122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15B2-8607-492D-9754-DFEB228F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9A68-9ADA-4B74-AD5E-F382428ABE13}" type="slidenum">
              <a:rPr b="0" lang="en-US" sz="11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9C28-4876-4B8F-824B-85A992155A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86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Straight Connector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46C5-AEDD-4251-B346-7A55F31476C6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54A3-1803-45BE-B14A-ED840CD42B75}" type="slidenum">
              <a:rPr b="0" lang="en-US" sz="11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bddc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ddc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3326-7D4E-4AA6-A604-44EC455E380D}" type="slidenum">
              <a:rPr b="0" lang="en-US" sz="11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18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DCE5-F0AE-4C16-BE52-14E0C5194E1A}" type="slidenum">
              <a:rPr b="0" lang="en-US" sz="11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ary Jane Mille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BAC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arch 15-16, 2010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6"/>
          <p:cNvSpPr/>
          <p:nvPr/>
        </p:nvSpPr>
        <p:spPr>
          <a:xfrm>
            <a:off x="1447920" y="15228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ow To Access the New TBAC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1523880" y="985680"/>
            <a:ext cx="6172200" cy="5720040"/>
          </a:xfrm>
          <a:prstGeom prst="rect">
            <a:avLst/>
          </a:prstGeom>
          <a:ln w="0">
            <a:noFill/>
          </a:ln>
        </p:spPr>
      </p:pic>
      <p:sp>
        <p:nvSpPr>
          <p:cNvPr id="265" name="Oval 4"/>
          <p:cNvSpPr/>
          <p:nvPr/>
        </p:nvSpPr>
        <p:spPr>
          <a:xfrm>
            <a:off x="2133720" y="3886200"/>
            <a:ext cx="6858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"/>
          <p:cNvSpPr/>
          <p:nvPr/>
        </p:nvSpPr>
        <p:spPr>
          <a:xfrm>
            <a:off x="5486400" y="6248520"/>
            <a:ext cx="160020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8"/>
          <p:cNvSpPr/>
          <p:nvPr/>
        </p:nvSpPr>
        <p:spPr>
          <a:xfrm>
            <a:off x="1905120" y="609480"/>
            <a:ext cx="53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om the Indian Affairs homepage www.indianaffairs.g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Title 3" descr=""/>
          <p:cNvPicPr/>
          <p:nvPr/>
        </p:nvPicPr>
        <p:blipFill>
          <a:blip r:embed="rId1"/>
          <a:stretch/>
        </p:blipFill>
        <p:spPr>
          <a:xfrm>
            <a:off x="347760" y="317520"/>
            <a:ext cx="735804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55d7e"/>
                </a:solidFill>
                <a:latin typeface="Trebuchet MS"/>
              </a:rPr>
              <a:t>http://tbac.bia.gov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1600200" y="838080"/>
            <a:ext cx="6172200" cy="57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3:00:32Z</dcterms:created>
  <dc:creator>allison.blotzer</dc:creator>
  <dc:description/>
  <dc:language>en-US</dc:language>
  <cp:lastModifiedBy>amber_ebarb</cp:lastModifiedBy>
  <dcterms:modified xsi:type="dcterms:W3CDTF">2010-03-10T20:39:34Z</dcterms:modified>
  <cp:revision>10</cp:revision>
  <dc:subject/>
  <dc:title>Slide 1</dc:title>
</cp:coreProperties>
</file>