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3927240" y="-360"/>
            <a:ext cx="30049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0" y="862452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3927240" y="8624520"/>
            <a:ext cx="30049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8DC5-B3F4-4BDB-A9BA-94D2B1DF0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8221-37C5-48BF-88ED-A340DF8841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is slide is to identify scope and should only take 3 minutes (Total Time 5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E1EA-356A-42E2-9074-DC66E83AF1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Schedule – 5 Minutes (Total Time – 10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E82C-A894-46FA-B33B-E4BEA85B10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ypes of measures and where they originate – 3 Minutes (Total Time – 13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1253-568A-488C-9CEA-2C8FB91A5B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Organizational Structure – 2 Minutes – (Total Time) 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D24A-7FCD-4CF5-8468-1CC01A8B4F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lide I will address TDE Roles and Privileges only to emphasize that Data below the Region level will be viewable only by authorized members of the Agency or T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inutes (Total Time 23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554E-4794-44FC-A059-A2C442D2AC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inutes (Total Time 30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ed by 10 Minute Demo of Prototype (Total Time 40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for Q&amp;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27600" y="862488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67C1-9EC5-495F-82C2-3BE374D3CB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EC8E-1A42-4795-B149-C8CFCB198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D604-855E-4C0A-A86C-C3F75B256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84624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5EB0-2D05-41AD-A07C-60A7ACBA4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3680" y="121932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06480" y="121932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3680" y="384624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06480" y="384624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F944-A762-4AF1-907F-3DCC11B39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CF53-6B65-4653-9DB4-17C3C35CEF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3F237-8528-4AE3-9F5E-9E901B21DD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9DA32-23A2-42FC-8456-D8F38669E5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7F546-CE79-4FBB-9A94-3216EA9098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5E218-E294-4A56-A1C6-26F0936D94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18960" y="4568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53009-FA4D-49F3-8700-9BEB392D95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B99BD-0353-4001-8D6C-69FDFFE431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A11D-DEE6-4B2A-BB03-D6BD4A1BB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71160" y="384624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6E23B-00DE-49DE-B721-2EEBDD8AE3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D0E06-084B-4695-AA03-EBA98E578D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B5660-9DF4-4441-A4FA-EB4C336E12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71160" y="384624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717AC-6FEE-4452-8525-63EA0DF746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43680" y="121932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06480" y="121932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43680" y="384624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06480" y="384624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B2840-8488-4E8B-B0A9-42FB847D1E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8502-8C08-42F4-80C9-A7083C7DD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E4346-891F-40D9-8123-62F0E0653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6466-019E-4341-A681-A8BDCCCDF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8960" y="4568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7D2D-6F05-48D4-8BC5-D8909C422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59FF-AC7C-4F4D-8987-58AAD8601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84624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E215-3BBA-45A7-B722-E055A0E47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CA15-2FCA-464B-A857-6FF43B507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763120" cy="50292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3548a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" name="Rectangle 21"/>
          <p:cNvSpPr/>
          <p:nvPr/>
        </p:nvSpPr>
        <p:spPr>
          <a:xfrm>
            <a:off x="0" y="0"/>
            <a:ext cx="366840" cy="6856560"/>
          </a:xfrm>
          <a:prstGeom prst="rect">
            <a:avLst/>
          </a:prstGeom>
          <a:gradFill rotWithShape="0">
            <a:gsLst>
              <a:gs pos="0">
                <a:srgbClr val="53548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23" descr=""/>
          <p:cNvPicPr/>
          <p:nvPr/>
        </p:nvPicPr>
        <p:blipFill>
          <a:blip r:embed="rId3"/>
          <a:stretch/>
        </p:blipFill>
        <p:spPr>
          <a:xfrm>
            <a:off x="0" y="254160"/>
            <a:ext cx="9142560" cy="9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2a874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4B89-93A3-48D5-95E0-430EC264B552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5" name="Line 26"/>
          <p:cNvSpPr/>
          <p:nvPr/>
        </p:nvSpPr>
        <p:spPr>
          <a:xfrm>
            <a:off x="0" y="2095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27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1143000"/>
            <a:ext cx="3505320" cy="5715000"/>
          </a:xfrm>
          <a:prstGeom prst="rect">
            <a:avLst/>
          </a:prstGeom>
          <a:solidFill>
            <a:srgbClr val="c2a8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30"/>
          <p:cNvSpPr/>
          <p:nvPr/>
        </p:nvSpPr>
        <p:spPr>
          <a:xfrm>
            <a:off x="0" y="4952880"/>
            <a:ext cx="5638680" cy="190512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4"/>
          <p:cNvSpPr/>
          <p:nvPr/>
        </p:nvSpPr>
        <p:spPr>
          <a:xfrm>
            <a:off x="380880" y="4343400"/>
            <a:ext cx="8763120" cy="1295280"/>
          </a:xfrm>
          <a:prstGeom prst="rect">
            <a:avLst/>
          </a:prstGeom>
          <a:gradFill rotWithShape="0">
            <a:gsLst>
              <a:gs pos="0">
                <a:srgbClr val="c2a87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913040" y="914400"/>
            <a:ext cx="7230960" cy="3429000"/>
          </a:xfrm>
          <a:prstGeom prst="rect">
            <a:avLst/>
          </a:prstGeom>
          <a:solidFill>
            <a:srgbClr val="c2a8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3179880"/>
            <a:ext cx="838080" cy="3657600"/>
          </a:xfrm>
          <a:prstGeom prst="rect">
            <a:avLst/>
          </a:prstGeom>
          <a:gradFill rotWithShape="0">
            <a:gsLst>
              <a:gs pos="0">
                <a:srgbClr val="53548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912960" y="2514600"/>
            <a:ext cx="1144440" cy="1828800"/>
          </a:xfrm>
          <a:prstGeom prst="rect">
            <a:avLst/>
          </a:prstGeom>
          <a:solidFill>
            <a:srgbClr val="c2a8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514600" y="1219320"/>
            <a:ext cx="841320" cy="64296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1676520" y="1863720"/>
            <a:ext cx="841320" cy="6332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835200" y="2494080"/>
            <a:ext cx="841320" cy="68256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5" descr=""/>
          <p:cNvPicPr/>
          <p:nvPr/>
        </p:nvPicPr>
        <p:blipFill>
          <a:blip r:embed="rId3"/>
          <a:stretch/>
        </p:blipFill>
        <p:spPr>
          <a:xfrm>
            <a:off x="1440" y="279360"/>
            <a:ext cx="91425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Line 31"/>
          <p:cNvSpPr/>
          <p:nvPr/>
        </p:nvSpPr>
        <p:spPr>
          <a:xfrm>
            <a:off x="0" y="1251000"/>
            <a:ext cx="9144000" cy="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36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763120" cy="50292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3548a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a87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68576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3808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9053-5A6E-4FE0-AC03-7D9699FF7E54}" type="slidenum">
              <a:rPr b="0" lang="en-US" sz="1200" spc="-1" strike="noStrike">
                <a:solidFill>
                  <a:srgbClr val="43808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1433160"/>
            <a:ext cx="6019920" cy="32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Tribal Budget Advisory Council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DMC Update</a:t>
            </a:r>
            <a:endParaRPr b="1" lang="en-US" sz="4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38086"/>
                </a:solidFill>
                <a:latin typeface="Arial"/>
              </a:rPr>
              <a:t>May 17, 2010</a:t>
            </a:r>
            <a:endParaRPr b="0" lang="en-US" sz="34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037560" y="6019920"/>
            <a:ext cx="28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ee Free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ee.Freeman@bia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For More Information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880" y="1219320"/>
            <a:ext cx="8763120" cy="50292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C Chair – Ron Allen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llen@jamestowntribe.org</a:t>
            </a:r>
            <a:endParaRPr b="0" lang="en-US" sz="28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C Co-Chair – Sharee Freeman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e.freeman@bia.gov</a:t>
            </a:r>
            <a:endParaRPr b="0" lang="en-US" sz="28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BA97-4D43-4BDB-A0A9-E14E94A7B7B5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Background Information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1219320"/>
            <a:ext cx="8763120" cy="50292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462e"/>
                </a:solidFill>
                <a:latin typeface="Arial"/>
              </a:rPr>
              <a:t>Short history of Tribal Data Exchange (TDE)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B57D-6CFB-4B4B-9EB8-CD7FB412C11C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Goals and Objectives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1219320"/>
            <a:ext cx="8763120" cy="50292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462e"/>
                </a:solidFill>
                <a:latin typeface="Arial"/>
              </a:rPr>
              <a:t>GPRA Reporting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462e"/>
                </a:solidFill>
                <a:latin typeface="Arial"/>
              </a:rPr>
              <a:t>Feed into the BIA system to report aggregate results of performance to the Department</a:t>
            </a:r>
            <a:endParaRPr b="0" lang="en-US" sz="28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462e"/>
                </a:solidFill>
                <a:latin typeface="Arial"/>
              </a:rPr>
              <a:t>Managing Tribal Programs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462e"/>
                </a:solidFill>
                <a:latin typeface="Arial"/>
              </a:rPr>
              <a:t>Providing a mechanism to track data needed to manage programs at the tribal level</a:t>
            </a:r>
            <a:endParaRPr b="0" lang="en-US" sz="28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F86C-0CA3-448A-B4CE-8EBA44E3A75B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Project Plan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219320"/>
            <a:ext cx="8763120" cy="50292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462e"/>
                </a:solidFill>
                <a:latin typeface="Arial"/>
              </a:rPr>
              <a:t>System Release –  August 27</a:t>
            </a:r>
            <a:endParaRPr b="0" lang="en-US" sz="24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462e"/>
                </a:solidFill>
                <a:latin typeface="Arial"/>
              </a:rPr>
              <a:t>User Acceptance Testing – September 1 thru September 30</a:t>
            </a:r>
            <a:endParaRPr b="0" lang="en-US" sz="24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462e"/>
                </a:solidFill>
                <a:latin typeface="Arial"/>
              </a:rPr>
              <a:t>Need volunteers to assist with User Acceptance Testing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462e"/>
                </a:solidFill>
                <a:latin typeface="Arial"/>
              </a:rPr>
              <a:t>End User Training – September 1 thru September 30</a:t>
            </a:r>
            <a:endParaRPr b="0" lang="en-US" sz="24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462e"/>
                </a:solidFill>
                <a:latin typeface="Arial"/>
              </a:rPr>
              <a:t>Both Web-Based and Classroom Training will be offered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462e"/>
                </a:solidFill>
                <a:latin typeface="Arial"/>
              </a:rPr>
              <a:t>Production Deployment – October 1, 2010</a:t>
            </a:r>
            <a:endParaRPr b="0" lang="en-US" sz="24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462e"/>
                </a:solidFill>
                <a:latin typeface="Arial"/>
              </a:rPr>
              <a:t>TDE Pilot – October 1 – December 31, 2010</a:t>
            </a:r>
            <a:endParaRPr b="0" lang="en-US" sz="24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462e"/>
                </a:solidFill>
                <a:latin typeface="Arial"/>
              </a:rPr>
              <a:t>Ideally 20-30 Tribes pilot during 1</a:t>
            </a:r>
            <a:r>
              <a:rPr b="0" lang="en-US" sz="2000" spc="-1" strike="noStrike" baseline="30000">
                <a:solidFill>
                  <a:srgbClr val="68462e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68462e"/>
                </a:solidFill>
                <a:latin typeface="Arial"/>
              </a:rPr>
              <a:t> Quarter FY2011 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462e"/>
                </a:solidFill>
                <a:latin typeface="Arial"/>
              </a:rPr>
              <a:t>10-15 Tribes volunteered during SG Conference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EFF3-1A1E-4A74-8001-358CBFACAEB0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Data Structure - Measures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pic>
        <p:nvPicPr>
          <p:cNvPr id="114" name="Content Placeholder 4" descr=""/>
          <p:cNvPicPr/>
          <p:nvPr/>
        </p:nvPicPr>
        <p:blipFill>
          <a:blip r:embed="rId1"/>
          <a:stretch/>
        </p:blipFill>
        <p:spPr>
          <a:xfrm>
            <a:off x="262080" y="1163520"/>
            <a:ext cx="8901000" cy="510408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3"/>
          <p:cNvSpPr/>
          <p:nvPr/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3410-034D-44A6-979B-13768B4A43E0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dede"/>
                </a:solidFill>
                <a:latin typeface="Arial"/>
              </a:rPr>
              <a:t>Data Structure – Organizational Hierarchy</a:t>
            </a:r>
            <a:endParaRPr b="1" lang="en-US" sz="2800" spc="-1" strike="noStrike">
              <a:solidFill>
                <a:srgbClr val="dedede"/>
              </a:solidFill>
              <a:latin typeface="Arial"/>
            </a:endParaRPr>
          </a:p>
        </p:txBody>
      </p:sp>
      <p:pic>
        <p:nvPicPr>
          <p:cNvPr id="117" name="Content Placeholder 4" descr=""/>
          <p:cNvPicPr/>
          <p:nvPr/>
        </p:nvPicPr>
        <p:blipFill>
          <a:blip r:embed="rId1"/>
          <a:stretch/>
        </p:blipFill>
        <p:spPr>
          <a:xfrm>
            <a:off x="378000" y="1262160"/>
            <a:ext cx="8772480" cy="509580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3"/>
          <p:cNvSpPr/>
          <p:nvPr/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0BE9-855A-41D3-A971-695B5BB18183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TDE Roles and Privileges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A020-8AAC-4A0A-96CD-E61C1B833109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Diagram 26" descr=""/>
          <p:cNvPicPr/>
          <p:nvPr/>
        </p:nvPicPr>
        <p:blipFill>
          <a:blip r:embed="rId1"/>
          <a:stretch/>
        </p:blipFill>
        <p:spPr>
          <a:xfrm>
            <a:off x="835200" y="1384200"/>
            <a:ext cx="7937280" cy="5480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8" descr="computer_user_orange.jpg"/>
          <p:cNvPicPr/>
          <p:nvPr/>
        </p:nvPicPr>
        <p:blipFill>
          <a:blip r:embed="rId2"/>
          <a:stretch/>
        </p:blipFill>
        <p:spPr>
          <a:xfrm>
            <a:off x="7269120" y="4300560"/>
            <a:ext cx="493920" cy="7588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9"/>
          <p:cNvSpPr/>
          <p:nvPr/>
        </p:nvSpPr>
        <p:spPr>
          <a:xfrm>
            <a:off x="7238880" y="505764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2" descr="computer_user_purple.jpg"/>
          <p:cNvPicPr/>
          <p:nvPr/>
        </p:nvPicPr>
        <p:blipFill>
          <a:blip r:embed="rId3"/>
          <a:stretch/>
        </p:blipFill>
        <p:spPr>
          <a:xfrm>
            <a:off x="7238880" y="3152880"/>
            <a:ext cx="495360" cy="761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3"/>
          <p:cNvSpPr/>
          <p:nvPr/>
        </p:nvSpPr>
        <p:spPr>
          <a:xfrm>
            <a:off x="7238880" y="391464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6" descr="computer_user_yellow.jpg"/>
          <p:cNvPicPr/>
          <p:nvPr/>
        </p:nvPicPr>
        <p:blipFill>
          <a:blip r:embed="rId4"/>
          <a:stretch/>
        </p:blipFill>
        <p:spPr>
          <a:xfrm>
            <a:off x="7238880" y="5562720"/>
            <a:ext cx="495360" cy="7617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9"/>
          <p:cNvSpPr/>
          <p:nvPr/>
        </p:nvSpPr>
        <p:spPr>
          <a:xfrm>
            <a:off x="7238880" y="635328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D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dede"/>
                </a:solidFill>
                <a:latin typeface="Arial"/>
              </a:rPr>
              <a:t>Next Steps</a:t>
            </a:r>
            <a:endParaRPr b="1" lang="en-US" sz="36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1219320"/>
            <a:ext cx="8763120" cy="50292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462e"/>
                </a:solidFill>
                <a:latin typeface="Arial"/>
              </a:rPr>
              <a:t>Functional Prototype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462e"/>
                </a:solidFill>
                <a:latin typeface="Arial"/>
              </a:rPr>
              <a:t>Reporting Requirements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462e"/>
                </a:solidFill>
                <a:latin typeface="Arial"/>
              </a:rPr>
              <a:t>Training Requirements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462e"/>
                </a:solidFill>
                <a:latin typeface="Arial"/>
              </a:rPr>
              <a:t>Testing and Pilot Participants</a:t>
            </a: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0EEE-7575-4EEA-9F76-25F0F21FE49A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dede"/>
                </a:solidFill>
                <a:latin typeface="Arial"/>
              </a:rPr>
              <a:t>$500K Funding - </a:t>
            </a:r>
            <a:r>
              <a:rPr b="1" lang="en-US" sz="2000" spc="-1" strike="noStrike">
                <a:solidFill>
                  <a:srgbClr val="dedede"/>
                </a:solidFill>
                <a:latin typeface="Arial"/>
              </a:rPr>
              <a:t>Need</a:t>
            </a:r>
            <a:r>
              <a:rPr b="1" lang="en-US" sz="2400" spc="-1" strike="noStrike">
                <a:solidFill>
                  <a:srgbClr val="dedede"/>
                </a:solidFill>
                <a:latin typeface="Arial"/>
              </a:rPr>
              <a:t> Your Recommendations</a:t>
            </a:r>
            <a:endParaRPr b="1" lang="en-US" sz="24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219320"/>
            <a:ext cx="8763120" cy="50292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462e"/>
                </a:solidFill>
                <a:latin typeface="Arial"/>
              </a:rPr>
              <a:t>Is it permanent?</a:t>
            </a:r>
            <a:endParaRPr b="0" lang="en-US" sz="24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462e"/>
                </a:solidFill>
                <a:latin typeface="Arial"/>
              </a:rPr>
              <a:t>Where is it going to go?</a:t>
            </a:r>
            <a:endParaRPr b="0" lang="en-US" sz="24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462e"/>
                </a:solidFill>
                <a:latin typeface="Arial"/>
              </a:rPr>
              <a:t>PPA? OSG? Region? Tribe?</a:t>
            </a:r>
            <a:endParaRPr b="0" lang="en-US" sz="1800" spc="-1" strike="noStrike">
              <a:solidFill>
                <a:srgbClr val="c2a87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3548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462e"/>
                </a:solidFill>
                <a:latin typeface="Arial"/>
              </a:rPr>
              <a:t>What is it going to support?</a:t>
            </a:r>
            <a:endParaRPr b="0" lang="en-US" sz="24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and Tri-annual updates to the TDE Certification and Accreditation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 and Maintenance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Desk Support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Hoc Reporting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Standard Reports to support NCAI, TBAC and Congressional Reporting Requirements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Based Training for ASIA employees and Tribal representatives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Analyst Support to summarize data at Tribal Level</a:t>
            </a: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54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2a874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477120" y="64008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1447-80FD-4F95-A0F6-DBAF090223E2}" type="slidenum">
              <a:rPr b="0" lang="en-US" sz="1200" spc="-1" strike="noStrike">
                <a:solidFill>
                  <a:srgbClr val="c2a874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8:00:22Z</dcterms:created>
  <dc:creator>staylor</dc:creator>
  <dc:description/>
  <dc:language>en-US</dc:language>
  <cp:lastModifiedBy>ECright</cp:lastModifiedBy>
  <dcterms:modified xsi:type="dcterms:W3CDTF">2010-05-12T23:58:06Z</dcterms:modified>
  <cp:revision>285</cp:revision>
  <dc:subject/>
  <dc:title>Slide 1</dc:title>
</cp:coreProperties>
</file>