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73152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328760" y="698040"/>
            <a:ext cx="436248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2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440C-3385-4556-9FE4-5B21E3D51C67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1C14-45F0-408B-A376-FE9F267EE708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CD69-B9F2-45E7-9BC3-AF1E90242A48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DA3A-EA4C-4026-BBE7-197ECE8CFA29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0053-6A66-42FE-A8AF-0212869FC4DB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803D-F638-4F4A-9DAC-6A1570E2751D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F6A4-9755-4A37-9D7A-DDB40471F8C2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3638-62D7-4B15-A4BA-76EEB2E3D6E2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EF19-EB97-42EE-AC0F-F84276032B34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83EB-7281-4420-85B3-58A0C4E02D65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8716-BE7A-4A89-A72F-7DF1EDF82D15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7AD-F0E7-4D75-82DD-79716C3A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3A0-082E-4B22-BEC2-834066C6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FA4-A393-4211-BAF6-747096B9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A2B-E6FC-4834-832B-F511E0E3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165C-9165-48FA-9B47-0B94A983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3468-E41B-43C9-BAAF-F02E15B1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14D3-7905-4741-83B1-A58A3B11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5730-3C96-4ABA-996B-CCB38B07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FA44-8921-4DCE-B489-7B03211A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B213-0FBA-4052-BCFA-ADB6489A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B092-A33C-4037-BB2F-D1B7FA5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FBF-4A79-426F-9DD2-A3E78CF5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7678-81B8-46CC-AF05-BAD3BCE4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64D1-FA72-4785-AAF2-0D9757DF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9111-1547-4E5B-9618-995CF161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4995-FF4B-47BC-85F3-6D99E8D7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763C-6849-436E-B366-E23677BF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EB2A-9AAD-4234-9BDD-1D4633A8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F9A6-B368-4AC5-AF80-8FAD1479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A420-3D2C-4906-A605-AB041972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C2CC-2512-4258-88C6-90AD43A6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5DE7-C36E-4063-8611-77A1BFA9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6C9-3071-4680-9DA3-4B7C4287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AF76-9B7B-4D51-A43C-D230E327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65D0-A858-4725-8A68-333B7FC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1391-6E7E-43DB-A434-F09AEEDC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8AD2-4183-4588-BDC9-7B4AA62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68B0-B35D-47A9-BAF6-C6A8CF86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6BF4-498B-4381-9387-FC81924A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68D3-2AAD-4B5B-842A-00E9F611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CFE-2EFC-498B-AA5F-7838B854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7EC-8A5D-485F-99B1-03EE80C8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D50-91A7-4861-AD33-52FD0EE9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25A-E91D-4744-8D2F-35C3C281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1CB-45D4-417E-BDE8-21AEB77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700-8B3C-40E8-AC8E-9FD2301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7329240"/>
            <a:chOff x="0" y="0"/>
            <a:chExt cx="9159840" cy="7329240"/>
          </a:xfrm>
        </p:grpSpPr>
        <p:sp>
          <p:nvSpPr>
            <p:cNvPr id="1" name="Rectangle 3"/>
            <p:cNvSpPr/>
            <p:nvPr/>
          </p:nvSpPr>
          <p:spPr>
            <a:xfrm>
              <a:off x="0" y="7089120"/>
              <a:ext cx="8078760" cy="2401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1348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731592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729480"/>
              <a:chOff x="7848720" y="1440"/>
              <a:chExt cx="1295280" cy="672948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421000"/>
                <a:chOff x="8381880" y="1440"/>
                <a:chExt cx="762120" cy="242100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94480"/>
                  <a:chOff x="8704440" y="1440"/>
                  <a:chExt cx="279360" cy="294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94480"/>
                    <a:chOff x="8704440" y="1440"/>
                    <a:chExt cx="279360" cy="294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37200" y="-31320"/>
                      <a:ext cx="2138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c1c17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48000" y="108000"/>
                      <a:ext cx="150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c1c17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3860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280" y="78120"/>
                    <a:ext cx="4572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6840" y="61920"/>
                    <a:ext cx="684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6320" y="117000"/>
                    <a:ext cx="270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0720" y="205560"/>
                    <a:ext cx="6984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1040" y="179280"/>
                    <a:ext cx="4104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3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37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68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748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9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3003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7064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11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706760"/>
                <a:ext cx="828720" cy="5024160"/>
                <a:chOff x="7848720" y="1706760"/>
                <a:chExt cx="828720" cy="502416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7067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2031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68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925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30884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41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4948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9826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7389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4145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3891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3565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63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520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6080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770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6014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4213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62582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5236200"/>
              <a:ext cx="1190520" cy="20696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5182200"/>
              <a:ext cx="1219320" cy="213372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3005640"/>
              <a:ext cx="1231920" cy="430308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774600"/>
              <a:ext cx="979560" cy="23302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55400"/>
              <a:ext cx="914400" cy="5385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79360"/>
              <a:ext cx="909720" cy="3276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576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5769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73177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645240"/>
              <a:ext cx="1165320" cy="66024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095000" y="3545280"/>
              <a:ext cx="731592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657480"/>
            <a:ext cx="1782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663960"/>
            <a:ext cx="34560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663960"/>
            <a:ext cx="1755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7579-CFAD-4B6D-8A30-0DD9AF930B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6625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6625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6625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36F-9CD2-4694-976F-89C9BFEF8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7329240"/>
            <a:chOff x="0" y="0"/>
            <a:chExt cx="9159840" cy="7329240"/>
          </a:xfrm>
        </p:grpSpPr>
        <p:sp>
          <p:nvSpPr>
            <p:cNvPr id="138" name="Rectangle 3"/>
            <p:cNvSpPr/>
            <p:nvPr/>
          </p:nvSpPr>
          <p:spPr>
            <a:xfrm>
              <a:off x="0" y="7089120"/>
              <a:ext cx="8078760" cy="2401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3240"/>
              <a:ext cx="8078760" cy="213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3240"/>
              <a:ext cx="1203120" cy="731268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0"/>
              <a:ext cx="1295280" cy="6731280"/>
              <a:chOff x="7848720" y="0"/>
              <a:chExt cx="1295280" cy="673128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0"/>
                <a:ext cx="762120" cy="2424960"/>
                <a:chOff x="8381880" y="0"/>
                <a:chExt cx="762120" cy="24249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5880" y="0"/>
                  <a:ext cx="279360" cy="295920"/>
                  <a:chOff x="8705880" y="0"/>
                  <a:chExt cx="279360" cy="29592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5880" y="0"/>
                    <a:ext cx="279360" cy="295920"/>
                    <a:chOff x="8705880" y="0"/>
                    <a:chExt cx="279360" cy="29592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37920" y="-32040"/>
                      <a:ext cx="21492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c1c17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49080" y="107640"/>
                      <a:ext cx="15120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c1c17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5400" y="1407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7360" y="79920"/>
                    <a:ext cx="460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8280" y="64080"/>
                    <a:ext cx="684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9160"/>
                    <a:ext cx="270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2160" y="207720"/>
                    <a:ext cx="6984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480" y="181800"/>
                    <a:ext cx="4104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69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69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72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781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967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3032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7092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1153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709640"/>
                <a:ext cx="828720" cy="5021640"/>
                <a:chOff x="7848720" y="1709640"/>
                <a:chExt cx="828720" cy="50216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7096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20347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6845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9282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30906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4156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497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9844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7407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41468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3905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3594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6342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52030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6091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7715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60152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4216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62589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5237280"/>
              <a:ext cx="1190520" cy="20685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5183280"/>
              <a:ext cx="1219320" cy="21326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3007800"/>
              <a:ext cx="1231920" cy="430092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776400"/>
              <a:ext cx="979560" cy="23292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58640"/>
              <a:ext cx="914400" cy="538272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82600"/>
              <a:ext cx="909720" cy="32749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3240"/>
              <a:ext cx="576360" cy="3574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4680"/>
              <a:ext cx="300240" cy="3575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4680"/>
              <a:ext cx="88920" cy="73144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645600"/>
              <a:ext cx="1165320" cy="66024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096800" y="3546720"/>
              <a:ext cx="731268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657480"/>
            <a:ext cx="1782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663960"/>
            <a:ext cx="34560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663960"/>
            <a:ext cx="1755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A97B-CA74-4599-BA90-AFF50243E9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61600"/>
            <a:ext cx="6966000" cy="21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08 Enacted Budget</a:t>
            </a:r>
            <a:br>
              <a:rPr sz="4000"/>
            </a:b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637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y Jane Mi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Office of Budge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Budget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ton Washington,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3-14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4"/>
          <p:cNvSpPr txBox="1"/>
          <p:nvPr/>
        </p:nvSpPr>
        <p:spPr>
          <a:xfrm>
            <a:off x="1981080" y="2371680"/>
            <a:ext cx="4724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0605a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0605a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680840" y="22860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Appropriations Process as it Impacts Tribe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812880"/>
            <a:ext cx="34290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 ‘07</a:t>
            </a:r>
            <a:endParaRPr b="0" lang="en-US" sz="2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657600" y="812880"/>
            <a:ext cx="25146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 ‘08</a:t>
            </a:r>
            <a:endParaRPr b="0" lang="en-US" sz="2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6172200" y="812880"/>
            <a:ext cx="144792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‘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7620120" y="812880"/>
            <a:ext cx="13716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‘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28600" y="1382760"/>
            <a:ext cx="34290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657600" y="1382760"/>
            <a:ext cx="25146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7620120" y="1371600"/>
            <a:ext cx="1371600" cy="560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04920" y="13716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2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3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4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 N  D  J  F  M  A  M  J  J  A 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365760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2       3    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095880" y="144792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2   3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7543800" y="144792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2   3 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4" name="Oval 14"/>
          <p:cNvSpPr/>
          <p:nvPr/>
        </p:nvSpPr>
        <p:spPr>
          <a:xfrm>
            <a:off x="3505320" y="812880"/>
            <a:ext cx="914400" cy="649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380880" y="2031840"/>
            <a:ext cx="990720" cy="81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 S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380880" y="2844720"/>
            <a:ext cx="990720" cy="40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A &amp; Trib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6172200" y="1382760"/>
            <a:ext cx="144792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1676520" y="3048120"/>
            <a:ext cx="2971800" cy="89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 ’09 Budget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beration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1676520" y="3906720"/>
            <a:ext cx="990360" cy="89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2666880" y="3906720"/>
            <a:ext cx="914400" cy="89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3581280" y="3906720"/>
            <a:ext cx="1067040" cy="89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2" name="Oval 22"/>
          <p:cNvSpPr/>
          <p:nvPr/>
        </p:nvSpPr>
        <p:spPr>
          <a:xfrm>
            <a:off x="380880" y="6095880"/>
            <a:ext cx="2514600" cy="893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al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 rot="17636400">
            <a:off x="445680" y="4737600"/>
            <a:ext cx="12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-embargo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1278000" y="4754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2209680" y="463392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2286000" y="463392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2286000" y="463392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8" name="Oval 28"/>
          <p:cNvSpPr/>
          <p:nvPr/>
        </p:nvSpPr>
        <p:spPr>
          <a:xfrm>
            <a:off x="1704960" y="4876920"/>
            <a:ext cx="2409840" cy="731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 Action 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5637240" y="568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7620120" y="6400800"/>
            <a:ext cx="13716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0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1" name="Rectangle 31"/>
          <p:cNvSpPr/>
          <p:nvPr/>
        </p:nvSpPr>
        <p:spPr>
          <a:xfrm>
            <a:off x="6172200" y="6421320"/>
            <a:ext cx="1447920" cy="4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2" name="Rectangle 32"/>
          <p:cNvSpPr/>
          <p:nvPr/>
        </p:nvSpPr>
        <p:spPr>
          <a:xfrm>
            <a:off x="3657600" y="6421320"/>
            <a:ext cx="2514600" cy="487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8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3" name="Oval 33"/>
          <p:cNvSpPr/>
          <p:nvPr/>
        </p:nvSpPr>
        <p:spPr>
          <a:xfrm>
            <a:off x="4572000" y="4876920"/>
            <a:ext cx="1600200" cy="812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 Action 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4" name="Line 34"/>
          <p:cNvSpPr/>
          <p:nvPr/>
        </p:nvSpPr>
        <p:spPr>
          <a:xfrm flipV="1">
            <a:off x="533520" y="3250800"/>
            <a:ext cx="0" cy="308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5" name="Line 35"/>
          <p:cNvSpPr/>
          <p:nvPr/>
        </p:nvSpPr>
        <p:spPr>
          <a:xfrm flipV="1">
            <a:off x="685800" y="441972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6" name="Line 36"/>
          <p:cNvSpPr/>
          <p:nvPr/>
        </p:nvSpPr>
        <p:spPr>
          <a:xfrm flipH="1" flipV="1">
            <a:off x="2666520" y="5638320"/>
            <a:ext cx="22860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828800" y="5562720"/>
            <a:ext cx="116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ort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7467480" y="5943600"/>
            <a:ext cx="1524240" cy="4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close out/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9" name="Rectangle 39"/>
          <p:cNvSpPr/>
          <p:nvPr/>
        </p:nvSpPr>
        <p:spPr>
          <a:xfrm>
            <a:off x="6172200" y="5932440"/>
            <a:ext cx="1447920" cy="48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8 close out/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0" name="Rectangle 40"/>
          <p:cNvSpPr/>
          <p:nvPr/>
        </p:nvSpPr>
        <p:spPr>
          <a:xfrm>
            <a:off x="3657600" y="1828800"/>
            <a:ext cx="990720" cy="812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‘10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 S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1" name="Rectangle 41"/>
          <p:cNvSpPr/>
          <p:nvPr/>
        </p:nvSpPr>
        <p:spPr>
          <a:xfrm>
            <a:off x="3657600" y="2590920"/>
            <a:ext cx="990720" cy="40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A &amp; Trib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2" name="Line 42"/>
          <p:cNvSpPr/>
          <p:nvPr/>
        </p:nvSpPr>
        <p:spPr>
          <a:xfrm>
            <a:off x="4267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3" name="Line 43"/>
          <p:cNvSpPr/>
          <p:nvPr/>
        </p:nvSpPr>
        <p:spPr>
          <a:xfrm>
            <a:off x="3666960" y="4964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4" name="Line 44"/>
          <p:cNvSpPr/>
          <p:nvPr/>
        </p:nvSpPr>
        <p:spPr>
          <a:xfrm flipH="1" flipV="1">
            <a:off x="3817440" y="5311800"/>
            <a:ext cx="45252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670920" y="566100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nacted Dec 31, 2007</a:t>
            </a:r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4270320" y="6357960"/>
            <a:ext cx="9050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661760" y="24300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Appropriations Process as it Impacts Tribe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" y="812880"/>
            <a:ext cx="34290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 ‘08</a:t>
            </a:r>
            <a:endParaRPr b="0" lang="en-US" sz="2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657600" y="812880"/>
            <a:ext cx="25146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 ‘09</a:t>
            </a:r>
            <a:endParaRPr b="0" lang="en-US" sz="2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6172200" y="812880"/>
            <a:ext cx="144792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‘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7620120" y="812880"/>
            <a:ext cx="13716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‘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228600" y="1382760"/>
            <a:ext cx="34290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3657600" y="1382760"/>
            <a:ext cx="25146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7620120" y="1371600"/>
            <a:ext cx="1371600" cy="560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04920" y="13716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2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3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4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 N  D  J  F  M  A  M  J  J  A 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65760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2       3    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095880" y="144792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2   3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7543800" y="144792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2   3 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457200" y="685800"/>
            <a:ext cx="914400" cy="649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380880" y="2031840"/>
            <a:ext cx="990720" cy="81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0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 S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380880" y="2844720"/>
            <a:ext cx="990720" cy="40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A &amp; Trib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6172200" y="1382760"/>
            <a:ext cx="144792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1676520" y="3048120"/>
            <a:ext cx="2971800" cy="89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 ’10 Budget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beration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1676520" y="3906720"/>
            <a:ext cx="990360" cy="89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2666880" y="3906720"/>
            <a:ext cx="914400" cy="89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3581280" y="3906720"/>
            <a:ext cx="1067040" cy="89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7" name="Oval 22"/>
          <p:cNvSpPr/>
          <p:nvPr/>
        </p:nvSpPr>
        <p:spPr>
          <a:xfrm>
            <a:off x="380880" y="6095880"/>
            <a:ext cx="2514600" cy="893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al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8" name="Text Box 23"/>
          <p:cNvSpPr/>
          <p:nvPr/>
        </p:nvSpPr>
        <p:spPr>
          <a:xfrm rot="17636400">
            <a:off x="445680" y="4737600"/>
            <a:ext cx="12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-embargo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1278000" y="4754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2209680" y="463392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2286000" y="463392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2" name="Text Box 27"/>
          <p:cNvSpPr/>
          <p:nvPr/>
        </p:nvSpPr>
        <p:spPr>
          <a:xfrm>
            <a:off x="2286000" y="463392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3" name="Oval 28"/>
          <p:cNvSpPr/>
          <p:nvPr/>
        </p:nvSpPr>
        <p:spPr>
          <a:xfrm>
            <a:off x="1704960" y="4876920"/>
            <a:ext cx="2409840" cy="731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 Action 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4" name="Text Box 29"/>
          <p:cNvSpPr/>
          <p:nvPr/>
        </p:nvSpPr>
        <p:spPr>
          <a:xfrm>
            <a:off x="5637240" y="568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5" name="Rectangle 30"/>
          <p:cNvSpPr/>
          <p:nvPr/>
        </p:nvSpPr>
        <p:spPr>
          <a:xfrm>
            <a:off x="7620120" y="6400800"/>
            <a:ext cx="13716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1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6" name="Rectangle 31"/>
          <p:cNvSpPr/>
          <p:nvPr/>
        </p:nvSpPr>
        <p:spPr>
          <a:xfrm>
            <a:off x="6172200" y="6421320"/>
            <a:ext cx="1447920" cy="4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0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7" name="Rectangle 32"/>
          <p:cNvSpPr/>
          <p:nvPr/>
        </p:nvSpPr>
        <p:spPr>
          <a:xfrm>
            <a:off x="3657600" y="6421320"/>
            <a:ext cx="2514600" cy="487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8" name="Oval 33"/>
          <p:cNvSpPr/>
          <p:nvPr/>
        </p:nvSpPr>
        <p:spPr>
          <a:xfrm>
            <a:off x="4572000" y="4876920"/>
            <a:ext cx="1600200" cy="812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 Action 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 flipV="1">
            <a:off x="533520" y="3250800"/>
            <a:ext cx="0" cy="308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 flipV="1">
            <a:off x="685800" y="441972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 flipH="1" flipV="1">
            <a:off x="2666520" y="5638320"/>
            <a:ext cx="22860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1828800" y="5562720"/>
            <a:ext cx="116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ort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3" name="Rectangle 38"/>
          <p:cNvSpPr/>
          <p:nvPr/>
        </p:nvSpPr>
        <p:spPr>
          <a:xfrm>
            <a:off x="7467480" y="5943600"/>
            <a:ext cx="1524240" cy="4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0 close out/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4" name="Rectangle 39"/>
          <p:cNvSpPr/>
          <p:nvPr/>
        </p:nvSpPr>
        <p:spPr>
          <a:xfrm>
            <a:off x="6172200" y="5932440"/>
            <a:ext cx="1447920" cy="48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close out/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5" name="Rectangle 40"/>
          <p:cNvSpPr/>
          <p:nvPr/>
        </p:nvSpPr>
        <p:spPr>
          <a:xfrm>
            <a:off x="3657600" y="1828800"/>
            <a:ext cx="990720" cy="812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‘11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 S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3657600" y="2590920"/>
            <a:ext cx="990720" cy="40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A &amp; Trib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>
            <a:off x="129528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8" name="Line 43"/>
          <p:cNvSpPr/>
          <p:nvPr/>
        </p:nvSpPr>
        <p:spPr>
          <a:xfrm>
            <a:off x="3666960" y="4964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9" name="Rectangle 46"/>
          <p:cNvSpPr/>
          <p:nvPr/>
        </p:nvSpPr>
        <p:spPr>
          <a:xfrm>
            <a:off x="4270320" y="6357960"/>
            <a:ext cx="9050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4648320" y="487440"/>
            <a:ext cx="2133360" cy="73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-May-Jun ‘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533520" y="487440"/>
            <a:ext cx="1981080" cy="73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-Nov-Dec ‘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2514600" y="487440"/>
            <a:ext cx="2133720" cy="73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-Feb-Mar ‘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899080" y="617220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 13-14,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Mtg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ton Washingt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2819520" y="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Timeline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152280" y="6248520"/>
            <a:ext cx="914400" cy="81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BAC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: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069200" y="6248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3-4, 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lington, V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4648320" y="1219320"/>
            <a:ext cx="4572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4648320" y="4033800"/>
            <a:ext cx="457200" cy="105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533520" y="1219320"/>
            <a:ext cx="4572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2514600" y="1219320"/>
            <a:ext cx="4572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4648320" y="1981080"/>
            <a:ext cx="4572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533520" y="1981080"/>
            <a:ext cx="4572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2514600" y="1981080"/>
            <a:ext cx="4572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4648320" y="3048120"/>
            <a:ext cx="457200" cy="9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5" name="Rectangle 23"/>
          <p:cNvSpPr/>
          <p:nvPr/>
        </p:nvSpPr>
        <p:spPr>
          <a:xfrm>
            <a:off x="533520" y="3048120"/>
            <a:ext cx="457200" cy="9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2514600" y="3048120"/>
            <a:ext cx="457200" cy="9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990720" y="3048120"/>
            <a:ext cx="1523880" cy="9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8" name="Rectangle 27"/>
          <p:cNvSpPr/>
          <p:nvPr/>
        </p:nvSpPr>
        <p:spPr>
          <a:xfrm>
            <a:off x="533520" y="4033800"/>
            <a:ext cx="457200" cy="105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2514600" y="4033800"/>
            <a:ext cx="457200" cy="105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0" name="Rectangle 30"/>
          <p:cNvSpPr/>
          <p:nvPr/>
        </p:nvSpPr>
        <p:spPr>
          <a:xfrm rot="5400000">
            <a:off x="1371240" y="838080"/>
            <a:ext cx="76176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4952880" y="4929120"/>
            <a:ext cx="184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2" name="Rectangle 35"/>
          <p:cNvSpPr/>
          <p:nvPr/>
        </p:nvSpPr>
        <p:spPr>
          <a:xfrm>
            <a:off x="6781680" y="1981080"/>
            <a:ext cx="4572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3" name="Rectangle 36"/>
          <p:cNvSpPr/>
          <p:nvPr/>
        </p:nvSpPr>
        <p:spPr>
          <a:xfrm>
            <a:off x="6781680" y="1219320"/>
            <a:ext cx="4572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4" name="Rectangle 38"/>
          <p:cNvSpPr/>
          <p:nvPr/>
        </p:nvSpPr>
        <p:spPr>
          <a:xfrm>
            <a:off x="6781680" y="3048120"/>
            <a:ext cx="457200" cy="9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5" name="Rectangle 41"/>
          <p:cNvSpPr/>
          <p:nvPr/>
        </p:nvSpPr>
        <p:spPr>
          <a:xfrm>
            <a:off x="6781680" y="4033800"/>
            <a:ext cx="457200" cy="105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6" name="Rectangle 42"/>
          <p:cNvSpPr/>
          <p:nvPr/>
        </p:nvSpPr>
        <p:spPr>
          <a:xfrm>
            <a:off x="6781680" y="487440"/>
            <a:ext cx="2133720" cy="73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-Aug-Sep ‘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7" name="Rectangle 45"/>
          <p:cNvSpPr/>
          <p:nvPr/>
        </p:nvSpPr>
        <p:spPr>
          <a:xfrm>
            <a:off x="533520" y="5105520"/>
            <a:ext cx="4572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8" name="Rectangle 46"/>
          <p:cNvSpPr/>
          <p:nvPr/>
        </p:nvSpPr>
        <p:spPr>
          <a:xfrm>
            <a:off x="2987640" y="5105520"/>
            <a:ext cx="16747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9" name="Rectangle 47"/>
          <p:cNvSpPr/>
          <p:nvPr/>
        </p:nvSpPr>
        <p:spPr>
          <a:xfrm>
            <a:off x="2514600" y="5105520"/>
            <a:ext cx="4572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0" name="Rectangle 48"/>
          <p:cNvSpPr/>
          <p:nvPr/>
        </p:nvSpPr>
        <p:spPr>
          <a:xfrm>
            <a:off x="4648320" y="5105520"/>
            <a:ext cx="4572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1" name="Rectangle 49"/>
          <p:cNvSpPr/>
          <p:nvPr/>
        </p:nvSpPr>
        <p:spPr>
          <a:xfrm>
            <a:off x="6781680" y="5105520"/>
            <a:ext cx="4572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2" name="Rectangle 51"/>
          <p:cNvSpPr/>
          <p:nvPr/>
        </p:nvSpPr>
        <p:spPr>
          <a:xfrm>
            <a:off x="5105520" y="5105520"/>
            <a:ext cx="1676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3" name="Line 54"/>
          <p:cNvSpPr/>
          <p:nvPr/>
        </p:nvSpPr>
        <p:spPr>
          <a:xfrm>
            <a:off x="8915400" y="1219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4" name="Line 55"/>
          <p:cNvSpPr/>
          <p:nvPr/>
        </p:nvSpPr>
        <p:spPr>
          <a:xfrm>
            <a:off x="3886200" y="22860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5" name="Rectangle 57"/>
          <p:cNvSpPr/>
          <p:nvPr/>
        </p:nvSpPr>
        <p:spPr>
          <a:xfrm>
            <a:off x="990720" y="5105520"/>
            <a:ext cx="1523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6" name="Rectangle 58"/>
          <p:cNvSpPr/>
          <p:nvPr/>
        </p:nvSpPr>
        <p:spPr>
          <a:xfrm>
            <a:off x="5105520" y="1219320"/>
            <a:ext cx="16761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7" name="Rectangle 60"/>
          <p:cNvSpPr/>
          <p:nvPr/>
        </p:nvSpPr>
        <p:spPr>
          <a:xfrm>
            <a:off x="2971800" y="1219320"/>
            <a:ext cx="16765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8" name="Rectangle 61"/>
          <p:cNvSpPr/>
          <p:nvPr/>
        </p:nvSpPr>
        <p:spPr>
          <a:xfrm>
            <a:off x="7238880" y="1219320"/>
            <a:ext cx="16765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9" name="Rectangle 62"/>
          <p:cNvSpPr/>
          <p:nvPr/>
        </p:nvSpPr>
        <p:spPr>
          <a:xfrm>
            <a:off x="2971800" y="19810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0" name="Rectangle 63"/>
          <p:cNvSpPr/>
          <p:nvPr/>
        </p:nvSpPr>
        <p:spPr>
          <a:xfrm>
            <a:off x="5105520" y="1981080"/>
            <a:ext cx="16761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7238880" y="19810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2971800" y="30481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3" name="Rectangle 66"/>
          <p:cNvSpPr/>
          <p:nvPr/>
        </p:nvSpPr>
        <p:spPr>
          <a:xfrm>
            <a:off x="5105520" y="3048120"/>
            <a:ext cx="1676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4" name="Rectangle 67"/>
          <p:cNvSpPr/>
          <p:nvPr/>
        </p:nvSpPr>
        <p:spPr>
          <a:xfrm>
            <a:off x="7238880" y="30481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5" name="Rectangle 68"/>
          <p:cNvSpPr/>
          <p:nvPr/>
        </p:nvSpPr>
        <p:spPr>
          <a:xfrm>
            <a:off x="7238880" y="40384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6" name="Rectangle 69"/>
          <p:cNvSpPr/>
          <p:nvPr/>
        </p:nvSpPr>
        <p:spPr>
          <a:xfrm>
            <a:off x="7238880" y="51055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7" name="Rectangle 70"/>
          <p:cNvSpPr/>
          <p:nvPr/>
        </p:nvSpPr>
        <p:spPr>
          <a:xfrm>
            <a:off x="990720" y="1295280"/>
            <a:ext cx="15238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out/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8" name="Rectangle 72"/>
          <p:cNvSpPr/>
          <p:nvPr/>
        </p:nvSpPr>
        <p:spPr>
          <a:xfrm>
            <a:off x="3048120" y="1295280"/>
            <a:ext cx="15238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out/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5181480" y="1295280"/>
            <a:ext cx="15242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out/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0" name="Rectangle 74"/>
          <p:cNvSpPr/>
          <p:nvPr/>
        </p:nvSpPr>
        <p:spPr>
          <a:xfrm>
            <a:off x="7315200" y="1295280"/>
            <a:ext cx="15238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out/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1" name="Rectangle 76"/>
          <p:cNvSpPr/>
          <p:nvPr/>
        </p:nvSpPr>
        <p:spPr>
          <a:xfrm>
            <a:off x="990720" y="1981080"/>
            <a:ext cx="15238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08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ctmen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&amp;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2" name="Rectangle 77"/>
          <p:cNvSpPr/>
          <p:nvPr/>
        </p:nvSpPr>
        <p:spPr>
          <a:xfrm>
            <a:off x="2971800" y="19810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&amp;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3" name="Rectangle 78"/>
          <p:cNvSpPr/>
          <p:nvPr/>
        </p:nvSpPr>
        <p:spPr>
          <a:xfrm>
            <a:off x="5105520" y="1981080"/>
            <a:ext cx="16761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&amp;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4" name="Rectangle 79"/>
          <p:cNvSpPr/>
          <p:nvPr/>
        </p:nvSpPr>
        <p:spPr>
          <a:xfrm>
            <a:off x="7238880" y="19810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&amp;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5" name="Rectangle 80"/>
          <p:cNvSpPr/>
          <p:nvPr/>
        </p:nvSpPr>
        <p:spPr>
          <a:xfrm>
            <a:off x="990720" y="304812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goed --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berati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6" name="Rectangle 81"/>
          <p:cNvSpPr/>
          <p:nvPr/>
        </p:nvSpPr>
        <p:spPr>
          <a:xfrm>
            <a:off x="2971800" y="30481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ident’s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ted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ressional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efings Begi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7" name="Rectangle 82"/>
          <p:cNvSpPr/>
          <p:nvPr/>
        </p:nvSpPr>
        <p:spPr>
          <a:xfrm>
            <a:off x="5105520" y="3048120"/>
            <a:ext cx="1676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bes implemen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y to seek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 funds from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8" name="Rectangle 83"/>
          <p:cNvSpPr/>
          <p:nvPr/>
        </p:nvSpPr>
        <p:spPr>
          <a:xfrm>
            <a:off x="7238880" y="30481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09 Budget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ressional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&amp; lobbying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9" name="Text Box 84"/>
          <p:cNvSpPr/>
          <p:nvPr/>
        </p:nvSpPr>
        <p:spPr>
          <a:xfrm>
            <a:off x="990720" y="40384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bes set 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 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: 2010 prioritie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0" name="Rectangle 85"/>
          <p:cNvSpPr/>
          <p:nvPr/>
        </p:nvSpPr>
        <p:spPr>
          <a:xfrm>
            <a:off x="2971800" y="40384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bes/IA to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lish FY 10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option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in target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1" name="Rectangle 88"/>
          <p:cNvSpPr/>
          <p:nvPr/>
        </p:nvSpPr>
        <p:spPr>
          <a:xfrm>
            <a:off x="5105520" y="4038480"/>
            <a:ext cx="1676160" cy="105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Developmen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ish FY 10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ltation;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to Dep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2" name="Rectangle 89"/>
          <p:cNvSpPr/>
          <p:nvPr/>
        </p:nvSpPr>
        <p:spPr>
          <a:xfrm>
            <a:off x="7238880" y="4038480"/>
            <a:ext cx="1675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Y 10 Budget</a:t>
            </a:r>
            <a:endParaRPr b="0" lang="en-US" sz="15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mbargoed -- </a:t>
            </a:r>
            <a:endParaRPr b="0" lang="en-US" sz="15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15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liber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3" name="Rectangle 90"/>
          <p:cNvSpPr/>
          <p:nvPr/>
        </p:nvSpPr>
        <p:spPr>
          <a:xfrm>
            <a:off x="5105520" y="5105520"/>
            <a:ext cx="1676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4" name="Rectangle 91"/>
          <p:cNvSpPr/>
          <p:nvPr/>
        </p:nvSpPr>
        <p:spPr>
          <a:xfrm>
            <a:off x="7238880" y="5105520"/>
            <a:ext cx="16750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11 –Adop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bal/IA prioriti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5" name="Rectangle 92"/>
          <p:cNvSpPr/>
          <p:nvPr/>
        </p:nvSpPr>
        <p:spPr>
          <a:xfrm>
            <a:off x="2971800" y="51055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6" name="Rectangle 93"/>
          <p:cNvSpPr/>
          <p:nvPr/>
        </p:nvSpPr>
        <p:spPr>
          <a:xfrm>
            <a:off x="990720" y="5105520"/>
            <a:ext cx="1523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108040" y="617220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-22,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aton Nat’l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lington, V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8" name="Text Box 95"/>
          <p:cNvSpPr/>
          <p:nvPr/>
        </p:nvSpPr>
        <p:spPr>
          <a:xfrm>
            <a:off x="7241760" y="6172200"/>
            <a:ext cx="16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1-13,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ing Stone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a, NY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8880" y="242640"/>
            <a:ext cx="74768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08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7386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ppropriations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action on June 11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110-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ar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House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 Appropriations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action on June 2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110-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ll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08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6000" y="1143000"/>
            <a:ext cx="856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 Continuing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November 16; 12.8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inuing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December 14; 7.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inuing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December 21; 1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inuing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December 31; 2.7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08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7386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ed Appropriations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Law 110-1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Dec 2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Across the Board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.56% to ever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raise funded at 3%, BUT     authorized at 3.5% -- must absorb the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1279440" y="475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2209680" y="463248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286000" y="463248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2286000" y="463248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09480" y="228600"/>
            <a:ext cx="7793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Y 2008 Congressional Action</a:t>
            </a:r>
            <a:endParaRPr b="0" lang="en-US" sz="4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038480" y="990720"/>
            <a:ext cx="485640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from President’s Budget: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storation of JOM:</a:t>
            </a:r>
            <a:r>
              <a:rPr b="0" lang="en-US" sz="1700" spc="-1" strike="noStrike">
                <a:solidFill>
                  <a:srgbClr val="99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$21.7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storation of HIP: +$13.8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ncrease to Welfare Assistance: +$6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ncrease to ICWA: +$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Irrigation O&amp;M: +$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Washington Timber-Fish-Wildlife: +$1.7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acific Salmon Treaty: +$1.8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ke Roosevelt: $+$35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Upper Columbia United Tribes: +$315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ircle of Flight: +$60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Bison restoration &amp; protection: +$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ndangered Species: +$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Law Enforcement Initiatives: $+9.5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ndian Police Academy: +$50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ribal Courts: +$2.5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ire Protection: +1.2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National Ironworkers Training: +$40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General Development Pgms: +$60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ary/Secondary Pgms: +$1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-Secondary Pgms: +$15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struction Programs: +$9.4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graphicFrame>
        <p:nvGraphicFramePr>
          <p:cNvPr id="411" name="Object 8"/>
          <p:cNvGraphicFramePr/>
          <p:nvPr/>
        </p:nvGraphicFramePr>
        <p:xfrm>
          <a:off x="152280" y="2133720"/>
          <a:ext cx="3886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3886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15"/>
          <p:cNvSpPr/>
          <p:nvPr/>
        </p:nvSpPr>
        <p:spPr>
          <a:xfrm>
            <a:off x="2895480" y="38098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,291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FY 2008 Congressional Action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415" name="Object 327"/>
          <p:cNvGraphicFramePr/>
          <p:nvPr/>
        </p:nvGraphicFramePr>
        <p:xfrm>
          <a:off x="457200" y="762120"/>
          <a:ext cx="67294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Object 3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67294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23:42:40Z</dcterms:created>
  <dc:creator>MMiller</dc:creator>
  <dc:description/>
  <dc:language>en-US</dc:language>
  <cp:lastModifiedBy>MaryJane.Miller</cp:lastModifiedBy>
  <dcterms:modified xsi:type="dcterms:W3CDTF">2008-03-10T16:08:25Z</dcterms:modified>
  <cp:revision>158</cp:revision>
  <dc:subject/>
  <dc:title>Slide 1</dc:title>
</cp:coreProperties>
</file>