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73152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328760" y="698040"/>
            <a:ext cx="436248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11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12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E29D-7CAC-4016-9837-FE6F9916B018}" type="slidenum"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A920-CB7F-443A-9701-A72B43DF34C9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0003-4B21-4FA7-8AFD-DA0975A5C658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A884-C51C-428C-97EC-8D16E7C6B31A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6CEC-90FE-44C8-A40B-BA814AE16FCF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9794-1E37-4AE5-86B8-063FD6A20FBA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FD09-7509-4098-8157-D30271AC1A44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4AEA-9731-4CA0-93C7-C184763DF164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12BE-AFA6-458B-BD7E-7334D4C5FB58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8136-9438-4EA5-8A87-9FD02A8926D4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362480" cy="34894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A383-F1DF-47EF-B086-1C60FA7D0F9C}" type="slidenum">
              <a:rPr b="0" lang="en-US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2E0-FFC4-43A2-8E0D-C74F796D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D679-6C97-4967-A02C-3ECA91CE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6E2-A6B2-4039-9AE8-376A425A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11E-C248-48F9-9AF7-F0A120BB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46AE-8237-4817-BA87-A842FCF4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001E3-CA4C-415F-BA8E-F986B55F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A492-FFE5-44FF-BDED-E8BEB8D7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943C-1FC0-4978-9463-5F87A072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C328-DD90-457A-B656-BB994640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43000"/>
            <a:ext cx="7476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68F8-575B-40D1-854B-ADCC3F4D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758E-6BAB-4DA8-BD64-FA070382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F6E-321A-4D93-B3ED-14DE9120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5674-3935-4EE1-BC5F-51B548DC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A781-9E4A-4E2B-A2AD-29EDD2DA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528E-1D59-4836-BE30-ED213269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3A2F-ED62-48C6-9AEA-F04E4B00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B48F5-04EB-40D9-A5A4-76FA486D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B78DA-27C5-4F9F-8D8F-B093F12A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10B50-3E25-443F-9B15-DF4F782C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8E63-5E74-46A0-8960-9CDEA56F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9959-9A50-4F32-B9D8-ADE0EFB6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3F2DF-5B12-4E17-8389-2AE4C403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F78-4693-4D47-88A3-13A2F51B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43000"/>
            <a:ext cx="7476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7E52-6A91-4D6C-987F-B8862E89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F7761-70C8-4888-AFFA-BD1F4AA8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C60B6-86E5-45A0-A0A2-60225CBB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6AA59-0BB1-4628-B3EA-593B5AB7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F2B29-36D5-47CC-9B55-5CA7FFAE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51AB-115B-42C4-A693-16913F93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70496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4210920"/>
            <a:ext cx="23781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961F-5326-4C3C-ADFA-B3A6A50C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AE1-51CD-4306-8608-B159F537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993-CF1A-43F0-9C31-41F94750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43000"/>
            <a:ext cx="74768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04E-B21B-4C07-BFF3-46116FD9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D69-BD62-4A5E-8631-43D19193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421092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F842-C6F2-4060-A013-7EA8A79C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704960"/>
            <a:ext cx="360432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4210920"/>
            <a:ext cx="73864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C5EC-DD35-404E-9178-8204F723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7329240"/>
            <a:chOff x="0" y="0"/>
            <a:chExt cx="9159840" cy="7329240"/>
          </a:xfrm>
        </p:grpSpPr>
        <p:sp>
          <p:nvSpPr>
            <p:cNvPr id="1" name="Rectangle 3"/>
            <p:cNvSpPr/>
            <p:nvPr/>
          </p:nvSpPr>
          <p:spPr>
            <a:xfrm>
              <a:off x="0" y="7089120"/>
              <a:ext cx="8078760" cy="2401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1348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731592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729480"/>
              <a:chOff x="7848720" y="1440"/>
              <a:chExt cx="1295280" cy="672948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421000"/>
                <a:chOff x="8381880" y="1440"/>
                <a:chExt cx="762120" cy="242100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94480"/>
                  <a:chOff x="8704440" y="1440"/>
                  <a:chExt cx="279360" cy="294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94480"/>
                    <a:chOff x="8704440" y="1440"/>
                    <a:chExt cx="279360" cy="294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37200" y="-31320"/>
                      <a:ext cx="2138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c1c17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48000" y="108000"/>
                      <a:ext cx="150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c1c17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3860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280" y="78120"/>
                    <a:ext cx="4572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6840" y="61920"/>
                    <a:ext cx="684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6320" y="117000"/>
                    <a:ext cx="2700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0720" y="205560"/>
                    <a:ext cx="6984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1040" y="179280"/>
                    <a:ext cx="4104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37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37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688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748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93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3003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70640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112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706760"/>
                <a:ext cx="828720" cy="5024160"/>
                <a:chOff x="7848720" y="1706760"/>
                <a:chExt cx="828720" cy="502416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7067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2031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6820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9257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30884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413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49488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9826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7389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41450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3891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3565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6328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52020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6080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77080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60145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4213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62582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5236200"/>
              <a:ext cx="1190520" cy="20696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5182200"/>
              <a:ext cx="1219320" cy="213372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3005640"/>
              <a:ext cx="1231920" cy="430308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774600"/>
              <a:ext cx="979560" cy="23302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55400"/>
              <a:ext cx="914400" cy="53852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79360"/>
              <a:ext cx="909720" cy="3276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5766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5769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73177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645240"/>
              <a:ext cx="1165320" cy="66024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095000" y="3545280"/>
              <a:ext cx="731592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657480"/>
            <a:ext cx="1782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663960"/>
            <a:ext cx="34560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663960"/>
            <a:ext cx="1755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F092-890C-4B0B-A380-EC4E35854D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6625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6625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6625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3831-183E-4313-9422-9A5FCCC2A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7329240"/>
            <a:chOff x="0" y="0"/>
            <a:chExt cx="9159840" cy="7329240"/>
          </a:xfrm>
        </p:grpSpPr>
        <p:sp>
          <p:nvSpPr>
            <p:cNvPr id="138" name="Rectangle 3"/>
            <p:cNvSpPr/>
            <p:nvPr/>
          </p:nvSpPr>
          <p:spPr>
            <a:xfrm>
              <a:off x="0" y="7089120"/>
              <a:ext cx="8078760" cy="24012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3240"/>
              <a:ext cx="8078760" cy="21312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3240"/>
              <a:ext cx="1203120" cy="7312680"/>
            </a:xfrm>
            <a:prstGeom prst="rect">
              <a:avLst/>
            </a:prstGeom>
            <a:gradFill rotWithShape="0">
              <a:gsLst>
                <a:gs pos="0">
                  <a:srgbClr val="8ba89e"/>
                </a:gs>
                <a:gs pos="50000">
                  <a:srgbClr val="a4c6ba"/>
                </a:gs>
                <a:gs pos="100000">
                  <a:srgbClr val="8ba89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0"/>
              <a:ext cx="1295280" cy="6731280"/>
              <a:chOff x="7848720" y="0"/>
              <a:chExt cx="1295280" cy="673128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0"/>
                <a:ext cx="762120" cy="2424960"/>
                <a:chOff x="8381880" y="0"/>
                <a:chExt cx="762120" cy="24249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5880" y="0"/>
                  <a:ext cx="279360" cy="295920"/>
                  <a:chOff x="8705880" y="0"/>
                  <a:chExt cx="279360" cy="29592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5880" y="0"/>
                    <a:ext cx="279360" cy="295920"/>
                    <a:chOff x="8705880" y="0"/>
                    <a:chExt cx="279360" cy="29592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37920" y="-32040"/>
                      <a:ext cx="21492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c1c17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49080" y="107640"/>
                      <a:ext cx="15120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c1c177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c1c177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5400" y="1407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7360" y="79920"/>
                    <a:ext cx="460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8280" y="64080"/>
                    <a:ext cx="684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9160"/>
                    <a:ext cx="2700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2160" y="207720"/>
                    <a:ext cx="6984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480" y="181800"/>
                    <a:ext cx="4104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lnSpc>
                        <a:spcPct val="80000"/>
                      </a:lnSpc>
                      <a:spcBef>
                        <a:spcPts val="451"/>
                      </a:spcBef>
                      <a:buClr>
                        <a:srgbClr val="c1c177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c1c177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69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69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720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781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967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30320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7092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21153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709640"/>
                <a:ext cx="828720" cy="5021640"/>
                <a:chOff x="7848720" y="1709640"/>
                <a:chExt cx="828720" cy="50216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7096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203472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6845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9282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309060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4156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4970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9844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7407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414684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39056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3594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63428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520308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6091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77152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601524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421680"/>
                  <a:ext cx="29556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6258960"/>
                  <a:ext cx="295200" cy="309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5237280"/>
              <a:ext cx="1190520" cy="206856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5183280"/>
              <a:ext cx="1219320" cy="213264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3007800"/>
              <a:ext cx="1231920" cy="4300920"/>
            </a:xfrm>
            <a:prstGeom prst="pie">
              <a:avLst/>
            </a:prstGeom>
            <a:gradFill rotWithShape="0">
              <a:gsLst>
                <a:gs pos="0">
                  <a:srgbClr val="27423a"/>
                </a:gs>
                <a:gs pos="50000">
                  <a:srgbClr val="558f7d"/>
                </a:gs>
                <a:gs pos="100000">
                  <a:srgbClr val="2742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776400"/>
              <a:ext cx="979560" cy="232920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58640"/>
              <a:ext cx="914400" cy="538272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82600"/>
              <a:ext cx="909720" cy="327492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3240"/>
              <a:ext cx="576360" cy="3574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4680"/>
              <a:ext cx="300240" cy="3575160"/>
            </a:xfrm>
            <a:prstGeom prst="pie">
              <a:avLst/>
            </a:pr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4680"/>
              <a:ext cx="88920" cy="731448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645600"/>
              <a:ext cx="1165320" cy="66024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buClr>
                  <a:srgbClr val="c1c17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096800" y="3546720"/>
              <a:ext cx="7312680" cy="225360"/>
            </a:xfrm>
            <a:prstGeom prst="pie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1c177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704960"/>
            <a:ext cx="73864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657480"/>
            <a:ext cx="1782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663960"/>
            <a:ext cx="34560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663960"/>
            <a:ext cx="17557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370C-4ABE-445F-BCF1-503F07C45F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61600"/>
            <a:ext cx="6966000" cy="219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08 Enacted Budget</a:t>
            </a:r>
            <a:br>
              <a:rPr sz="4000"/>
            </a:b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14400" y="3962520"/>
            <a:ext cx="63770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y Jane Mi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Office of Budge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Budget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ton Washington, 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13-14,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4"/>
          <p:cNvSpPr txBox="1"/>
          <p:nvPr/>
        </p:nvSpPr>
        <p:spPr>
          <a:xfrm>
            <a:off x="1981080" y="2371680"/>
            <a:ext cx="47246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30605a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stions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30605a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1680840" y="228600"/>
            <a:ext cx="54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Appropriations Process as it Impacts Tribes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228600" y="812880"/>
            <a:ext cx="342900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 ‘07</a:t>
            </a:r>
            <a:endParaRPr b="0" lang="en-US" sz="20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3657600" y="812880"/>
            <a:ext cx="251460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 ‘08</a:t>
            </a:r>
            <a:endParaRPr b="0" lang="en-US" sz="20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6172200" y="812880"/>
            <a:ext cx="144792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‘09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7620120" y="812880"/>
            <a:ext cx="137160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‘10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228600" y="1382760"/>
            <a:ext cx="342900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3657600" y="1382760"/>
            <a:ext cx="251460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7620120" y="1371600"/>
            <a:ext cx="1371600" cy="560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04920" y="13716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2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3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4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 N  D  J  F  M  A  M  J  J  A S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3657600" y="1447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2       3       4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095880" y="144792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2   3   4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7543800" y="144792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2   3    4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4" name="Oval 14"/>
          <p:cNvSpPr/>
          <p:nvPr/>
        </p:nvSpPr>
        <p:spPr>
          <a:xfrm>
            <a:off x="3505320" y="812880"/>
            <a:ext cx="914400" cy="6490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are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380880" y="2031840"/>
            <a:ext cx="990720" cy="81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9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s S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6" name="Rectangle 16"/>
          <p:cNvSpPr/>
          <p:nvPr/>
        </p:nvSpPr>
        <p:spPr>
          <a:xfrm>
            <a:off x="380880" y="2844720"/>
            <a:ext cx="990720" cy="40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A &amp; Tribe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7" name="Rectangle 17"/>
          <p:cNvSpPr/>
          <p:nvPr/>
        </p:nvSpPr>
        <p:spPr>
          <a:xfrm>
            <a:off x="6172200" y="1382760"/>
            <a:ext cx="144792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8" name="Rectangle 18"/>
          <p:cNvSpPr/>
          <p:nvPr/>
        </p:nvSpPr>
        <p:spPr>
          <a:xfrm>
            <a:off x="1676520" y="3048120"/>
            <a:ext cx="2971800" cy="893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Y ’09 Budget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berations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1676520" y="3906720"/>
            <a:ext cx="990360" cy="89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2666880" y="3906720"/>
            <a:ext cx="914400" cy="893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3581280" y="3906720"/>
            <a:ext cx="1067040" cy="89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2" name="Oval 22"/>
          <p:cNvSpPr/>
          <p:nvPr/>
        </p:nvSpPr>
        <p:spPr>
          <a:xfrm>
            <a:off x="380880" y="6095880"/>
            <a:ext cx="2514600" cy="8938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al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3" name="Text Box 23"/>
          <p:cNvSpPr/>
          <p:nvPr/>
        </p:nvSpPr>
        <p:spPr>
          <a:xfrm rot="17636400">
            <a:off x="445680" y="4737600"/>
            <a:ext cx="129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-embargo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4" name="Text Box 24"/>
          <p:cNvSpPr/>
          <p:nvPr/>
        </p:nvSpPr>
        <p:spPr>
          <a:xfrm>
            <a:off x="1278000" y="4754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2209680" y="463392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2286000" y="463392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2286000" y="463392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8" name="Oval 28"/>
          <p:cNvSpPr/>
          <p:nvPr/>
        </p:nvSpPr>
        <p:spPr>
          <a:xfrm>
            <a:off x="1704960" y="4876920"/>
            <a:ext cx="2409840" cy="731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g Action 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8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5637240" y="5689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0" name="Rectangle 30"/>
          <p:cNvSpPr/>
          <p:nvPr/>
        </p:nvSpPr>
        <p:spPr>
          <a:xfrm>
            <a:off x="7620120" y="6400800"/>
            <a:ext cx="13716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10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1" name="Rectangle 31"/>
          <p:cNvSpPr/>
          <p:nvPr/>
        </p:nvSpPr>
        <p:spPr>
          <a:xfrm>
            <a:off x="6172200" y="6421320"/>
            <a:ext cx="1447920" cy="48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9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2" name="Rectangle 32"/>
          <p:cNvSpPr/>
          <p:nvPr/>
        </p:nvSpPr>
        <p:spPr>
          <a:xfrm>
            <a:off x="3657600" y="6421320"/>
            <a:ext cx="2514600" cy="487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8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3" name="Oval 33"/>
          <p:cNvSpPr/>
          <p:nvPr/>
        </p:nvSpPr>
        <p:spPr>
          <a:xfrm>
            <a:off x="4572000" y="4876920"/>
            <a:ext cx="1600200" cy="812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g Action 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9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4" name="Line 34"/>
          <p:cNvSpPr/>
          <p:nvPr/>
        </p:nvSpPr>
        <p:spPr>
          <a:xfrm flipV="1">
            <a:off x="533520" y="3250800"/>
            <a:ext cx="0" cy="308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5" name="Line 35"/>
          <p:cNvSpPr/>
          <p:nvPr/>
        </p:nvSpPr>
        <p:spPr>
          <a:xfrm flipV="1">
            <a:off x="685800" y="441972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6" name="Line 36"/>
          <p:cNvSpPr/>
          <p:nvPr/>
        </p:nvSpPr>
        <p:spPr>
          <a:xfrm flipH="1" flipV="1">
            <a:off x="2666520" y="5638320"/>
            <a:ext cx="22860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828800" y="5562720"/>
            <a:ext cx="116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ort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7467480" y="5943600"/>
            <a:ext cx="1524240" cy="48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9 close out/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79" name="Rectangle 39"/>
          <p:cNvSpPr/>
          <p:nvPr/>
        </p:nvSpPr>
        <p:spPr>
          <a:xfrm>
            <a:off x="6172200" y="5932440"/>
            <a:ext cx="1447920" cy="48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8 close out/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0" name="Rectangle 40"/>
          <p:cNvSpPr/>
          <p:nvPr/>
        </p:nvSpPr>
        <p:spPr>
          <a:xfrm>
            <a:off x="3657600" y="1828800"/>
            <a:ext cx="990720" cy="812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‘10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s S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1" name="Rectangle 41"/>
          <p:cNvSpPr/>
          <p:nvPr/>
        </p:nvSpPr>
        <p:spPr>
          <a:xfrm>
            <a:off x="3657600" y="2590920"/>
            <a:ext cx="990720" cy="40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A &amp; Tribe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2" name="Line 42"/>
          <p:cNvSpPr/>
          <p:nvPr/>
        </p:nvSpPr>
        <p:spPr>
          <a:xfrm>
            <a:off x="4267080" y="1371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3" name="Line 43"/>
          <p:cNvSpPr/>
          <p:nvPr/>
        </p:nvSpPr>
        <p:spPr>
          <a:xfrm>
            <a:off x="3666960" y="496404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4" name="Line 44"/>
          <p:cNvSpPr/>
          <p:nvPr/>
        </p:nvSpPr>
        <p:spPr>
          <a:xfrm flipH="1" flipV="1">
            <a:off x="3817440" y="5311800"/>
            <a:ext cx="45252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670920" y="5661000"/>
            <a:ext cx="17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nacted Dec 31, 2007</a:t>
            </a:r>
            <a:endParaRPr b="0" lang="en-US" sz="12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6" name="Rectangle 46"/>
          <p:cNvSpPr/>
          <p:nvPr/>
        </p:nvSpPr>
        <p:spPr>
          <a:xfrm>
            <a:off x="4270320" y="6357960"/>
            <a:ext cx="9050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1661760" y="243000"/>
            <a:ext cx="542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Appropriations Process as it Impacts Tribes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228600" y="812880"/>
            <a:ext cx="342900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 ‘08</a:t>
            </a:r>
            <a:endParaRPr b="0" lang="en-US" sz="20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3657600" y="812880"/>
            <a:ext cx="251460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Y ‘09</a:t>
            </a:r>
            <a:endParaRPr b="0" lang="en-US" sz="20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6172200" y="812880"/>
            <a:ext cx="144792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‘10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7620120" y="812880"/>
            <a:ext cx="1371600" cy="569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‘11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228600" y="1382760"/>
            <a:ext cx="342900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3657600" y="1382760"/>
            <a:ext cx="251460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7620120" y="1371600"/>
            <a:ext cx="1371600" cy="560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04920" y="13716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2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3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4__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 N  D  J  F  M  A  M  J  J  A S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3657600" y="14479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2       3       4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6095880" y="144792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2   3   4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8" name="Text Box 13"/>
          <p:cNvSpPr/>
          <p:nvPr/>
        </p:nvSpPr>
        <p:spPr>
          <a:xfrm>
            <a:off x="7543800" y="1447920"/>
            <a:ext cx="15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2   3    4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299" name="Oval 14"/>
          <p:cNvSpPr/>
          <p:nvPr/>
        </p:nvSpPr>
        <p:spPr>
          <a:xfrm>
            <a:off x="457200" y="685800"/>
            <a:ext cx="914400" cy="6494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are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380880" y="2031840"/>
            <a:ext cx="990720" cy="812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10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s S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1" name="Rectangle 16"/>
          <p:cNvSpPr/>
          <p:nvPr/>
        </p:nvSpPr>
        <p:spPr>
          <a:xfrm>
            <a:off x="380880" y="2844720"/>
            <a:ext cx="990720" cy="40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A &amp; Tribe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6172200" y="1382760"/>
            <a:ext cx="144792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1676520" y="3048120"/>
            <a:ext cx="2971800" cy="893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Y ’10 Budget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berations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4" name="Rectangle 19"/>
          <p:cNvSpPr/>
          <p:nvPr/>
        </p:nvSpPr>
        <p:spPr>
          <a:xfrm>
            <a:off x="1676520" y="3906720"/>
            <a:ext cx="990360" cy="89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5" name="Rectangle 20"/>
          <p:cNvSpPr/>
          <p:nvPr/>
        </p:nvSpPr>
        <p:spPr>
          <a:xfrm>
            <a:off x="2666880" y="3906720"/>
            <a:ext cx="914400" cy="893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6" name="Rectangle 21"/>
          <p:cNvSpPr/>
          <p:nvPr/>
        </p:nvSpPr>
        <p:spPr>
          <a:xfrm>
            <a:off x="3581280" y="3906720"/>
            <a:ext cx="1067040" cy="89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I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A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7" name="Oval 22"/>
          <p:cNvSpPr/>
          <p:nvPr/>
        </p:nvSpPr>
        <p:spPr>
          <a:xfrm>
            <a:off x="380880" y="6095880"/>
            <a:ext cx="2514600" cy="8938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al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8" name="Text Box 23"/>
          <p:cNvSpPr/>
          <p:nvPr/>
        </p:nvSpPr>
        <p:spPr>
          <a:xfrm rot="17636400">
            <a:off x="445680" y="4737600"/>
            <a:ext cx="129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ue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-embargo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09" name="Text Box 24"/>
          <p:cNvSpPr/>
          <p:nvPr/>
        </p:nvSpPr>
        <p:spPr>
          <a:xfrm>
            <a:off x="1278000" y="4754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0" name="Text Box 25"/>
          <p:cNvSpPr/>
          <p:nvPr/>
        </p:nvSpPr>
        <p:spPr>
          <a:xfrm>
            <a:off x="2209680" y="4633920"/>
            <a:ext cx="83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1" name="Text Box 26"/>
          <p:cNvSpPr/>
          <p:nvPr/>
        </p:nvSpPr>
        <p:spPr>
          <a:xfrm>
            <a:off x="2286000" y="463392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2" name="Text Box 27"/>
          <p:cNvSpPr/>
          <p:nvPr/>
        </p:nvSpPr>
        <p:spPr>
          <a:xfrm>
            <a:off x="2286000" y="463392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3" name="Oval 28"/>
          <p:cNvSpPr/>
          <p:nvPr/>
        </p:nvSpPr>
        <p:spPr>
          <a:xfrm>
            <a:off x="1704960" y="4876920"/>
            <a:ext cx="2409840" cy="731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g Action 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9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4" name="Text Box 29"/>
          <p:cNvSpPr/>
          <p:nvPr/>
        </p:nvSpPr>
        <p:spPr>
          <a:xfrm>
            <a:off x="5637240" y="5689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5" name="Rectangle 30"/>
          <p:cNvSpPr/>
          <p:nvPr/>
        </p:nvSpPr>
        <p:spPr>
          <a:xfrm>
            <a:off x="7620120" y="6400800"/>
            <a:ext cx="137160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11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6" name="Rectangle 31"/>
          <p:cNvSpPr/>
          <p:nvPr/>
        </p:nvSpPr>
        <p:spPr>
          <a:xfrm>
            <a:off x="6172200" y="6421320"/>
            <a:ext cx="1447920" cy="48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10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7" name="Rectangle 32"/>
          <p:cNvSpPr/>
          <p:nvPr/>
        </p:nvSpPr>
        <p:spPr>
          <a:xfrm>
            <a:off x="3657600" y="6421320"/>
            <a:ext cx="2514600" cy="487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9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8" name="Oval 33"/>
          <p:cNvSpPr/>
          <p:nvPr/>
        </p:nvSpPr>
        <p:spPr>
          <a:xfrm>
            <a:off x="4572000" y="4876920"/>
            <a:ext cx="1600200" cy="812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g Action 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19" name="Line 34"/>
          <p:cNvSpPr/>
          <p:nvPr/>
        </p:nvSpPr>
        <p:spPr>
          <a:xfrm flipV="1">
            <a:off x="533520" y="3250800"/>
            <a:ext cx="0" cy="3087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0" name="Line 35"/>
          <p:cNvSpPr/>
          <p:nvPr/>
        </p:nvSpPr>
        <p:spPr>
          <a:xfrm flipV="1">
            <a:off x="685800" y="4419720"/>
            <a:ext cx="9907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1" name="Line 36"/>
          <p:cNvSpPr/>
          <p:nvPr/>
        </p:nvSpPr>
        <p:spPr>
          <a:xfrm flipH="1" flipV="1">
            <a:off x="2666520" y="5638320"/>
            <a:ext cx="22860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1828800" y="5562720"/>
            <a:ext cx="116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ffort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3" name="Rectangle 38"/>
          <p:cNvSpPr/>
          <p:nvPr/>
        </p:nvSpPr>
        <p:spPr>
          <a:xfrm>
            <a:off x="7467480" y="5943600"/>
            <a:ext cx="1524240" cy="48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10 close out/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4" name="Rectangle 39"/>
          <p:cNvSpPr/>
          <p:nvPr/>
        </p:nvSpPr>
        <p:spPr>
          <a:xfrm>
            <a:off x="6172200" y="5932440"/>
            <a:ext cx="1447920" cy="48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’09 close out/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5" name="Rectangle 40"/>
          <p:cNvSpPr/>
          <p:nvPr/>
        </p:nvSpPr>
        <p:spPr>
          <a:xfrm>
            <a:off x="3657600" y="1828800"/>
            <a:ext cx="990720" cy="812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‘11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s S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6" name="Rectangle 41"/>
          <p:cNvSpPr/>
          <p:nvPr/>
        </p:nvSpPr>
        <p:spPr>
          <a:xfrm>
            <a:off x="3657600" y="2590920"/>
            <a:ext cx="990720" cy="406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A &amp; Tribe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7" name="Line 42"/>
          <p:cNvSpPr/>
          <p:nvPr/>
        </p:nvSpPr>
        <p:spPr>
          <a:xfrm>
            <a:off x="129528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8" name="Line 43"/>
          <p:cNvSpPr/>
          <p:nvPr/>
        </p:nvSpPr>
        <p:spPr>
          <a:xfrm>
            <a:off x="3666960" y="496404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29" name="Rectangle 46"/>
          <p:cNvSpPr/>
          <p:nvPr/>
        </p:nvSpPr>
        <p:spPr>
          <a:xfrm>
            <a:off x="4270320" y="6357960"/>
            <a:ext cx="90504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4648320" y="487440"/>
            <a:ext cx="2133360" cy="731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-May-Jun ‘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533520" y="487440"/>
            <a:ext cx="1981080" cy="731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-Nov-Dec ‘07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2514600" y="487440"/>
            <a:ext cx="2133720" cy="731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n-Feb-Mar ‘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2899080" y="6172200"/>
            <a:ext cx="203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 13-14,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Mtg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lton Washington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2819520" y="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Timeline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152280" y="6248520"/>
            <a:ext cx="914400" cy="812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BAC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edule: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1069200" y="6248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 3-4, 07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lington, VA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4648320" y="1219320"/>
            <a:ext cx="45720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8" name="Rectangle 12"/>
          <p:cNvSpPr/>
          <p:nvPr/>
        </p:nvSpPr>
        <p:spPr>
          <a:xfrm>
            <a:off x="4648320" y="4033800"/>
            <a:ext cx="457200" cy="105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533520" y="1219320"/>
            <a:ext cx="45720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0" name="Rectangle 14"/>
          <p:cNvSpPr/>
          <p:nvPr/>
        </p:nvSpPr>
        <p:spPr>
          <a:xfrm>
            <a:off x="2514600" y="1219320"/>
            <a:ext cx="45720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1" name="Rectangle 17"/>
          <p:cNvSpPr/>
          <p:nvPr/>
        </p:nvSpPr>
        <p:spPr>
          <a:xfrm>
            <a:off x="4648320" y="1981080"/>
            <a:ext cx="4572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2" name="Rectangle 18"/>
          <p:cNvSpPr/>
          <p:nvPr/>
        </p:nvSpPr>
        <p:spPr>
          <a:xfrm>
            <a:off x="533520" y="1981080"/>
            <a:ext cx="4572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3" name="Rectangle 19"/>
          <p:cNvSpPr/>
          <p:nvPr/>
        </p:nvSpPr>
        <p:spPr>
          <a:xfrm>
            <a:off x="2514600" y="1981080"/>
            <a:ext cx="4572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4" name="Rectangle 21"/>
          <p:cNvSpPr/>
          <p:nvPr/>
        </p:nvSpPr>
        <p:spPr>
          <a:xfrm>
            <a:off x="4648320" y="3048120"/>
            <a:ext cx="457200" cy="98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5" name="Rectangle 23"/>
          <p:cNvSpPr/>
          <p:nvPr/>
        </p:nvSpPr>
        <p:spPr>
          <a:xfrm>
            <a:off x="533520" y="3048120"/>
            <a:ext cx="457200" cy="98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6" name="Rectangle 24"/>
          <p:cNvSpPr/>
          <p:nvPr/>
        </p:nvSpPr>
        <p:spPr>
          <a:xfrm>
            <a:off x="2514600" y="3048120"/>
            <a:ext cx="457200" cy="98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7" name="Rectangle 25"/>
          <p:cNvSpPr/>
          <p:nvPr/>
        </p:nvSpPr>
        <p:spPr>
          <a:xfrm>
            <a:off x="990720" y="3048120"/>
            <a:ext cx="1523880" cy="98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8" name="Rectangle 27"/>
          <p:cNvSpPr/>
          <p:nvPr/>
        </p:nvSpPr>
        <p:spPr>
          <a:xfrm>
            <a:off x="533520" y="4033800"/>
            <a:ext cx="457200" cy="105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49" name="Rectangle 28"/>
          <p:cNvSpPr/>
          <p:nvPr/>
        </p:nvSpPr>
        <p:spPr>
          <a:xfrm>
            <a:off x="2514600" y="4033800"/>
            <a:ext cx="457200" cy="105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0" name="Rectangle 30"/>
          <p:cNvSpPr/>
          <p:nvPr/>
        </p:nvSpPr>
        <p:spPr>
          <a:xfrm rot="5400000">
            <a:off x="1371240" y="838080"/>
            <a:ext cx="76176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1" name="Text Box 32"/>
          <p:cNvSpPr/>
          <p:nvPr/>
        </p:nvSpPr>
        <p:spPr>
          <a:xfrm>
            <a:off x="4952880" y="4929120"/>
            <a:ext cx="184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2" name="Rectangle 35"/>
          <p:cNvSpPr/>
          <p:nvPr/>
        </p:nvSpPr>
        <p:spPr>
          <a:xfrm>
            <a:off x="6781680" y="1981080"/>
            <a:ext cx="457200" cy="106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3" name="Rectangle 36"/>
          <p:cNvSpPr/>
          <p:nvPr/>
        </p:nvSpPr>
        <p:spPr>
          <a:xfrm>
            <a:off x="6781680" y="1219320"/>
            <a:ext cx="457200" cy="7617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4" name="Rectangle 38"/>
          <p:cNvSpPr/>
          <p:nvPr/>
        </p:nvSpPr>
        <p:spPr>
          <a:xfrm>
            <a:off x="6781680" y="3048120"/>
            <a:ext cx="457200" cy="985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5" name="Rectangle 41"/>
          <p:cNvSpPr/>
          <p:nvPr/>
        </p:nvSpPr>
        <p:spPr>
          <a:xfrm>
            <a:off x="6781680" y="4033800"/>
            <a:ext cx="457200" cy="10573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6" name="Rectangle 42"/>
          <p:cNvSpPr/>
          <p:nvPr/>
        </p:nvSpPr>
        <p:spPr>
          <a:xfrm>
            <a:off x="6781680" y="487440"/>
            <a:ext cx="2133720" cy="731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Y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-Aug-Sep ‘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7" name="Rectangle 45"/>
          <p:cNvSpPr/>
          <p:nvPr/>
        </p:nvSpPr>
        <p:spPr>
          <a:xfrm>
            <a:off x="533520" y="5105520"/>
            <a:ext cx="4572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8" name="Rectangle 46"/>
          <p:cNvSpPr/>
          <p:nvPr/>
        </p:nvSpPr>
        <p:spPr>
          <a:xfrm>
            <a:off x="2987640" y="5105520"/>
            <a:ext cx="16747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59" name="Rectangle 47"/>
          <p:cNvSpPr/>
          <p:nvPr/>
        </p:nvSpPr>
        <p:spPr>
          <a:xfrm>
            <a:off x="2514600" y="5105520"/>
            <a:ext cx="4572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0" name="Rectangle 48"/>
          <p:cNvSpPr/>
          <p:nvPr/>
        </p:nvSpPr>
        <p:spPr>
          <a:xfrm>
            <a:off x="4648320" y="5105520"/>
            <a:ext cx="4572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1" name="Rectangle 49"/>
          <p:cNvSpPr/>
          <p:nvPr/>
        </p:nvSpPr>
        <p:spPr>
          <a:xfrm>
            <a:off x="6781680" y="5105520"/>
            <a:ext cx="45720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2" name="Rectangle 51"/>
          <p:cNvSpPr/>
          <p:nvPr/>
        </p:nvSpPr>
        <p:spPr>
          <a:xfrm>
            <a:off x="5105520" y="5105520"/>
            <a:ext cx="16761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3" name="Line 54"/>
          <p:cNvSpPr/>
          <p:nvPr/>
        </p:nvSpPr>
        <p:spPr>
          <a:xfrm>
            <a:off x="8915400" y="1219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4" name="Line 55"/>
          <p:cNvSpPr/>
          <p:nvPr/>
        </p:nvSpPr>
        <p:spPr>
          <a:xfrm>
            <a:off x="3886200" y="22860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5" name="Rectangle 57"/>
          <p:cNvSpPr/>
          <p:nvPr/>
        </p:nvSpPr>
        <p:spPr>
          <a:xfrm>
            <a:off x="990720" y="5105520"/>
            <a:ext cx="1523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6" name="Rectangle 58"/>
          <p:cNvSpPr/>
          <p:nvPr/>
        </p:nvSpPr>
        <p:spPr>
          <a:xfrm>
            <a:off x="5105520" y="1219320"/>
            <a:ext cx="16761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7" name="Rectangle 60"/>
          <p:cNvSpPr/>
          <p:nvPr/>
        </p:nvSpPr>
        <p:spPr>
          <a:xfrm>
            <a:off x="2971800" y="1219320"/>
            <a:ext cx="16765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8" name="Rectangle 61"/>
          <p:cNvSpPr/>
          <p:nvPr/>
        </p:nvSpPr>
        <p:spPr>
          <a:xfrm>
            <a:off x="7238880" y="1219320"/>
            <a:ext cx="16765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69" name="Rectangle 62"/>
          <p:cNvSpPr/>
          <p:nvPr/>
        </p:nvSpPr>
        <p:spPr>
          <a:xfrm>
            <a:off x="2971800" y="1981080"/>
            <a:ext cx="1676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0" name="Rectangle 63"/>
          <p:cNvSpPr/>
          <p:nvPr/>
        </p:nvSpPr>
        <p:spPr>
          <a:xfrm>
            <a:off x="5105520" y="1981080"/>
            <a:ext cx="16761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1" name="Rectangle 64"/>
          <p:cNvSpPr/>
          <p:nvPr/>
        </p:nvSpPr>
        <p:spPr>
          <a:xfrm>
            <a:off x="7238880" y="1981080"/>
            <a:ext cx="1676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2" name="Rectangle 65"/>
          <p:cNvSpPr/>
          <p:nvPr/>
        </p:nvSpPr>
        <p:spPr>
          <a:xfrm>
            <a:off x="2971800" y="3048120"/>
            <a:ext cx="16765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3" name="Rectangle 66"/>
          <p:cNvSpPr/>
          <p:nvPr/>
        </p:nvSpPr>
        <p:spPr>
          <a:xfrm>
            <a:off x="5105520" y="3048120"/>
            <a:ext cx="16761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4" name="Rectangle 67"/>
          <p:cNvSpPr/>
          <p:nvPr/>
        </p:nvSpPr>
        <p:spPr>
          <a:xfrm>
            <a:off x="7238880" y="3048120"/>
            <a:ext cx="16765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5" name="Rectangle 68"/>
          <p:cNvSpPr/>
          <p:nvPr/>
        </p:nvSpPr>
        <p:spPr>
          <a:xfrm>
            <a:off x="7238880" y="4038480"/>
            <a:ext cx="1676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6" name="Rectangle 69"/>
          <p:cNvSpPr/>
          <p:nvPr/>
        </p:nvSpPr>
        <p:spPr>
          <a:xfrm>
            <a:off x="7238880" y="5105520"/>
            <a:ext cx="16765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c1c17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7" name="Rectangle 70"/>
          <p:cNvSpPr/>
          <p:nvPr/>
        </p:nvSpPr>
        <p:spPr>
          <a:xfrm>
            <a:off x="990720" y="1295280"/>
            <a:ext cx="15238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out/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8" name="Rectangle 72"/>
          <p:cNvSpPr/>
          <p:nvPr/>
        </p:nvSpPr>
        <p:spPr>
          <a:xfrm>
            <a:off x="3048120" y="1295280"/>
            <a:ext cx="15238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out/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79" name="Rectangle 73"/>
          <p:cNvSpPr/>
          <p:nvPr/>
        </p:nvSpPr>
        <p:spPr>
          <a:xfrm>
            <a:off x="5181480" y="1295280"/>
            <a:ext cx="15242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out/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0" name="Rectangle 74"/>
          <p:cNvSpPr/>
          <p:nvPr/>
        </p:nvSpPr>
        <p:spPr>
          <a:xfrm>
            <a:off x="7315200" y="1295280"/>
            <a:ext cx="152388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out/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1" name="Rectangle 76"/>
          <p:cNvSpPr/>
          <p:nvPr/>
        </p:nvSpPr>
        <p:spPr>
          <a:xfrm>
            <a:off x="990720" y="1981080"/>
            <a:ext cx="15238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08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actmen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&amp;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2" name="Rectangle 77"/>
          <p:cNvSpPr/>
          <p:nvPr/>
        </p:nvSpPr>
        <p:spPr>
          <a:xfrm>
            <a:off x="2971800" y="1981080"/>
            <a:ext cx="1676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&amp;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3" name="Rectangle 78"/>
          <p:cNvSpPr/>
          <p:nvPr/>
        </p:nvSpPr>
        <p:spPr>
          <a:xfrm>
            <a:off x="5105520" y="1981080"/>
            <a:ext cx="16761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&amp;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4" name="Rectangle 79"/>
          <p:cNvSpPr/>
          <p:nvPr/>
        </p:nvSpPr>
        <p:spPr>
          <a:xfrm>
            <a:off x="7238880" y="1981080"/>
            <a:ext cx="1676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 &amp;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5" name="Rectangle 80"/>
          <p:cNvSpPr/>
          <p:nvPr/>
        </p:nvSpPr>
        <p:spPr>
          <a:xfrm>
            <a:off x="990720" y="3048120"/>
            <a:ext cx="1676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09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bargoed --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berati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6" name="Rectangle 81"/>
          <p:cNvSpPr/>
          <p:nvPr/>
        </p:nvSpPr>
        <p:spPr>
          <a:xfrm>
            <a:off x="2971800" y="3048120"/>
            <a:ext cx="16765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ident’s Budge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ted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ressional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efings Begin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7" name="Rectangle 82"/>
          <p:cNvSpPr/>
          <p:nvPr/>
        </p:nvSpPr>
        <p:spPr>
          <a:xfrm>
            <a:off x="5105520" y="3048120"/>
            <a:ext cx="16761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bes implemen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tegy to seek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 funds from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res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8" name="Rectangle 83"/>
          <p:cNvSpPr/>
          <p:nvPr/>
        </p:nvSpPr>
        <p:spPr>
          <a:xfrm>
            <a:off x="7238880" y="3048120"/>
            <a:ext cx="16765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09 Budget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ressional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 &amp; lobbying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89" name="Text Box 84"/>
          <p:cNvSpPr/>
          <p:nvPr/>
        </p:nvSpPr>
        <p:spPr>
          <a:xfrm>
            <a:off x="990720" y="40384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bes set 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y 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: 2010 priorities</a:t>
            </a:r>
            <a:endParaRPr b="0" lang="en-US" sz="16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0" name="Rectangle 85"/>
          <p:cNvSpPr/>
          <p:nvPr/>
        </p:nvSpPr>
        <p:spPr>
          <a:xfrm>
            <a:off x="2971800" y="4038480"/>
            <a:ext cx="16765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bes/IA to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blish FY 10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option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in target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1" name="Rectangle 88"/>
          <p:cNvSpPr/>
          <p:nvPr/>
        </p:nvSpPr>
        <p:spPr>
          <a:xfrm>
            <a:off x="5105520" y="4038480"/>
            <a:ext cx="1676160" cy="105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 Developmen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ish FY 10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ltation;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to Dep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2" name="Rectangle 89"/>
          <p:cNvSpPr/>
          <p:nvPr/>
        </p:nvSpPr>
        <p:spPr>
          <a:xfrm>
            <a:off x="7238880" y="4038480"/>
            <a:ext cx="16750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Y 10 Budget</a:t>
            </a:r>
            <a:endParaRPr b="0" lang="en-US" sz="15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mbargoed -- </a:t>
            </a:r>
            <a:endParaRPr b="0" lang="en-US" sz="15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ecutive Branch</a:t>
            </a:r>
            <a:endParaRPr b="0" lang="en-US" sz="15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liber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3" name="Rectangle 90"/>
          <p:cNvSpPr/>
          <p:nvPr/>
        </p:nvSpPr>
        <p:spPr>
          <a:xfrm>
            <a:off x="5105520" y="5105520"/>
            <a:ext cx="16761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4" name="Rectangle 91"/>
          <p:cNvSpPr/>
          <p:nvPr/>
        </p:nvSpPr>
        <p:spPr>
          <a:xfrm>
            <a:off x="7238880" y="5105520"/>
            <a:ext cx="16750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 11 –Adopt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bal/IA priorities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5" name="Rectangle 92"/>
          <p:cNvSpPr/>
          <p:nvPr/>
        </p:nvSpPr>
        <p:spPr>
          <a:xfrm>
            <a:off x="2971800" y="5105520"/>
            <a:ext cx="167652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6" name="Rectangle 93"/>
          <p:cNvSpPr/>
          <p:nvPr/>
        </p:nvSpPr>
        <p:spPr>
          <a:xfrm>
            <a:off x="990720" y="5105520"/>
            <a:ext cx="1523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108040" y="617220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0-22,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aton Nat’l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lington, VA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398" name="Text Box 95"/>
          <p:cNvSpPr/>
          <p:nvPr/>
        </p:nvSpPr>
        <p:spPr>
          <a:xfrm>
            <a:off x="7241760" y="6172200"/>
            <a:ext cx="16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1-13, 08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ing Stone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na, NY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8880" y="242640"/>
            <a:ext cx="74768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08 Congressional Action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73868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e Appropriations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action on June 11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110-1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ar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House 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ate Appropriations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action on June 26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110-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full 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08 Congressional Action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76000" y="1143000"/>
            <a:ext cx="8567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st Continuing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November 16; 12.8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inuing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December 14; 7.6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inuing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December 21; 1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inuing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December 31; 2.73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FY 2008 Congressional Action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7386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olidated Appropriations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Law 110-1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ed Dec 26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Across the Board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.56% to every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raise funded at 3%, BUT     authorized at 3.5% -- must absorb the 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1279440" y="4754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2209680" y="4632480"/>
            <a:ext cx="83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286000" y="463248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2286000" y="4632480"/>
            <a:ext cx="853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09480" y="228600"/>
            <a:ext cx="7793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Y 2008 Congressional Action</a:t>
            </a:r>
            <a:endParaRPr b="0" lang="en-US" sz="4400" spc="-1" strike="noStrike">
              <a:solidFill>
                <a:srgbClr val="c1c177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038480" y="990720"/>
            <a:ext cx="4856400" cy="60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from President’s Budget: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Restoration of JOM:</a:t>
            </a:r>
            <a:r>
              <a:rPr b="0" lang="en-US" sz="1700" spc="-1" strike="noStrike">
                <a:solidFill>
                  <a:srgbClr val="990000"/>
                </a:solidFill>
                <a:latin typeface="Arial"/>
              </a:rPr>
              <a:t> +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$21.7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Restoration of HIP: +$13.8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Increase to Welfare Assistance: +$6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Increase to ICWA: +$1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Irrigation O&amp;M: +$1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Washington Timber-Fish-Wildlife: +$1.7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acific Salmon Treaty: +$1.8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Lake Roosevelt: $+$350K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Upper Columbia United Tribes: +$315K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Circle of Flight: +$600K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Bison restoration &amp; protection: +$1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Endangered Species: +$1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Law Enforcement Initiatives: $+9.5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ndian Police Academy: +$500K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ribal Courts: +$2.5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ire Protection: +1.2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National Ironworkers Training: +$400K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"/>
              </a:rPr>
              <a:t>General Development Pgms: +$600K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mentary/Secondary Pgms: +$11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-Secondary Pgms: +$15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struction Programs: +$9.4M</a:t>
            </a: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177"/>
              </a:solidFill>
              <a:latin typeface="Arial"/>
            </a:endParaRPr>
          </a:p>
        </p:txBody>
      </p:sp>
      <p:graphicFrame>
        <p:nvGraphicFramePr>
          <p:cNvPr id="411" name="Object 8"/>
          <p:cNvGraphicFramePr/>
          <p:nvPr/>
        </p:nvGraphicFramePr>
        <p:xfrm>
          <a:off x="152280" y="2133720"/>
          <a:ext cx="3886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33720"/>
                    <a:ext cx="3886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15"/>
          <p:cNvSpPr/>
          <p:nvPr/>
        </p:nvSpPr>
        <p:spPr>
          <a:xfrm>
            <a:off x="2895480" y="3809880"/>
            <a:ext cx="6098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2,291</a:t>
            </a:r>
            <a:endParaRPr b="0" lang="en-US" sz="1400" spc="-1" strike="noStrike">
              <a:solidFill>
                <a:srgbClr val="c1c1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8880" y="243000"/>
            <a:ext cx="74768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605a"/>
                </a:solidFill>
                <a:latin typeface="Arial"/>
              </a:rPr>
              <a:t>FY 2008 Congressional Action</a:t>
            </a:r>
            <a:endParaRPr b="0" lang="en-US" sz="2800" spc="-1" strike="noStrike">
              <a:solidFill>
                <a:srgbClr val="30605a"/>
              </a:solidFill>
              <a:latin typeface="Arial"/>
            </a:endParaRPr>
          </a:p>
        </p:txBody>
      </p:sp>
      <p:graphicFrame>
        <p:nvGraphicFramePr>
          <p:cNvPr id="415" name="Object 327"/>
          <p:cNvGraphicFramePr/>
          <p:nvPr/>
        </p:nvGraphicFramePr>
        <p:xfrm>
          <a:off x="457200" y="762120"/>
          <a:ext cx="6729480" cy="632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Object 3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67294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6T23:42:40Z</dcterms:created>
  <dc:creator>MMiller</dc:creator>
  <dc:description/>
  <dc:language>en-US</dc:language>
  <cp:lastModifiedBy>MaryJane.Miller</cp:lastModifiedBy>
  <dcterms:modified xsi:type="dcterms:W3CDTF">2008-03-10T16:08:25Z</dcterms:modified>
  <cp:revision>158</cp:revision>
  <dc:subject/>
  <dc:title>Slide 1</dc:title>
</cp:coreProperties>
</file>