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64D-27B9-49F0-8906-895170D6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0FD-A474-403C-83D3-4458A853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104-4D8C-477F-A740-AE28CCCD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F93-0AD6-427D-8315-D45640D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41609-2AF7-402C-8A12-B052D152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18602-5958-4538-8830-21C1FDB3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9A8C-6E15-4262-8977-9A990852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B6545-E554-4846-8540-6DADA3D4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E739B-2BCC-4EF7-AE89-CCC1080D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C0B8B-C04C-4A48-9B0F-7D0CC82B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F1850-4049-44F4-87A7-151AFC1C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6ED-05ED-4BF6-8760-6DD918BC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BD20-44BA-451B-A5B0-B6E28719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0D9C8-1E66-4754-981D-E5EAAC6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20293-4729-405F-AF1F-E843F7E3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8B21A-7D29-4243-8AB8-88BA02A9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CEB12-2F98-4C54-8A81-87A7D913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7DD-AA5C-4BFE-8772-828FC4A9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AC6-BF91-455C-8DE9-4FB59ECA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9EA-CC1B-4055-8378-66150CAD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28F-4F00-423F-BC9F-0E339A03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E7E-AFE9-4D3C-A324-6210053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973-5396-4BE6-85BC-8E95CDB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B08-53BB-4A1F-AA55-3305297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A1DB-6601-436A-8CD0-903B8D65D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58E2-A06E-4D09-83D3-FAF37A001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772400" cy="12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INDIAN WATER RESOURCES</a:t>
            </a:r>
            <a:br>
              <a:rPr sz="3600"/>
            </a:br>
            <a:r>
              <a:rPr b="0" lang="en-US" sz="3600" spc="-1" strike="noStrike">
                <a:solidFill>
                  <a:srgbClr val="010199"/>
                </a:solidFill>
                <a:latin typeface="Tahoma"/>
              </a:rPr>
              <a:t>Southwest Reg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57150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Y 2010 National Budget Me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March 13,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04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ribal Monitoring of adjud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ervene on own behalf – enables Tribes to  Actively Participate in Court Proc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nsure US Claims are aligned with tribal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2 – Informed Tribal Particip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Litigation Leverage – claims for future use are strengthen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omprehensive Multi-Year Community Based Water Plan - Settlement talks address identified water requirements of the Trib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3 – Development of</a:t>
            </a:r>
            <a:br>
              <a:rPr sz="3600"/>
            </a:b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a Homeland 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504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4419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Option to litigating cla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ost and time commitment comparable to litig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ffords tribes more control over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OI preference when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4 – Tribal Participation in Negotiations ($$$$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9132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789280"/>
                <a:gridCol w="2163600"/>
                <a:gridCol w="2308320"/>
                <a:gridCol w="1882800"/>
              </a:tblGrid>
              <a:tr h="61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s per Year of Decree: Building Blocks by Source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ed programs →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uilding blocks ↓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 Litigation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otiation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 Management, Planning &amp;Pre-Developmen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orney Fee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 US Litigation stan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3,600,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 Tribal informed participatio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0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5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 Homeland Water Pla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3,2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. Formal negotiation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5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0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$10,8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6,1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3,2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$1,500,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533520" y="4609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00040" y="3580920"/>
            <a:ext cx="571500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ater can be managed….protected, preserved,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ater can be protected for future gen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880"/>
            <a:ext cx="77724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Results of Court Decreed Water Right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00040" y="3352320"/>
            <a:ext cx="571500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on-Tribal parties implement unchallenged long range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o mechanism to defend against increasing encroachment on tribal water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Risks of No Decree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0" r="0" b="96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00040" y="3580920"/>
            <a:ext cx="5715000" cy="2667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t. Governor Dancy Simplicio - Pueblo of Zu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Joe Garcia, President NC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arlos Hisa, Lt. Governor -  Ysleta del Sur Pueblo (Altern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TBAC Representa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57536"/>
          <a:stretch/>
        </p:blipFill>
        <p:spPr>
          <a:xfrm>
            <a:off x="457200" y="1295280"/>
            <a:ext cx="8229600" cy="4649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8080" y="6019920"/>
            <a:ext cx="7772400" cy="8380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Protection, Preservation &amp; 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A Court Decree defines water asset and allows fo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14840" y="-4243320"/>
            <a:ext cx="1522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23924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US Litigation St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formed Tribal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ocumented Tribal Homeland 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ctive Tribal Negot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4 Building Blocks for Court Decr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04920" y="838080"/>
            <a:ext cx="8458200" cy="5839560"/>
            <a:chOff x="304920" y="838080"/>
            <a:chExt cx="8458200" cy="58395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219320" y="838080"/>
              <a:ext cx="632448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04920" y="5105520"/>
              <a:ext cx="8458200" cy="157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In Adjudi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Pending Adjudic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5497560"/>
              <a:ext cx="603360" cy="50148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4800" y="5497560"/>
              <a:ext cx="603360" cy="501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Building Block 1 – US Litigatio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63002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62760" y="-4185000"/>
            <a:ext cx="7596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3429000"/>
          <a:ext cx="9144000" cy="3429000"/>
        </p:xfrm>
        <a:graphic>
          <a:graphicData uri="http://schemas.openxmlformats.org/drawingml/2006/table">
            <a:tbl>
              <a:tblPr/>
              <a:tblGrid>
                <a:gridCol w="1905120"/>
                <a:gridCol w="4267080"/>
                <a:gridCol w="29718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10199"/>
                          </a:solidFill>
                          <a:uFillTx/>
                          <a:latin typeface="Tahoma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 trib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10199"/>
                          </a:solidFill>
                          <a:uFillTx/>
                          <a:latin typeface="Tahoma"/>
                        </a:rPr>
                        <a:t>IN PRO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0 tribes involved in 11 LAWSUI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(NOTE: 3 of these LAWSUITS are in settlement negotiations now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10199"/>
                          </a:solidFill>
                          <a:uFillTx/>
                          <a:latin typeface="Tahoma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 tribes </a:t>
                      </a:r>
                      <a:r>
                        <a:rPr b="0" i="1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not</a:t>
                      </a: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yet in litigation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09480" y="152280"/>
            <a:ext cx="777240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Status of Litigation for 25 Tri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124080"/>
                <a:gridCol w="2441520"/>
                <a:gridCol w="357840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CASE 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tream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Indian Tribes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1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amodt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Pojoaque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 Ildefonso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ojoaqu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Tesuqu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mb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8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bbott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Cruz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 Ildefonso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Clar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Ohkay Owingeh (formerly San Juan Puebl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mb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ojoaque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3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beyta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Pueblo de Taos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Taos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124080"/>
                <a:gridCol w="2441520"/>
                <a:gridCol w="3578400"/>
              </a:tblGrid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CASE 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tream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Indian Tribes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8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4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Aragon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Chama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Ohkay Owingeh (formerly San Juan Puebl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Jicarilla Apache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5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Kerr-McGee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San Jose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Acom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Lagun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vajo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6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Lewis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ecos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Mescalero Apache Tri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7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M v U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 Juan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vajo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Jicarilla Apache 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Ute Mountain Ute Tri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00400"/>
                <a:gridCol w="2365200"/>
                <a:gridCol w="3578400"/>
              </a:tblGrid>
              <a:tr h="20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8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PNM v Anaya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Fe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Cochiti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o Domingo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Fe Indian School (in trust for 19 Puebl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9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US v A &amp; R Produ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Zuni River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Zuni Indian Tri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Navajo Nation (including Ramah Navajo Chapte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10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US v Abousleman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Jemez, New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Jemez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Zi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Santa Ana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11. </a:t>
                      </a:r>
                      <a:r>
                        <a:rPr b="1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Adjudication of all Claims of Water Rights in the Upper Rio Grande (Above Ft. Quitman) Segment of the Rio Grande Bas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Rio Grande, Tex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10199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Arial Black"/>
                          <a:ea typeface="Times New Roman"/>
                        </a:rPr>
                        <a:t>Ysleta del Sur Pueb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6:45:56Z</dcterms:created>
  <dc:creator> </dc:creator>
  <dc:description/>
  <dc:language>en-US</dc:language>
  <cp:lastModifiedBy>Gabriel</cp:lastModifiedBy>
  <dcterms:modified xsi:type="dcterms:W3CDTF">2008-03-13T12:29:42Z</dcterms:modified>
  <cp:revision>23</cp:revision>
  <dc:subject/>
  <dc:title>BUREAU OF INDIAN AFFAIRS SOUTHWEST REGIONAL OFFIC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