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BA1F-DE93-48C7-B039-D395C80F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364-8E46-4605-B207-81DD26BF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938-87AE-4799-A333-AB93F401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B994-7853-4021-B820-36D85197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08297-E2E1-4E9E-9DA3-851447CC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06073-3DEA-4644-B7E7-0A74592F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13EBB-ACB3-4454-94AE-447049FF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226E8-1C27-44B5-AC31-784E46BE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50931-C4DD-4AF4-8A60-4EC30518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B2363-9098-4B1F-8376-D07F2DE3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DEF98-A4A1-49C0-825C-A13A4C44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72C5-B16C-42E3-89DA-5C4D10CB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B61D3-D45F-4A7C-BDF3-8846555C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E4CB2-5725-4D88-B710-6CF433AD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018CA-9CB2-4704-BB6A-C74FEFEF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F89EA-37E9-4B98-97AC-D1558F66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ADB22-3E51-42FE-9E7D-4DF6D788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5D3-9DD5-4C32-9EFE-C068DAB4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0861-5EC4-4DAF-9609-CEA9F779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CA29-03F6-4ED0-9243-486ED03C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9B81-99AA-4A71-85AB-0DA40163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F67F-2DE7-4DA2-A1EA-4BB9CCCA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393-7277-479F-A6BB-B37D632C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0D1-BE09-4926-8191-66217A44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6DA7-F01C-4FC4-979A-C233A29E58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22CE-2DAE-4CF5-8C8C-7CF3722E7F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rcRect l="0" t="0" r="0" b="96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7772400" cy="12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INDIAN WATER RESOURCES</a:t>
            </a:r>
            <a:br>
              <a:rPr sz="3600"/>
            </a:br>
            <a:r>
              <a:rPr b="0" lang="en-US" sz="3600" spc="-1" strike="noStrike">
                <a:solidFill>
                  <a:srgbClr val="010199"/>
                </a:solidFill>
                <a:latin typeface="Tahoma"/>
              </a:rPr>
              <a:t>Southwest Reg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5715000" cy="838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FY 2010 National Budget Mee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March 13, 20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35049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Tribal Monitoring of adjud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Intervene on own behalf – enables Tribes to  Actively Participate in Court Proce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Ensure US Claims are aligned with tribal go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80880"/>
            <a:ext cx="9144000" cy="838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Tahoma"/>
              </a:rPr>
              <a:t>Building Block 2 – Informed Tribal Particip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434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Litigation Leverage – claims for future use are strengthen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Comprehensive Multi-Year Community Based Water Plan - Settlement talks address identified water requirements of the Trib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80880"/>
            <a:ext cx="9144000" cy="838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Tahoma"/>
              </a:rPr>
              <a:t>Building Block 3 – Development of</a:t>
            </a:r>
            <a:br>
              <a:rPr sz="3600"/>
            </a:br>
            <a:r>
              <a:rPr b="1" lang="en-US" sz="3600" spc="-1" strike="noStrike">
                <a:solidFill>
                  <a:srgbClr val="010199"/>
                </a:solidFill>
                <a:latin typeface="Tahoma"/>
              </a:rPr>
              <a:t>a Homeland V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35049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4419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Option to litigating clai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Cost and time commitment comparable to litig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Affords tribes more control over outc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DOI preference when pos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80880"/>
            <a:ext cx="9144000" cy="838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Tahoma"/>
              </a:rPr>
              <a:t>Building Block 4 – Tribal Participation in Negotiations ($$$$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49132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89280"/>
                <a:gridCol w="2163600"/>
                <a:gridCol w="2308320"/>
                <a:gridCol w="1882800"/>
              </a:tblGrid>
              <a:tr h="617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s per Year of Decree: Building Blocks by Source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lished programs →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uilding blocks ↓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er Litigation/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otiation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er Management, Planning &amp;Pre-Development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torney Fees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. US Litigation stand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$3,600,000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. Tribal informed participatio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$1,000,00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$500,00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. Homeland Water Pla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$3,200,00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. Formal negotiation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$1,500,00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$1,000,00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otal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$10,800,00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$6,100,00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$3,200,00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$1,500,00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533520" y="46098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rcRect l="0" t="0" r="0" b="96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00040" y="3580920"/>
            <a:ext cx="5715000" cy="2971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ater can be managed….protected, preserved, u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ater can be protected for future gener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380880"/>
            <a:ext cx="7772400" cy="1219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Results of Court Decreed Water Rights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rcRect l="0" t="0" r="0" b="96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00040" y="3352320"/>
            <a:ext cx="5715000" cy="3505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Non-Tribal parties implement unchallenged long range pl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No mechanism to defend against increasing encroachment on tribal water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Risks of No Decree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rcRect l="0" t="0" r="0" b="96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rcRect l="0" t="0" r="0" b="96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00040" y="3580920"/>
            <a:ext cx="5715000" cy="2667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Lt. Governor Dancy Simplicio - Pueblo of Zu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Joe Garcia, President NC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Carlos Hisa, Lt. Governor -  Ysleta del Sur Pueblo (Alterna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TBAC Representa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0" b="57536"/>
          <a:stretch/>
        </p:blipFill>
        <p:spPr>
          <a:xfrm>
            <a:off x="457200" y="1295280"/>
            <a:ext cx="8229600" cy="46497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838080" y="6019920"/>
            <a:ext cx="7772400" cy="8380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Protection, Preservation &amp; U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Tahoma"/>
              </a:rPr>
              <a:t>A Court Decree defines water asset and allows for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14840" y="-4243320"/>
            <a:ext cx="15228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23924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US Litigation St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nformed Tribal Partici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ocumented Tribal Homeland Vi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ctive Tribal Negot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4572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Tahoma"/>
              </a:rPr>
              <a:t>4 Building Blocks for Court Decre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304920" y="838080"/>
            <a:ext cx="8458200" cy="5839560"/>
            <a:chOff x="304920" y="838080"/>
            <a:chExt cx="8458200" cy="583956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219320" y="838080"/>
              <a:ext cx="6324480" cy="549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04920" y="5105520"/>
              <a:ext cx="8458200" cy="157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ahoma"/>
                </a:rPr>
                <a:t>	</a:t>
              </a:r>
              <a:r>
                <a:rPr b="1" lang="en-US" sz="2400" spc="-1" strike="noStrike">
                  <a:solidFill>
                    <a:srgbClr val="000099"/>
                  </a:solidFill>
                  <a:latin typeface="Tahoma"/>
                </a:rPr>
                <a:t>In Adjudica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400" spc="-1" strike="noStrike">
                  <a:solidFill>
                    <a:srgbClr val="000099"/>
                  </a:solidFill>
                  <a:latin typeface="Tahoma"/>
                </a:rPr>
                <a:t>Pending Adjudic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5497560"/>
              <a:ext cx="603360" cy="501480"/>
            </a:xfrm>
            <a:prstGeom prst="rect">
              <a:avLst/>
            </a:prstGeom>
            <a:solidFill>
              <a:srgbClr val="00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4800" y="5497560"/>
              <a:ext cx="603360" cy="501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Tahoma"/>
              </a:rPr>
              <a:t>Building Block 1 – US Litigatio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0" b="63002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762760" y="-4185000"/>
            <a:ext cx="7596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3429000"/>
          <a:ext cx="9144000" cy="3429000"/>
        </p:xfrm>
        <a:graphic>
          <a:graphicData uri="http://schemas.openxmlformats.org/drawingml/2006/table">
            <a:tbl>
              <a:tblPr/>
              <a:tblGrid>
                <a:gridCol w="1905120"/>
                <a:gridCol w="4267080"/>
                <a:gridCol w="297180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10199"/>
                          </a:solidFill>
                          <a:uFillTx/>
                          <a:latin typeface="Tahoma"/>
                        </a:rPr>
                        <a:t>COMPLE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1 trib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10199"/>
                          </a:solidFill>
                          <a:uFillTx/>
                          <a:latin typeface="Tahoma"/>
                        </a:rPr>
                        <a:t>IN PRO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20 tribes involved in 11 LAWSUI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(NOTE: 3 of these LAWSUITS are in settlement negotiations now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10199"/>
                          </a:solidFill>
                          <a:uFillTx/>
                          <a:latin typeface="Tahoma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4 tribes </a:t>
                      </a:r>
                      <a:r>
                        <a:rPr b="0" i="1" lang="en-US" sz="3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not</a:t>
                      </a: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yet in litigation</a:t>
                      </a: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609480" y="152280"/>
            <a:ext cx="7772400" cy="762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Tahoma"/>
              </a:rPr>
              <a:t>Status of Litigation for 25 Tri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124080"/>
                <a:gridCol w="2441520"/>
                <a:gridCol w="3578400"/>
              </a:tblGrid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CASE NA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Stream 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Indian Tribes involv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1. 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M v Aamodt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Rio Pojoaque, New 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San Ildefonso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Pojoaque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Tesuque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ambe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8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2. 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M v Abbott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Santa Cruz River, New 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San Ildefonso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Santa Clara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Ohkay Owingeh (formerly San Juan Puebl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ambe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Pojoaque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3. 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M v Abeyta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Rio Pueblo de Taos, New 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Taos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124080"/>
                <a:gridCol w="2441520"/>
                <a:gridCol w="3578400"/>
              </a:tblGrid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CASE NA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Stream 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Indian Tribes involv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8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4. 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M v Aragon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Rio Chama, New 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Ohkay Owingeh (formerly San Juan Puebl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Jicarilla Apache N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5. 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M v Kerr-McGee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Rio San Jose, New 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Acoma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Laguna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avajo N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6. 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M v Lewis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Pecos River, New 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Mescalero Apache Trib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8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7. 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M v U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San Juan River, New 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avajo N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Jicarilla Apache N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Ute Mountain Ute Trib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200400"/>
                <a:gridCol w="2365200"/>
                <a:gridCol w="3578400"/>
              </a:tblGrid>
              <a:tr h="20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8. 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PNM v Anaya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Santa Fe River, New 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Cochiti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Santo Domingo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Santa Fe Indian School (in trust for 19 Puebl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9. 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US v A &amp; R Produ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Zuni River, New 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Zuni Indian Trib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avajo Nation (including Ramah Navajo Chapte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10. 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US v Abousleman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Rio Jemez, New 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Jemez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Zia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Santa Ana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3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11. 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Adjudication of all Claims of Water Rights in the Upper Rio Grande (Above Ft. Quitman) Segment of the Rio Grande Bas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Rio Grande, Tex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Ysleta del Sur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6:45:56Z</dcterms:created>
  <dc:creator> </dc:creator>
  <dc:description/>
  <dc:language>en-US</dc:language>
  <cp:lastModifiedBy>Gabriel</cp:lastModifiedBy>
  <dcterms:modified xsi:type="dcterms:W3CDTF">2008-03-13T12:29:42Z</dcterms:modified>
  <cp:revision>23</cp:revision>
  <dc:subject/>
  <dc:title>BUREAU OF INDIAN AFFAIRS SOUTHWEST REGIONAL OFFIC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