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E2D-2149-4B55-8947-1FFFD2F2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984-C4B0-45C0-B745-6FA95484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F70-971E-4D03-A3D3-234F99A01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151A-2231-4404-A44E-3484D548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FF34-BF84-4EE2-93AC-B385DFA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F5AA-A66E-49A8-A8E3-41D9E703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F7BE-71A6-4B64-8EE9-AC1F6899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1AD4-720E-49F0-8D22-907CDFF8C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9D28-E3DE-4541-849D-AB626CA4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A16A-1808-4C20-B1D0-350C83D7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2220-126F-4C2D-8675-0A77293F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41C-9D76-4F95-8AB1-82483153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D752-00CF-427B-9F9A-20FC452A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79F9-B43E-4A45-A80A-9ADFD55D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4612-6646-45C5-9342-01C04C75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C7D6-81CB-4722-8810-9710303C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5D98-27C3-401B-93C6-C991BBF3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951-E4B8-463A-AA16-5340FD74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958-9E75-4BBF-A222-4942B9AE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326-7237-4E29-B1C7-7745D43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5F5-C5D0-4474-B082-E3D3ADDD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594A-7ABE-4E35-BA6F-18F5916B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82D6-C4CB-4B4C-9AD8-3A3B311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81A5-4F1F-4024-9D2E-F70025C7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5AB2-A5A3-4093-B3DF-432AC27494D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B6A04-4C4C-4548-AF1C-9E926D16D3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ffice of the Special Trustee for American Indian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Y 2007 Budget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OST - FY 2007 Request Summar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Y 2007 President’s budget request for OST totals $244.5 mill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quest reflects a net increase of $21.7 million above the FY 2006 enacted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$25.4 million increase for the Indian Land Consolidation Program (IL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$3.7 million net decrease for OST’s operating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ffice of Historical Trust Accounting (OHTA) is funded at $56.4 million which is the same as the FY 2006 enacted leve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OST - FY 2007 Request Summary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(continued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LCP is funded at $59.4 million, which is a $25.4 million increase above the FY 2006 enacted level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Y 2007 OST budget minus OHTA and ILCP is $128.7m (including funds for other transfers of $14.0m for IT, litigation support and probate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Y 2007 OST controlled funds are $114.7 million (46.9% of the FY 2007 appropriation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OST FY 2007 Request Summary</a:t>
            </a:r>
            <a:br>
              <a:rPr sz="3800"/>
            </a:br>
            <a:br>
              <a:rPr sz="24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14400" y="1266840"/>
          <a:ext cx="754380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66840"/>
                    <a:ext cx="754380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80720" y="205740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C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8480" y="464832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H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3.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6640" y="1752480"/>
            <a:ext cx="5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48040" y="4495680"/>
            <a:ext cx="615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.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OST - FY 2007 Request Summary </a:t>
            </a: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(continued)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ecutive Direction - $2.2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Technology (IT) - $20.3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s (OTR) - $18.5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dget, Finance &amp; Admin (BFA) – $12.4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ernal Affairs (EA) -$747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st Review &amp; Audit (OTRA) - $5.2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OST - FY 2007 Request Summary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(continued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Accountability (TA) - $28.4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- $3.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P - $1.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Management - $0.6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engineering - $3.9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te - $10.5m (includes $9.5m to be transferred to O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Projects - $3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Quality - $5.4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Operations (FO) - $32.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aisal Services (OAS) - $9.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Services (TS) - $8.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OST - FY 2007 Request Summary </a:t>
            </a: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(continued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609480"/>
          <a:ext cx="9155160" cy="610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55160" cy="61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OST - FY 2006 / FY 2007 Comparis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052640"/>
          <a:ext cx="8229600" cy="4743360"/>
        </p:xfrm>
        <a:graphic>
          <a:graphicData uri="http://schemas.openxmlformats.org/drawingml/2006/table">
            <a:tbl>
              <a:tblPr/>
              <a:tblGrid>
                <a:gridCol w="1711080"/>
                <a:gridCol w="1212840"/>
                <a:gridCol w="781200"/>
                <a:gridCol w="1211400"/>
                <a:gridCol w="822240"/>
                <a:gridCol w="1079280"/>
                <a:gridCol w="366840"/>
                <a:gridCol w="1044720"/>
              </a:tblGrid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llion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Y 2006 Enacte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Y 2007 Requ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Chang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Chan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 Total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222.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244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21.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HT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56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56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LC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34.0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59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25.4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.7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 9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 115.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25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 w/o OHTA and ILCP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32.4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4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28.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6%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(3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 transfers: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, Litigation Support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  Probat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10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  1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      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s-through and Transfers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01.2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29.8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28.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 Controlled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21.6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6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 114.7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.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      (6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4T17:20:32Z</dcterms:created>
  <dc:creator> </dc:creator>
  <dc:description/>
  <dc:language>en-US</dc:language>
  <cp:lastModifiedBy>stephenm</cp:lastModifiedBy>
  <dcterms:modified xsi:type="dcterms:W3CDTF">2006-02-10T14:02:23Z</dcterms:modified>
  <cp:revision>29</cp:revision>
  <dc:subject/>
  <dc:title>Office of the Special Trustee for American Indians</dc:title>
</cp:coreProperties>
</file>