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3DE-DA4B-4ADC-80B7-A00C4AB4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A69-0F6B-4795-8A1E-22DCA536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8C4-AFBF-408F-84B3-D8CCD187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C04-48C9-4848-8488-4CE6BDA5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83BE-AE3E-49FD-9B87-DBA20C56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3BED-05BF-4192-9E9A-C7380B92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A5F9-5FB8-4C27-B8C5-BF04B3BC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6489-A0C8-4BAC-BE4A-FEA8166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22AA-37D5-48F5-9F5D-35AE1F79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4266-AF1B-4CCA-8042-ABB956E6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83AA-7BE0-4EB2-A316-7FBB4EF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521-A166-4279-8000-C37B4DA9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03F7-AB3B-4931-85AB-4B46C1EE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A9FA-A771-4148-9CED-861DDC02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07BD-7A6C-4C36-A2D5-A36B6F4F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F15E-6279-45E1-8683-2C66C881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47F1-1D9E-487C-B497-0EC8AC4D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DE2-2C4E-4F4B-B65D-D3106CD5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37F-115E-4298-AFBB-8CB33A9F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B36-0E41-43D5-8FCA-28DDA667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C5D-2E6E-4116-BEBA-DBF373B3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6F3-D7F4-4575-AAA5-45CE4BA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EFB-53A1-43A2-BACA-2CB2B40C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71B-1DD9-4656-8EB2-C6206A55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2B7C-92FF-4F0E-A2A5-FBC356D0BB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1C05-DBE2-4A6E-89EC-1A4A0E0E1C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ffice of the Special Trustee for American Indian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07 Budge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OST - FY 2007 Request 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Y 2007 President’s budget request for OST totals $244.5 mill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quest reflects a net increase of $21.7 million above the FY 2006 enacted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$25.4 million increase for the Indian Land Consolidation Program (IL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$3.7 million net decrease for OST’s operating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ffice of Historical Trust Accounting (OHTA) is funded at $56.4 million which is the same as the FY 2006 enacted leve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OST - FY 2007 Request Summary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(continued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LCP is funded at $59.4 million, which is a $25.4 million increase above the FY 2006 enacted level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Y 2007 OST budget minus OHTA and ILCP is $128.7m (including funds for other transfers of $14.0m for IT, litigation support and probate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Y 2007 OST controlled funds are $114.7 million (46.9% of the FY 2007 appropriation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OST FY 2007 Request Summary</a:t>
            </a:r>
            <a:br>
              <a:rPr sz="3800"/>
            </a:br>
            <a:br>
              <a:rPr sz="24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1266840"/>
          <a:ext cx="754380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66840"/>
                    <a:ext cx="754380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80720" y="205740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8480" y="464832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6640" y="175248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48040" y="449568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.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OST - FY 2007 Request Summary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(continued)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ive Direction - $2.2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Technology (IT) - $20.3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s (OTR) - $18.5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dget, Finance &amp; Admin (BFA) – $12.4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Affairs (EA) -$747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 Review &amp; Audit (OTRA) - $5.2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OST - FY 2007 Request Summary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(continued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Accountability (TA) - $28.4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- $3.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P - $1.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Management - $0.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engineering - $3.9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te - $10.5m (includes $9.5m to be transferred to O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Projects - $3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Quality - $5.4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Operations (FO) - $32.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aisal Services (OAS) - $9.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Services (TS) - $8.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OST - FY 2007 Request Summary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(continued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609480"/>
          <a:ext cx="9155160" cy="610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5516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OST - FY 2006 / FY 2007 Comparis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052640"/>
          <a:ext cx="8229600" cy="4743360"/>
        </p:xfrm>
        <a:graphic>
          <a:graphicData uri="http://schemas.openxmlformats.org/drawingml/2006/table">
            <a:tbl>
              <a:tblPr/>
              <a:tblGrid>
                <a:gridCol w="1711080"/>
                <a:gridCol w="1212840"/>
                <a:gridCol w="781200"/>
                <a:gridCol w="1211400"/>
                <a:gridCol w="822240"/>
                <a:gridCol w="1079280"/>
                <a:gridCol w="366840"/>
                <a:gridCol w="104472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llion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Y 2006 Enacte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Y 2007 Requ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Chang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han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 Tot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222.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244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21.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56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56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C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34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59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25.4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7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9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115.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25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 w/o OHTA and ILCP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32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4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28.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6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(3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transfers: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, Litigation Suppor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 Probat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10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1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-through and Transfers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01.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29.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28.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 Controlle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21.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14.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(6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20:32Z</dcterms:created>
  <dc:creator> </dc:creator>
  <dc:description/>
  <dc:language>en-US</dc:language>
  <cp:lastModifiedBy>stephenm</cp:lastModifiedBy>
  <dcterms:modified xsi:type="dcterms:W3CDTF">2006-02-10T14:02:23Z</dcterms:modified>
  <cp:revision>29</cp:revision>
  <dc:subject/>
  <dc:title>Office of the Special Trustee for American Indians</dc:title>
</cp:coreProperties>
</file>