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00EA-F1B2-4CD8-9C07-738A6BA63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8B5F-200F-42E4-984B-14A934ECD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2822-5C68-467A-85F5-88CD5672E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7E02-738A-44D1-80FE-AFC247D22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6D6B4-B2E7-47F3-BE73-9D06E0D15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CC3B8-62AF-4168-A86E-BCCB1E4A8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742FA-B404-4246-BA23-D83E4076B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3745B-A286-41FA-B2B1-723AB484E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0B946-7F26-4F16-A2C7-212953325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F7772-FA3D-493D-911B-1E7176FD4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576FC-C3F3-46B3-B62F-76ABD2021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640F-87F0-4B16-9898-D51765D13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CB742-00F2-4655-AF87-2E8354980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ACAA9-7284-4970-A4B0-CED238925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BCC0B-5F68-47E6-AD73-65E30FF1B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2CA7B-5748-482B-A037-6AD0C52F3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7BBF6-81B7-4E71-97D6-AB12DDB97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862B-1487-488F-B9F4-69EBE16BC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8E2A-C621-4A54-B1E4-82687043E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0A80-8C4E-4DEE-88C3-3FB0B9A20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9844-16EA-4679-A474-D45065710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BAC6-04F0-4C8A-9CC8-C7663ACDE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3102F-0C4A-477C-8D73-5ADFB31AF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ACE5-3AB3-4BDC-AD90-31EB9A676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EB693-CC11-4DE7-98FF-1D61D93981B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8C2FE-D9F7-447C-889B-65922A0D4C2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Alaska Region Update</a:t>
            </a:r>
            <a:br>
              <a:rPr sz="5800"/>
            </a:b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Economic Developmen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228600" y="3270240"/>
            <a:ext cx="8610480" cy="31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Path to Leadership through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Innovation, Accountability, and Partnershi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esented on behalf of Gloria O’Neill, President/Chief Executive Officer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ok Inlet Tribal Council, In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Verdana"/>
              </a:rPr>
              <a:t>Amy Fredeen, Chief Financial Officer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00"/>
                </a:solidFill>
                <a:latin typeface="Garamond"/>
              </a:rPr>
              <a:t>Alaska’s Uniqueness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aska is comprised of twelve service regions, each of them with unique challenge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aska Native Tribal Organizations receive BIA funding to administer many programs, including social services and tribal operat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y BIA programs are not available in Alaska (i.e. Public Safety, Education and Natural Resource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inability to utilize gaming as a source of funding, has lead many tribal organization in Alaska to search for other sources of funding to help cover these cos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urrently most organizations rely heavily on competitive grants with the federal and state governments.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increase in competition for the grants, coupled with the tightening federal budgets have pushed tribal organizations in Alaska to start exploring economic development through social enterpris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9900"/>
                </a:solidFill>
                <a:latin typeface="Garamond"/>
              </a:rPr>
              <a:t>CITC: Economic Development Initiative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ong-Term Vis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 CITC is exploring innovative ways to leverage our BIA funds to create supplementary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long term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sustainab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funding for program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emonstrating Leadership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 Developing these sustainable funding streams helps us demonstrate to Our People that we are responsible for Our Success, both as a community and as individuals.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Leveraging Fund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 CITC plans to utilize up to 25% of the BIA funding allowable, under P.L. 102-477, for economic development to seed social enterprises.  These social enterprises will create funding streams that complement our current programs and training opportunities for Our People: Creating one more avenue for a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hand up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ther than a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hand ou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00"/>
                </a:solidFill>
                <a:latin typeface="Garamond"/>
              </a:rPr>
              <a:t>Social Enterprise, a Model for Self Determination through Economic Development 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"/>
          <p:cNvSpPr/>
          <p:nvPr/>
        </p:nvSpPr>
        <p:spPr>
          <a:xfrm>
            <a:off x="1447920" y="2743200"/>
            <a:ext cx="6248160" cy="1600200"/>
          </a:xfrm>
          <a:prstGeom prst="rect">
            <a:avLst/>
          </a:prstGeom>
          <a:solidFill>
            <a:srgbClr val="cccc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4343400"/>
            <a:ext cx="8305920" cy="1905120"/>
          </a:xfrm>
          <a:prstGeom prst="rect">
            <a:avLst/>
          </a:prstGeom>
          <a:solidFill>
            <a:srgbClr val="cccc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438280" y="1447920"/>
            <a:ext cx="4241880" cy="1295280"/>
          </a:xfrm>
          <a:prstGeom prst="rect">
            <a:avLst/>
          </a:prstGeom>
          <a:solidFill>
            <a:srgbClr val="cccc66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0" y="1447920"/>
            <a:ext cx="0" cy="48006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830960" y="3124080"/>
            <a:ext cx="248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cc9900"/>
                </a:solidFill>
                <a:uFillTx/>
                <a:latin typeface="Tahoma"/>
              </a:rPr>
              <a:t>Type A Enterpr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inly earned income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me grant subsi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5295960"/>
            <a:ext cx="411480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341720" y="4419720"/>
            <a:ext cx="2635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cc9900"/>
                </a:solidFill>
                <a:uFillTx/>
                <a:latin typeface="Tahoma"/>
              </a:rPr>
              <a:t>Embedded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inly grant supported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me earned inco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25560" y="5465880"/>
            <a:ext cx="266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cc9900"/>
                </a:solidFill>
                <a:uFillTx/>
                <a:latin typeface="Tahoma"/>
              </a:rPr>
              <a:t>Core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otally funded by gra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45200" y="1731960"/>
            <a:ext cx="195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cc9900"/>
                </a:solidFill>
                <a:uFillTx/>
                <a:latin typeface="Tahoma"/>
              </a:rPr>
              <a:t>Type B Enterpr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rofit-making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No grant subsi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84880" y="182880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te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133760" y="1752480"/>
            <a:ext cx="106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850280" y="1797120"/>
            <a:ext cx="171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r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Job Plac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201640" y="2940120"/>
            <a:ext cx="1972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lementa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mploy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831560" y="4921200"/>
            <a:ext cx="328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munity Complementa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01:09:12Z</dcterms:created>
  <dc:creator>afredeen</dc:creator>
  <dc:description/>
  <dc:language>en-US</dc:language>
  <cp:lastModifiedBy>Gabriel</cp:lastModifiedBy>
  <dcterms:modified xsi:type="dcterms:W3CDTF">2008-03-13T12:51:31Z</dcterms:modified>
  <cp:revision>15</cp:revision>
  <dc:subject/>
  <dc:title>Alaska Region Up Date Economic Development</dc:title>
</cp:coreProperties>
</file>