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218-9B9D-4E0A-B3CA-E6A72C48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507-B77B-46AB-B573-598F8FA0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A31-4AF3-41CC-8805-2F351CE1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640-CAE4-4A95-BD1B-D4FCD464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0F1D-4343-46F4-B491-F4A25309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3EB7-C26C-43D2-A08E-AB49A687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8EE0-5179-42D6-ADB9-397766B2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0E16-BE40-4902-AC47-6670FE1A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FD61-3732-4A10-9C33-BE609331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D62B-B1EF-4086-9E83-670AC2D4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5D4E-3B9C-4A1D-BA97-A851182C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384-6704-4140-80C6-064DA26D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9B33-4F5B-4E72-9704-53B9B0F1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37A4-FDD4-4C78-9EE2-F37583F6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3393-A667-4133-9472-C9DCE1E6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4E66-BF50-4E89-84DC-8504F7B8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A843-F543-45AB-8B1D-998E082E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914-0AF5-435D-BF94-074F601F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AE8-06BF-4143-8F82-A635D5B9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8C8-5233-4D75-B313-E69F43CB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3F08-CDD0-4EEE-BF99-85EA2435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1F1C-C8BF-4E5B-AB00-2A078498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56C-D15D-46B4-A0D5-2EEE0EB8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659-4BA0-4356-AF1C-8E8AF194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00E4-B936-466C-9984-C77122EC6B8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4BA3-B0DF-466D-A416-9C84939D301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Alaska Region Update</a:t>
            </a:r>
            <a:br>
              <a:rPr sz="5800"/>
            </a:b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Economic Developmen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3270240"/>
            <a:ext cx="861048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ath to Leadership throug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novation, Accountability, and Partnershi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sented on behalf of Gloria O’Neill, President/Chief Executive Offic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ok Inlet Tribal Council, In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my Fredeen, Chief Financial Officer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Alaska’s Uniquenes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aska is comprised of twelve service regions, each of them with unique challeng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aska Native Tribal Organizations receive BIA funding to administer many programs, including social services and tribal oper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BIA programs are not available in Alaska (i.e. Public Safety, Education and Natural Resourc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ability to utilize gaming as a source of funding, has lead many tribal organization in Alaska to search for other sources of funding to help cover these co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rrently most organizations rely heavily on competitive grants with the federal and state governments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crease in competition for the grants, coupled with the tightening federal budgets have pushed tribal organizations in Alaska to start exploring economic development through social enterpri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CITC: Economic Development Initiativ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ng-Term Vis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 CITC is exploring innovative ways to leverage our BIA funds to create supplementar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long te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ustain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unding for program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onstrating Leadershi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 Developing these sustainable funding streams helps us demonstrate to Our People that we are responsible for Our Success, both as a community and as individuals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veraging Fund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 CITC plans to utilize up to 25% of the BIA funding allowable, under P.L. 102-477, for economic development to seed social enterprises.  These social enterprises will create funding streams that complement our current programs and training opportunities for Our People: Creating one more avenue for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and up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ther than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and 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Social Enterprise, a Model for Self Determination through Economic Development 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743200"/>
            <a:ext cx="6248160" cy="1600200"/>
          </a:xfrm>
          <a:prstGeom prst="rect">
            <a:avLst/>
          </a:prstGeom>
          <a:solidFill>
            <a:srgbClr val="cccc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4343400"/>
            <a:ext cx="8305920" cy="1905120"/>
          </a:xfrm>
          <a:prstGeom prst="rect">
            <a:avLst/>
          </a:prstGeom>
          <a:solidFill>
            <a:srgbClr val="cccc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1447920"/>
            <a:ext cx="4241880" cy="1295280"/>
          </a:xfrm>
          <a:prstGeom prst="rect">
            <a:avLst/>
          </a:prstGeom>
          <a:solidFill>
            <a:srgbClr val="cccc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1447920"/>
            <a:ext cx="0" cy="4800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0960" y="3124080"/>
            <a:ext cx="248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9900"/>
                </a:solidFill>
                <a:uFillTx/>
                <a:latin typeface="Tahoma"/>
              </a:rPr>
              <a:t>Type A 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inly earned inco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me grant subsi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295960"/>
            <a:ext cx="4114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41720" y="4419720"/>
            <a:ext cx="263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9900"/>
                </a:solidFill>
                <a:uFillTx/>
                <a:latin typeface="Tahoma"/>
              </a:rPr>
              <a:t>Embedde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inly grant supporte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me earned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25560" y="5465880"/>
            <a:ext cx="266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9900"/>
                </a:solidFill>
                <a:uFillTx/>
                <a:latin typeface="Tahoma"/>
              </a:rPr>
              <a:t>Cor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ly funded by gr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45200" y="1731960"/>
            <a:ext cx="195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9900"/>
                </a:solidFill>
                <a:uFillTx/>
                <a:latin typeface="Tahoma"/>
              </a:rPr>
              <a:t>Type B 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fit-maki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 grant subsi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" y="18288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33760" y="17524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50280" y="179712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b 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01640" y="2940120"/>
            <a:ext cx="197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ment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31560" y="4921200"/>
            <a:ext cx="32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ty Complement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1:09:12Z</dcterms:created>
  <dc:creator>afredeen</dc:creator>
  <dc:description/>
  <dc:language>en-US</dc:language>
  <cp:lastModifiedBy>Gabriel</cp:lastModifiedBy>
  <dcterms:modified xsi:type="dcterms:W3CDTF">2008-03-13T12:51:31Z</dcterms:modified>
  <cp:revision>15</cp:revision>
  <dc:subject/>
  <dc:title>Alaska Region Up Date Economic Development</dc:title>
</cp:coreProperties>
</file>