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E41-FC18-43FA-9961-56E8E93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659-5045-4358-9E95-010BF41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EF1-0F59-451F-A92A-714D778D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331-318C-4E51-B15F-898BFF7C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F61D-DCDE-4971-90D0-B79AD135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9C3-A46F-4E5B-ACD2-213EBB4A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B548-490E-4D99-B28D-1AA31CC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822-2DE6-4A46-903B-CE9EA83F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880A-3600-4D67-9357-8DC7D02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349-37C1-4FC9-A540-27F1B55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8DA0-51E2-4203-80C5-25BB2BE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1FD-D6FA-4986-BD20-3FF98E41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96B-9008-4A4D-9FBC-2FC9BA4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DE0D-31E3-4502-9282-0BFD6C7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0518-0ADD-4543-B937-E5B12ABE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64A-EB21-4702-90C4-08A188F5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3F0D-465E-42E0-9523-1E689B84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A7E-79D2-473D-8803-1F3C03B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B77-BFE2-42FF-BA33-4525B39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E1B-DCCF-48C2-8E87-8EB7E906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73D-A12A-4B68-849A-B170173E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961-B5F6-4C46-850C-6C1742F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F31-A79F-42AE-8741-9696E8B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F85-62EE-4162-A80E-8D3DEFF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E6F-1249-49D4-B5BF-22FBB94F6A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299-96B7-4744-BCDE-7F70C9B002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/2007 Budget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66880" y="3657600"/>
            <a:ext cx="4191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y Jane Mi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, Office of Budget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tional Budget Me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lington, 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b 22-23,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cky Mountain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2590920"/>
          <a:ext cx="859284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5928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ask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3132000"/>
          <a:ext cx="8448840" cy="22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2000"/>
                    <a:ext cx="844884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d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3048120"/>
          <a:ext cx="8382240" cy="259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382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astern Oklaho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819520"/>
          <a:ext cx="8305920" cy="281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83059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ster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2666880"/>
          <a:ext cx="828684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2868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ifi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2981160"/>
          <a:ext cx="861048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81160"/>
                    <a:ext cx="86104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th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2895480"/>
          <a:ext cx="823932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2393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aj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590920"/>
          <a:ext cx="82296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229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th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666880"/>
          <a:ext cx="815328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15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aster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3124080"/>
          <a:ext cx="845820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124080"/>
                    <a:ext cx="8458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Budget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Law 109-54, Aug 2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Board (Enacted):  .476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B (Enacted): 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back released:  4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bell Attorney Fees: $3M ($2M + 0.1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½% mgmt hold back:  ($10.4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ludes tribal base funding, congressional adds, and legally restricte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&amp; Central management reviews will be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Shortfalls  ($00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N – II &amp; FTS 20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SA &amp; Direct Rent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EP formula chang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igation Spt, Attorney Fees, Rolls Resear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mployment Compens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E Displacement (DZ school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12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al Justice Sup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4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 of Self-Determination  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,0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onal Awarding Officials 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8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aska Subsist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D-Trust Shortf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Regional (06 only; staffing, training, et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,8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21,80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Y 2006/2007 Sources for Shortfal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5% Mgmt holdb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,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bal Court IIM Init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5,0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,4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1,8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6,36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2280" y="2819520"/>
          <a:ext cx="8864640" cy="280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886464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0920" y="1981080"/>
            <a:ext cx="3047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Goal – 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2/15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Y 2006/2007 Execution Stat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peration of Indian Progra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$000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7913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15-mo funds released July 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Execution Stat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$000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20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TD 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56,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348,4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TD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8,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blig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  50,3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bligated of 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1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bligated of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4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ibal Priority Allocation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$000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       FY 2006/2007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s of 2/15/06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600200"/>
          <a:ext cx="79725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9725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at Pl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 of 2/15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690640"/>
          <a:ext cx="8562960" cy="28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90640"/>
                    <a:ext cx="85629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thern Plains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819520"/>
          <a:ext cx="849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49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20:02:40Z</dcterms:created>
  <dc:creator>Valued Gateway Client</dc:creator>
  <dc:description/>
  <dc:language>en-US</dc:language>
  <cp:lastModifiedBy>MMiller</cp:lastModifiedBy>
  <dcterms:modified xsi:type="dcterms:W3CDTF">2006-02-21T20:26:10Z</dcterms:modified>
  <cp:revision>58</cp:revision>
  <dc:subject/>
  <dc:title>FY 2005/2006 Execution Status</dc:title>
</cp:coreProperties>
</file>