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91E-0818-4B56-8DF3-EDB13D50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A5C-2119-4D86-AF5E-F897A2B1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940-ACB8-41A4-B5BC-7C0FBD9E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B9F-7651-4D52-84A6-F00200CB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B99F-AE04-489B-8FE7-814D3075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BC7-4763-42B0-954E-747AE7A5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90DB-1B18-4741-AC8E-22E785E6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285B-8DE8-448F-B4C9-73BFB59B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E918-6352-42A4-BE31-5DF1B18D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9AE7-E555-4300-A2CF-EB9FE5C9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FF12-5E87-4E99-ADB6-8E4FF959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D6E-B4D7-4E4D-BE12-05F78C4E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7119-2D7C-47E5-AFC8-874100A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5264-F1D9-4264-A622-3CE347BB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CC57-6F5C-4796-AEDB-286ED9DD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7502-2C8A-4CAB-B1FC-20B69F2A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53AC-F15A-4E73-B303-E56551EE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9CE-D895-46AB-861B-A1A6AC8A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6C0-4097-4E0C-8C54-EAEFBB2C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52C-32FC-4335-8459-2F50ED0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FAF-66AF-4512-9D96-35874830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54A-7B6B-438E-846E-B92E03AF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A88-BA8B-42E6-A8D2-7689E99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F27-9328-4143-A3DF-ACC6FC46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7016-5EBB-40E3-9FEE-A491D56955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802D-4DA2-46F4-A21C-98E62EE690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Y 2006/2007 Budget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666880" y="3657600"/>
            <a:ext cx="41911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y Jane Mi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or, Office of Budget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tional Budget Me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lington, 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b 22-23, 200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cky Mountain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2590920"/>
          <a:ext cx="859284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5928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ask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3132000"/>
          <a:ext cx="8448840" cy="22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32000"/>
                    <a:ext cx="8448840" cy="22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dwes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3048120"/>
          <a:ext cx="8382240" cy="259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83822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astern Oklaho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2819520"/>
          <a:ext cx="8305920" cy="281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19520"/>
                    <a:ext cx="83059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ster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2666880"/>
          <a:ext cx="8286840" cy="33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28684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cifi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2981160"/>
          <a:ext cx="861048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81160"/>
                    <a:ext cx="861048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thwes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2895480"/>
          <a:ext cx="8239320" cy="31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2393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vaj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2590920"/>
          <a:ext cx="822960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8229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thwes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2666880"/>
          <a:ext cx="815328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15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aster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920" y="3124080"/>
          <a:ext cx="845820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124080"/>
                    <a:ext cx="8458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Y 2006 Budget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Law 109-54, Aug 2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the Board (Enacted):  .476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B (Enacted): 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back released:  4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bell Attorney Fees: $3M ($2M + 0.1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½% mgmt hold back:  ($10.4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ludes tribal base funding, congressional adds, and legally restricte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onal &amp; Central management reviews will be cond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Y 2006 Shortfalls  ($000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N – II &amp; FTS 20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SA &amp; Direct Rent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EP formula chang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igation Spt, Attorney Fees, Rolls Resear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mployment Compens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E Displacement (DZ school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12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al Justice Supp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 07 budg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4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 of Self-Determination  (in 07 budg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,0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onal Awarding Officials (in 07 budg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8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aska Subsist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2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D-Trust Shortf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Regional (06 only; staffing, training, etc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2,85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21,80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Y 2006/2007 Sources for Shortfall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5% Mgmt holdb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,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bal Court IIM Initi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5,0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,4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21,80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6,36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2280" y="2819520"/>
          <a:ext cx="8864640" cy="280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19520"/>
                    <a:ext cx="886464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1371600" cy="1060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0920" y="1981080"/>
            <a:ext cx="3047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ruary Goal – 4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2/15/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Y 2006/2007 Execution Stat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peration of Indian Progra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$000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7913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15-mo funds released July 1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Y 2006 Execution Statu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$000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20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28600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TD 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56,5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ub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348,4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TD Sub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8,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blig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  50,3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bligated of 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1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bligated of Suballo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4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ibal Priority Allocation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$000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        FY 2006/2007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s of 2/15/06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600200"/>
          <a:ext cx="797256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97256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at Plai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 of 2/15/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690640"/>
          <a:ext cx="8562960" cy="28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90640"/>
                    <a:ext cx="8562960" cy="28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thern Plains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of 2/15/0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2819520"/>
          <a:ext cx="849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49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20:02:40Z</dcterms:created>
  <dc:creator>Valued Gateway Client</dc:creator>
  <dc:description/>
  <dc:language>en-US</dc:language>
  <cp:lastModifiedBy>MMiller</cp:lastModifiedBy>
  <dcterms:modified xsi:type="dcterms:W3CDTF">2006-02-21T20:26:10Z</dcterms:modified>
  <cp:revision>58</cp:revision>
  <dc:subject/>
  <dc:title>FY 2005/2006 Execution Status</dc:title>
</cp:coreProperties>
</file>