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490F-BD2F-495C-AEE1-90A3B9AF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4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B0B5-4DF3-4056-B6FA-7A5BB52C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116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1204-7A94-4614-8F06-1968D6ED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800" y="236196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1520" y="236196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800" y="430740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1520" y="430740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429A-5B92-4E32-86FE-2ACC150E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38C3-DAB9-4216-A0EB-CE4BE477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E59F-55C4-465F-BDFB-5FD097F0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AB2F-FEC0-4748-90BE-EA2B27ED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A833-2E01-4CDD-9CE2-51BADF26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D69E-1786-4191-8FC2-0EC7BEF0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0D59-A74A-4F2F-9E70-6317A9AC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9FE3-A379-46BC-B4AC-9850C125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CB33-F3D6-4986-93AD-02944DD5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116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297D-D3AD-48E4-B356-52C55A1F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4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532E-CB64-4AC8-9549-789439E3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4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8ED6-5980-4EA1-9BEA-117E0953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116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6E07-5718-4F68-A249-882B9F72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800" y="236196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1520" y="236196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800" y="430740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1520" y="430740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37E1-7FC4-46B2-9EEA-C8B7B674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08374-E805-44E7-AB2F-547314D43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9C0E3-716E-4050-A4F9-5CE240E2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8E5F0-37CC-4174-9EEB-DBC78D9C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39F97-EDC6-4C14-AC77-7428B237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9A459-F232-40D6-853D-51E9E21F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ADCE-80D5-4BB4-97F6-DB5A6EB2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240BA-F2C8-4D6E-95A9-D1B53C24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2B405-CA9D-4340-A5B8-3969CD71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116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BDD40-2CE8-4403-AD61-305827CA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4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8CE94-5D46-4AFA-8F19-9D5953E2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4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CB8DE-4DC7-49B4-8EE6-086F4741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116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D69BE-8EAA-4031-90D5-B52051A2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800" y="236196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1520" y="236196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800" y="430740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1520" y="4307400"/>
            <a:ext cx="247752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50322-48DB-4A59-B58E-7AAD6783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4BA6-38D0-499F-B471-57337088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7F57-A3D4-4FB1-9B9E-1FC7DD54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6514-5F78-40EF-BC21-BF96B5C8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8210-5BFE-4DB4-84EC-7C5A3820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1160" y="430740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DA1E-5EF3-429F-86C6-4E677320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1160" y="2361960"/>
            <a:ext cx="3754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464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C8F9-FA85-4ADA-9C87-9F51EDB5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79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E2C5-8A17-403D-AD4C-B63039BB12D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79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48520"/>
            <a:ext cx="588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CE89-12AE-41F7-9FD3-53CFF64DC0F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13C3-A8A1-4DB8-9261-ED350D54E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Y 2007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an Affair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President’s Budge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ry Jane Mill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rector, Office of Budget  Mgm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ational Budget Meet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rlington, 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b 22-23, 2006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4680" y="0"/>
          <a:ext cx="7920" cy="739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0"/>
                    <a:ext cx="7920" cy="73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Y2007 President’s Budg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Greenbook to print:  est Feb 28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mp Tables available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ribal Targets of Opportunity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Y2007 President’s Budget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437920"/>
            <a:ext cx="769464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A/Tribal Budget:  $2,143,72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% below FY06 President’s Budg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llowed OMB/DOI guideli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ulted budg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Y 2007 President’s Budget: $2,221,85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64% increase over BIA/Tribal Reque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Y2007 President’s Budg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jor Changes from BIA/Tribal Budget Subm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+19M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tract Suppor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+27M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using Improvement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+11M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bate Backlo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+6.5M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adastral Survey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+2.0M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nergy Poli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+8.5M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7.5M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ohnson O’Malle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+13M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ribal Colleges and Universit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+10M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w Enforce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+2.2M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-14M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ducation Constru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Y2007 President’s Budg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Y 2006 Enacted Budget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$2,274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Y 2007 President’s Budget: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$2,222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verall change:  -2.29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IP:  flat (.25% increas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truction:  -21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832760" y="53352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Y 2007  Indian Affairs Budget Reque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362320" y="4419720"/>
          <a:ext cx="6578640" cy="133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419720"/>
                    <a:ext cx="657864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0" y="1143000"/>
          <a:ext cx="6286680" cy="2971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43000"/>
                    <a:ext cx="62866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990720" y="59436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gram Changes:  OIP -$19.3M; Construction -$57.4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 of Indian Program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352680" y="3581280"/>
          <a:ext cx="5562720" cy="214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3581280"/>
                    <a:ext cx="556272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90520" y="622440"/>
          <a:ext cx="7359480" cy="3975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0520" y="622440"/>
                    <a:ext cx="7359480" cy="39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762120" y="5943600"/>
            <a:ext cx="792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gram Changes:  Tribal Gov’t +$21.9M; Hum Svcs -$11.7M; Nat Rsc -$11.8M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rust/RE +$9.1M; Education -$17.8; PS&amp;J -0.5M; Econ Dev -$13.2; Admin +$4.7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43080" y="914400"/>
          <a:ext cx="7975440" cy="3225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3080" y="914400"/>
                    <a:ext cx="7975440" cy="32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6781680" y="1522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Y 2007 Pres Budge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809880" y="4343400"/>
          <a:ext cx="4635720" cy="168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4343400"/>
                    <a:ext cx="463572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12720" y="1079640"/>
          <a:ext cx="7574040" cy="3657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2720" y="1079640"/>
                    <a:ext cx="75740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581280" y="3733920"/>
          <a:ext cx="5372280" cy="152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733920"/>
                    <a:ext cx="53722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304920" y="5334120"/>
            <a:ext cx="6400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gram Changes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placement School Construction:   -$28.7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placement Facilities Construction: -$21.3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dian Irrigation Rehab add-on:            -$7.4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80880" y="1219320"/>
          <a:ext cx="7797960" cy="3770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219320"/>
                    <a:ext cx="779796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FY 2007 IA President’s Budget</a:t>
            </a:r>
            <a:br>
              <a:rPr sz="2400"/>
            </a:b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L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Wa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tlements/Miscellaneous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1371600"/>
          <a:ext cx="8242200" cy="42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71600"/>
                    <a:ext cx="824220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2T12:29:52Z</dcterms:created>
  <dc:creator>MMiller</dc:creator>
  <dc:description/>
  <dc:language>en-US</dc:language>
  <cp:lastModifiedBy>MMiller</cp:lastModifiedBy>
  <dcterms:modified xsi:type="dcterms:W3CDTF">2006-02-21T21:42:46Z</dcterms:modified>
  <cp:revision>20</cp:revision>
  <dc:subject/>
  <dc:title>FY 2007 Budget Update</dc:title>
</cp:coreProperties>
</file>