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ADC-AFA1-4B8A-9AB8-04DFA013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BBD-AEB9-4CCF-B7D7-F6D067EC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19A-34DE-4ADA-84D5-FFB19CEA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80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152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80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152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773-8FEB-4BA9-B9CC-52EAA6A2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ADCB-07F8-4156-BAE1-926C209C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7F37-EAAE-48F7-A6EE-0A38AFEE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4781-6EFA-45B1-A221-953CCE76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7685-600D-48AA-B8C1-C5D8FC59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6637-329D-441A-9E24-8EC7185B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6573-530D-4875-B914-F0223A41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1CBC-2ED0-48C9-8F1D-6F0BD54E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9DA-43C2-42E1-9946-1A2C0244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E0EC-619D-4D7F-9022-A427798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1266-4E71-4CC5-9BA1-EB11D7D9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D5BD-89F9-463D-B5B7-8BDA4398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EED4-8FDD-4F7E-A017-D469C222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80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152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80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152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A96F-B6EB-4063-AC45-7914EBB9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F630-9C9C-48BA-9259-32A31D55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28C9-0F82-4070-B079-03791719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7B6A-B38F-41B6-9EA3-2FB46D51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018F5-0806-4294-84A4-07BE655E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5CAD-5F99-42AD-8271-6BCD1826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50F-4D99-4803-82C5-AEFD366A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51DD-8C91-4AA9-9726-9274A011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7725-C812-4765-B05A-2DDF9998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476AD-C16E-4B7E-A7B3-CA2D0973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DCF7-9336-410C-AF51-CAD2E3DB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AC13-323C-4552-9E4A-6225CE36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5EF2-5C85-4702-8217-A5609FAE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80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152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80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152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70E1-CFCD-4578-8025-230424F5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732-B76C-4881-BDB1-DC226DEC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D58-102E-49C9-9E14-BEA7571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116-9622-4FBE-8333-7567F465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C8F-1064-454B-8458-C2F338A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776-6CAE-41D7-BCD2-AD861A99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01B-64E8-4EE2-80EE-A3774E36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7F17-2B14-4648-885D-6D15DB1962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48520"/>
            <a:ext cx="588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583A-BE68-4D4D-B93F-B413C4E2E4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FF7F-F2FE-46FE-99C4-BD1E6134F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Y 2007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an Affair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esident’s Budge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y Jane Mi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rector, Office of Budget  Mgm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tional Budget Mee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lington, 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b 22-23, 200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4680" y="0"/>
          <a:ext cx="7920" cy="739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0"/>
                    <a:ext cx="7920" cy="73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Y2007 President’s Budg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reenbook to print:  est Feb 28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p Tables availabl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ibal Targets of Opportunit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Y2007 President’s Budget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69464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A/Tribal Budget:  $2,143,7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% below FY06 President’s Budg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llowed OMB/DOI guidel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ulted budg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Y 2007 President’s Budget: $2,221,8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64% increase over BIA/Tribal Requ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Y2007 President’s Budg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Changes from BIA/Tribal Budget Subm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19M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act Suppo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27M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using Improvement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11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ate Backlo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6.5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dastral Surve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2.0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ergy Poli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8.5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7.5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ohnson O’Mall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13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ibal Colleges and Univers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10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w Enforc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2.2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14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ucation Constru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Y2007 President’s Budg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Y 2006 Enacted Budget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$2,274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Y 2007 President’s Budget: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$2,222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all change:  -2.29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IP:  flat (.25% increa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ruction:  -21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32760" y="5335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Y 2007  Indian Affairs Budget Requ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362320" y="4419720"/>
          <a:ext cx="6578640" cy="133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65786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0" y="1143000"/>
          <a:ext cx="6286680" cy="2971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43000"/>
                    <a:ext cx="6286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990720" y="5943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 Changes:  OIP -$19.3M; Construction -$57.4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 of Indian Program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352680" y="3581280"/>
          <a:ext cx="5562720" cy="214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581280"/>
                    <a:ext cx="55627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90520" y="622440"/>
          <a:ext cx="7359480" cy="3975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520" y="622440"/>
                    <a:ext cx="735948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62120" y="594360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gram Changes:  Tribal Gov’t +$21.9M; Hum Svcs -$11.7M; Nat Rsc -$11.8M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ust/RE +$9.1M; Education -$17.8; PS&amp;J -0.5M; Econ Dev -$13.2; Admin +$4.7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43080" y="914400"/>
          <a:ext cx="7975440" cy="3225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080" y="914400"/>
                    <a:ext cx="797544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781680" y="1522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Y 2007 Pres Budge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9880" y="4343400"/>
          <a:ext cx="4635720" cy="168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4343400"/>
                    <a:ext cx="463572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12720" y="1079640"/>
          <a:ext cx="757404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720" y="1079640"/>
                    <a:ext cx="75740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581280" y="3733920"/>
          <a:ext cx="5372280" cy="152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733920"/>
                    <a:ext cx="5372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04920" y="5334120"/>
            <a:ext cx="64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gram Changes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lacement School Construction:   -$28.7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lacement Facilities Construction: -$21.3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dian Irrigation Rehab add-on:            -$7.4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1219320"/>
          <a:ext cx="7797960" cy="3770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19320"/>
                    <a:ext cx="779796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FY 2007 IA President’s Budget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tlements/Miscellaneous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371600"/>
          <a:ext cx="8242200" cy="42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2422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12:29:52Z</dcterms:created>
  <dc:creator>MMiller</dc:creator>
  <dc:description/>
  <dc:language>en-US</dc:language>
  <cp:lastModifiedBy>MMiller</cp:lastModifiedBy>
  <dcterms:modified xsi:type="dcterms:W3CDTF">2006-02-21T21:42:46Z</dcterms:modified>
  <cp:revision>20</cp:revision>
  <dc:subject/>
  <dc:title>FY 2007 Budget Update</dc:title>
</cp:coreProperties>
</file>