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AE1-C387-48DD-B209-A85998B0C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021D-112C-4950-B7FC-EEA8D7F3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C0A-F9CA-4F41-8ADD-87040D26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9F3-2B8F-44FE-8481-7AA20983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EB2E3-6551-4363-AABB-AA6E20D7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63D42-7B0F-46D0-AAA5-387D9174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CD1BD-2257-4AE2-8FBB-0E96F497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FEEA8-83E4-49B2-A35B-57FBFCF7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44116-7A31-4AB1-9BF0-02B27442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19509-3FE1-41B8-9D01-A3C5210C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20BB7-D01C-460E-9D9C-7CA8B32A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8457-F4A0-4295-AD45-CF95285B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5E178-4183-4B60-8FCE-862203A4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3164A-772F-40DC-AE1A-C96408C3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DCBFB-B78B-41A3-902D-403BAC94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FB3FE-D7C3-4CD6-8F62-8CB394F7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1F993-20D4-4DF1-A1E4-37592868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EB9E-5D65-4666-A822-CCEAF995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4EDD-4F6B-46C8-ADE3-85E7B6A6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F23-77A4-470B-A9AD-5E322D90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7C2-9ED7-4636-9D85-9FF4E4D6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BE6E-E48E-4FD4-A694-850787BD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574-7304-4DCE-9907-8A3E7D89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11E4-93A4-4C88-BBF6-2A1F4259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654D-53D7-4379-AB6B-6EF3EE0B71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47CD-5793-4B95-80D5-374F7C1E09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Funding Challenges for 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BIA - OLE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A National Budget Mee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lington, Virgi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FY 2006 Discretionary Fund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dollars in thousands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Crime Area” funding = 2,463.  For areas with high crime rates to reduce violent crime and illegal drug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Priority” funding = 3,941.  For high priority law enforcement needs including assisting community policing and drug enforcement.  All funds must go to field level oper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resident’s Budget Request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for FY 2007 (dollars in thousands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 Academy = 2,378 (+ 3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/Investigations = 39,765 (+1,78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ions = 58,663 (+3,0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ections/Internal Affairs = 1,180 (sa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38/Self-Governance/HQ = 98,154 (+1,84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= 200,140 (+6,76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resident’s Budget Request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for FY 2007 (dollars in thousands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1,786 increase for police and criminal investigations – to hire and equip additional officers to fight drugs and violent cr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2,714 increase for corrections to include staffing for three new facilities: Lower Brule Sioux , Tohono O’odham, &amp; Yankton Siou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thamphetam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tribal leaders across the US are saying this is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umber 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ublic safety problem on their reserva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amphetamine fueling homicides, rapes, child abuse, aggravated assaults, and other felonious criminal activ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thamphetam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additional police officers and criminal investigators to enforce Title 21 federal felony drug laws and to fight violent crime within Indian coun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bile methamphetamine lab – on site tra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awareness campaign – warning public of dangers and warning criminals of prosec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mprove Detention Fac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air and maintain (or close) unsafe fac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 staffing levels and train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traditional justice and alternatives to incarce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ossible Funding Priorities for 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FY 2008 (dollars in thousands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/Investigations Staffing = 7,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bile Meth Lab Training = 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th Awareness = 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ions Staffing = 4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ions Facilities Repair = 7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itional Justice = 8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= 2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GOAL: REDUCING CRIME IN INDIAN COUNTRY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ris Chaney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eputy Bureau Director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ureau of Indian Affair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ice of Law Enforcement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 Department of the Int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49 “C” Street, N.W., MS-24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shington, DC 202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02) 208-287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x: (202) 208-61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Is there a problem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merican Indians and Crime Report (2004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ate of violent crime against American Indians is TWICE the national average (101 per 1,000 as compared to 41 per 1,000 annually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out of 10 American Indians (12 and older) become victims of violent crime annu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merican Indians and Crime Report (2004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onally, 1 in 4  cases of violent crime investigated by the United States Attorneys are from Indian count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% of federal investigations of Indian country suspects are for violent cr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Violent Victimization and Race Report (2001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46% of violent crimes against American Indians are reported to pol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dian Law Enforcement Reform Act of 1990 – BIA Responsibilities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forcement of Federal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forcement of Tribal law (when tribe cons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ction of life and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bil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me 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either Safe nor Secure” - DOI Inspector General Report -2004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essment of Indian country detention facil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A facilities operating below minimum staffing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ntenance backlog by BIA OFM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2005 Repor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ive American Reservation Lands Drug Threat Assessment (DOJ National Drug Intelligence Center – 200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sus of Tribal Justice Agencies in Indian Country (DOJ Bureau of Justice Statistics – 200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nacted FY 2006 Resources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(dollars in thousands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 Academy = 2,3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/Investigations = 37,97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tions = 55,56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pections/Internal Affairs = 1,1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38/Self-Governance/HQ = 96,308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= 193,37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13:28:19Z</dcterms:created>
  <dc:creator>US Department of the Interior</dc:creator>
  <dc:description/>
  <dc:language>en-US</dc:language>
  <cp:lastModifiedBy>amber_ebarb</cp:lastModifiedBy>
  <dcterms:modified xsi:type="dcterms:W3CDTF">2006-02-26T00:08:42Z</dcterms:modified>
  <cp:revision>27</cp:revision>
  <dc:subject/>
  <dc:title>PUBLIC JUSTICE</dc:title>
</cp:coreProperties>
</file>