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44A-20EA-4EA3-A8B0-3E2A90B8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99C-733F-4F9E-899F-542387A7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14A-57C6-4DBE-B5AC-DA3A11C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7BD-C956-4BFE-9604-EBFC4B9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F11E-EAAA-4A34-AC3F-423E00F2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834C2-37CE-48DF-B33E-DA914D05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1A88-74BD-44C2-82D2-57AF0440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5970-1F38-42B7-8387-EC08E68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57670-89A8-4C9A-8763-58628E89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5274D-84F8-49DC-9A2B-0FCE13A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E622-ED49-4C24-8024-1D5A218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089-0B64-4ADE-A281-7A322BB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5BD7E-EDEB-4579-84CF-0420CD7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333B3-6667-4547-A5E4-89758AE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2EEF-76CE-4A3E-A826-99FCFCA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21F2A-C79A-46F2-BA5F-C6D64136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DA70B-AEC7-4BC7-A4AD-498961D4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31A-77A9-44AA-8872-4312E3D7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968-6EB2-4E63-8307-C6EC2A3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792-02F4-489B-915C-DDC1B9D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A04-307F-45F3-B2BC-9072780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D31-7B66-4E71-AF03-39B6E5F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3E7-DB1D-4F50-861F-4C05CBE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1FE-2632-40A5-A61B-63C8F7DF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28ED-022B-4329-A24B-84ADE5E88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751-12F3-4583-A27E-73747B82B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unding Challenges for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IA - OL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 National Budget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lington,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Y 2006 Discretionary Fund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rime Area” funding = 2,463.  For areas with high crime rates to reduce violent crime and illegal dru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riority” funding = 3,941.  For high priority law enforcement needs including assisting community policing and drug enforcement.  All funds must go to field level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ident’s Budget Request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 FY 2007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cademy = 2,378 (+ 3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= 39,765 (+1,78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= 58,663 (+3,0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tions/Internal Affairs = 1,180 (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8/Self-Governance/HQ = 98,154 (+1,8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200,140 (+6,76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ident’s Budget Request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 FY 2007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,786 increase for police and criminal investigations – to hire and equip additional officers to fight drugs and violent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2,714 increase for corrections to include staffing for three new facilities: Lower Brule Sioux , Tohono O’odham, &amp; Yankton Sio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mphetam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tribal leaders across the US are saying this i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umber 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blic safety problem on their reserv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amphetamine fueling homicides, rapes, child abuse, aggravated assaults, and other felonious criminal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mphetam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ditional police officers and criminal investigators to enforce Title 21 federal felony drug laws and to fight violent crime within Indian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methamphetamine lab – on site t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wareness campaign – warning public of dangers and warning criminals of pros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mprove Detention Fac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air and maintain (or close) unsafe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taffing levels and t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raditional justice and alternatives to incarc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ssible Funding Priorities for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Y 2008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Staffing = 7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Meth Lab Training = 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 Awareness =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Staffing = 4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Facilities Repair = 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Justice = 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2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AL: REDUCING CRIME IN INDIAN COUNT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is Chaney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puty Bureau Director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reau of Indian Affai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of Law Enforcement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Department of the I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9 “C” Street, N.W., MS-24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, DC 20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2) 208-28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x: (202) 208-61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s there a problem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merican Indians and Crime Report (2004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of violent crime against American Indians is TWICE the national average (101 per 1,000 as compared to 41 per 1,000 annual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American Indians (12 and older) become victims of violent crime ann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merican Indians and Crime Report (2004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ly, 1 in 4  cases of violent crime investigated by the United States Attorneys are from Indian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% of federal investigations of Indian country suspects are for violent cr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iolent Victimization and Race Report (2001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46% of violent crimes against American Indians are reported to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dian Law Enforcement Reform Act of 1990 – BIA Responsibilitie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ement of Federal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ement of Tribal law (when tribe cons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life and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either Safe nor Secure” - DOI Inspector General Report -200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Indian country detention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 facilities operating below minimum staffing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backlog by BIA OFM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005 Repor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 Reservation Lands Drug Threat Assessment (DOJ National Drug Intelligence Center – 200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sus of Tribal Justice Agencies in Indian Country (DOJ Bureau of Justice Statistics – 200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nacted FY 2006 Resource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cademy = 2,3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= 37,9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= 55,5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tions/Internal Affairs = 1,1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8/Self-Governance/HQ = 96,3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193,3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3:28:19Z</dcterms:created>
  <dc:creator>US Department of the Interior</dc:creator>
  <dc:description/>
  <dc:language>en-US</dc:language>
  <cp:lastModifiedBy>amber_ebarb</cp:lastModifiedBy>
  <dcterms:modified xsi:type="dcterms:W3CDTF">2006-02-26T00:08:42Z</dcterms:modified>
  <cp:revision>27</cp:revision>
  <dc:subject/>
  <dc:title>PUBLIC JUSTICE</dc:title>
</cp:coreProperties>
</file>